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9218-E88E-4296-A97B-77662F5E0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C0F6-9AC8-4189-AA3E-0D23CAFFC3DE}"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6432-39A4-480F-B000-79A66C8876D8}"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882F-55AB-4040-BBA8-E8405158AE5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65D0-1EC5-47F0-A3CC-51FB02A1C60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a discussion started with your students. Keep asking questions to push them further and to check for understanding. You may want to record their answers on the board, computer, posterboard,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s – what to eat, physical activities, personal responsibility,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 - eat a healthy diet, exercise, medicine, high fiber foods, educate other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Treat – teach about it in schools, “vote with our dollars”, write letters to government/corporation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 more people buying healthier foods leads to stores carrying healthy foods and maybe new stores with healthy foods, healthier families make for happier families, more people exercising outside, etc.</a:t>
            </a: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1AFB-A4A2-4A36-985A-18B309D1651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CB71-71F1-4458-B367-344A9697E59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905C-4DF8-4AE7-93FB-037FED34FE1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96FA-6D03-42FE-9DAE-C6089FED3C0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54C3-4991-4A47-B6C2-208344B70B2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61E78-CA2F-4AE9-A82A-D2C935A73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8092-0804-4B74-8649-BD07B8C5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C5D0A-2E59-4781-9130-3F91AE34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F8B0E-4D91-4EB3-9248-E6446D74A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CDCD6-5CF2-4521-91A6-B8035E767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81C1A-59E1-4192-B81E-D9CB3CB6D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5C97-30CC-457C-9AEA-459C4CF7F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03538-8E6A-4308-B4FB-4757D59DA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D457E-9934-47A2-8697-8461EB3ED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ECB14-66B0-422B-83B1-784346AA4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869DC-783B-4A9A-8761-337B5593F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8D71-0BEE-48BD-80B4-2549287D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7DF7A-A8AA-4636-A5FD-51C6606F1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92CB5-17D0-4FEF-9002-55CF07E2B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97694-B338-4540-B328-0A6BDB708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81ED0-9B1A-48FB-8B81-8DCAC24B24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CB29B-AE52-46DA-ADCA-FAA63A4BF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B3A49-8616-4DD9-8391-DCF3176FB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F81760-5540-4814-8AD4-3C0387D30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B4427-B46E-4613-9570-235C69D5B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CA405-28AC-406E-BEBC-A0F7AD573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2915A-9196-4BEF-AC64-E70C4EF9F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789FA-6C56-4BF5-A95B-F8CD0471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88F6A-7F97-4D73-BB92-BE80AA6C4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277F6-47CE-4D83-B746-7F1835ADB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5E799-8D03-4C62-807D-69894BB98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ECC84-2616-4DAB-88EE-CBCD8BD9A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3289B-8216-47E6-A8F5-AB85BC711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055FF1-B69F-4D88-A4A3-AEDE129A5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F50366-2B71-4D8C-BEA7-362CC25B7D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4F29D8-C03F-4930-A3D2-1EFEF9D92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C15B2-2431-435C-8917-4A4C866D1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9162E-7862-467D-80BB-96D7A61C3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0A15A-50E8-440C-A478-B32CCF7C9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4BE42-DD2B-45F5-8DE0-ABC90D844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374A8-D9B3-43F9-B2C5-56FCF6987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EEE0A-51AF-4C38-9BA9-D4448424F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A6B99-DD64-4FBD-A28E-EEA245C4E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FEDB9-F81F-4958-B82F-6330F0D4A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1C0DF-FC46-49B4-BFFC-2445412DF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21AFA-45D0-48AF-887C-58A8B5D04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8C3D9-9930-4422-B212-1EE72B4A19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758CD-2EAD-47BF-B5DA-752BF8CF74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9CC073-EC89-46F5-9134-324B46B92B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7DA50-33DD-43B3-A7D6-4AED1FDC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981CD-B599-431E-B264-E1DAF36A2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929B1-197D-4215-9087-856ECC1D7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6AABA1-4152-41FB-94D6-31D38C3FA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EAED4-A23C-40C8-861A-1863479C1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3BA9E-7E26-4BC8-9000-E4C3F7FDF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D459E-8B2F-4A9C-AA29-8FBA2158B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25E62-BC5D-4BED-B0B0-FFA8B2410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396BE-F770-49F2-B04D-FE927DDD8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37ECD-AEBE-47AE-86B3-8F54430A07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3917A-2FFA-4B53-93A5-247F021191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8B59-E037-4F03-A8E2-3A31E399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2CC37C-8F61-4A2E-8FAA-358407ACEF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3F4F4A-A410-4689-A77B-110304313D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932F7-04DA-4D79-8A0E-602E02971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BA2A4-B7D2-4CAD-A18C-0772F49255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3467C-2F10-448F-BA35-C2667E4E1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C6E6E3-4FE4-451E-A196-D1261D19C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14781D-80CD-4330-A982-40387CC73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3BD04-0C6D-4A33-9C71-B324A02DC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67E94-D65D-4494-887A-B0EEF7773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425AE-1228-4A75-B048-B2A118A9F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C9901-5FC1-4CCD-B797-06AEE689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2FB58-0910-4A96-8D2C-032A44EFC5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AC4AEB-3386-45D5-B86A-2F1AED10D2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731B55-383B-4BC4-9287-C4902E15FB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556B-E7D7-4C4B-8A59-51BEDCFD8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6567-F1E0-4FC4-AA74-65A215BCF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F6A8-C6C2-4653-8141-57F4023674C3}"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ff7100"/>
              </a:gs>
              <a:gs pos="100000">
                <a:srgbClr val="e45600"/>
              </a:gs>
            </a:gsLst>
            <a:lin ang="5400000"/>
          </a:gradFill>
          <a:ln w="9360">
            <a:solidFill>
              <a:srgbClr val="ff7f00"/>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8801-D30E-4547-A86E-9513902D028C}"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3E0-EB9F-41AD-9512-306B4A7A5561}"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79E5-D1B8-44E5-9901-1FA2E43F7C7C}"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2DBA-4BC3-4D57-A5FD-A77265FC9F3F}"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7487-0598-43F3-9960-14DC26A5DD46}"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1.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1828800"/>
            <a:ext cx="84582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ffffff"/>
                </a:solidFill>
                <a:latin typeface="Arial"/>
              </a:rPr>
              <a:t>Heart Disease - Atherosclerosis</a:t>
            </a:r>
            <a:endParaRPr b="1" lang="en-US" sz="4100" spc="-1" strike="noStrike">
              <a:solidFill>
                <a:srgbClr val="ff7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5"/>
          <p:cNvGrpSpPr/>
          <p:nvPr/>
        </p:nvGrpSpPr>
        <p:grpSpPr>
          <a:xfrm>
            <a:off x="3732120" y="2568240"/>
            <a:ext cx="1817280" cy="1078920"/>
            <a:chOff x="3732120" y="2568240"/>
            <a:chExt cx="1817280" cy="1078920"/>
          </a:xfrm>
        </p:grpSpPr>
        <p:sp>
          <p:nvSpPr>
            <p:cNvPr id="522" name="Straight Connector 20"/>
            <p:cNvSpPr/>
            <p:nvPr/>
          </p:nvSpPr>
          <p:spPr>
            <a:xfrm flipV="1">
              <a:off x="3732120" y="3216240"/>
              <a:ext cx="1136880" cy="38556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3" name="Lightning Bolt 14348"/>
            <p:cNvSpPr/>
            <p:nvPr/>
          </p:nvSpPr>
          <p:spPr>
            <a:xfrm rot="18336000">
              <a:off x="4613760" y="2749320"/>
              <a:ext cx="814320" cy="7164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24" name="Straight Connector 81"/>
          <p:cNvSpPr/>
          <p:nvPr/>
        </p:nvSpPr>
        <p:spPr>
          <a:xfrm>
            <a:off x="6781680" y="3429000"/>
            <a:ext cx="1536840" cy="59220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5"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526"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trapped inside the wall of the artery causing the artery wall to swell at the damage site. This is the beginning of atherosclerosis, known as </a:t>
            </a:r>
            <a:r>
              <a:rPr b="0" lang="en-US" sz="2600" spc="-1" strike="noStrike" u="sng">
                <a:solidFill>
                  <a:srgbClr val="00afff"/>
                </a:solidFill>
                <a:uFillTx/>
                <a:latin typeface="Arial"/>
              </a:rPr>
              <a:t>atherogenesis</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527"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8" name="Straight Connector 18"/>
          <p:cNvSpPr/>
          <p:nvPr/>
        </p:nvSpPr>
        <p:spPr>
          <a:xfrm>
            <a:off x="7010280" y="3505320"/>
            <a:ext cx="1371600" cy="5014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29" name="Straight Connector 21"/>
          <p:cNvSpPr/>
          <p:nvPr/>
        </p:nvSpPr>
        <p:spPr>
          <a:xfrm flipV="1">
            <a:off x="2209680" y="3657600"/>
            <a:ext cx="1371600" cy="34920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530" name="Straight Connector 7"/>
          <p:cNvSpPr/>
          <p:nvPr/>
        </p:nvSpPr>
        <p:spPr>
          <a:xfrm flipV="1">
            <a:off x="1752480" y="3581280"/>
            <a:ext cx="2057400" cy="53352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531" name="Oval 8"/>
          <p:cNvGrpSpPr/>
          <p:nvPr/>
        </p:nvGrpSpPr>
        <p:grpSpPr>
          <a:xfrm>
            <a:off x="7486560" y="3651120"/>
            <a:ext cx="444600" cy="195480"/>
            <a:chOff x="7486560" y="3651120"/>
            <a:chExt cx="444600" cy="195480"/>
          </a:xfrm>
        </p:grpSpPr>
        <p:pic>
          <p:nvPicPr>
            <p:cNvPr id="532" name="Oval 8" descr=""/>
            <p:cNvPicPr/>
            <p:nvPr/>
          </p:nvPicPr>
          <p:blipFill>
            <a:blip r:embed="rId1"/>
            <a:stretch/>
          </p:blipFill>
          <p:spPr>
            <a:xfrm>
              <a:off x="7486560" y="3651120"/>
              <a:ext cx="444600" cy="195480"/>
            </a:xfrm>
            <a:prstGeom prst="rect">
              <a:avLst/>
            </a:prstGeom>
            <a:ln w="0">
              <a:noFill/>
            </a:ln>
          </p:spPr>
        </p:pic>
        <p:sp>
          <p:nvSpPr>
            <p:cNvPr id="533" name=""/>
            <p:cNvSpPr/>
            <p:nvPr/>
          </p:nvSpPr>
          <p:spPr>
            <a:xfrm rot="967200">
              <a:off x="7546680" y="369576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4" name="Oval 25"/>
          <p:cNvGrpSpPr/>
          <p:nvPr/>
        </p:nvGrpSpPr>
        <p:grpSpPr>
          <a:xfrm>
            <a:off x="4133880" y="3309840"/>
            <a:ext cx="444600" cy="195480"/>
            <a:chOff x="4133880" y="3309840"/>
            <a:chExt cx="444600" cy="195480"/>
          </a:xfrm>
        </p:grpSpPr>
        <p:pic>
          <p:nvPicPr>
            <p:cNvPr id="535" name="Oval 25" descr=""/>
            <p:cNvPicPr/>
            <p:nvPr/>
          </p:nvPicPr>
          <p:blipFill>
            <a:blip r:embed="rId2"/>
            <a:stretch/>
          </p:blipFill>
          <p:spPr>
            <a:xfrm>
              <a:off x="4133880" y="3309840"/>
              <a:ext cx="444600" cy="195480"/>
            </a:xfrm>
            <a:prstGeom prst="rect">
              <a:avLst/>
            </a:prstGeom>
            <a:ln w="0">
              <a:noFill/>
            </a:ln>
          </p:spPr>
        </p:pic>
        <p:sp>
          <p:nvSpPr>
            <p:cNvPr id="536" name=""/>
            <p:cNvSpPr/>
            <p:nvPr/>
          </p:nvSpPr>
          <p:spPr>
            <a:xfrm rot="20695800">
              <a:off x="4193640" y="3355920"/>
              <a:ext cx="32256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37" name="Oval 26"/>
          <p:cNvGrpSpPr/>
          <p:nvPr/>
        </p:nvGrpSpPr>
        <p:grpSpPr>
          <a:xfrm>
            <a:off x="2610000" y="3767040"/>
            <a:ext cx="444240" cy="195480"/>
            <a:chOff x="2610000" y="3767040"/>
            <a:chExt cx="444240" cy="195480"/>
          </a:xfrm>
        </p:grpSpPr>
        <p:pic>
          <p:nvPicPr>
            <p:cNvPr id="538" name="Oval 26" descr=""/>
            <p:cNvPicPr/>
            <p:nvPr/>
          </p:nvPicPr>
          <p:blipFill>
            <a:blip r:embed="rId3"/>
            <a:stretch/>
          </p:blipFill>
          <p:spPr>
            <a:xfrm>
              <a:off x="2610000" y="3767040"/>
              <a:ext cx="444240" cy="195480"/>
            </a:xfrm>
            <a:prstGeom prst="rect">
              <a:avLst/>
            </a:prstGeom>
            <a:ln w="0">
              <a:noFill/>
            </a:ln>
          </p:spPr>
        </p:pic>
        <p:sp>
          <p:nvSpPr>
            <p:cNvPr id="539" name=""/>
            <p:cNvSpPr/>
            <p:nvPr/>
          </p:nvSpPr>
          <p:spPr>
            <a:xfrm rot="20708400">
              <a:off x="2669760" y="3811680"/>
              <a:ext cx="3222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40" name="Oval 27"/>
          <p:cNvGrpSpPr/>
          <p:nvPr/>
        </p:nvGrpSpPr>
        <p:grpSpPr>
          <a:xfrm>
            <a:off x="1023840" y="3932280"/>
            <a:ext cx="457200" cy="152280"/>
            <a:chOff x="1023840" y="3932280"/>
            <a:chExt cx="457200" cy="152280"/>
          </a:xfrm>
        </p:grpSpPr>
        <p:pic>
          <p:nvPicPr>
            <p:cNvPr id="541" name="Oval 27" descr=""/>
            <p:cNvPicPr/>
            <p:nvPr/>
          </p:nvPicPr>
          <p:blipFill>
            <a:blip r:embed="rId4"/>
            <a:stretch/>
          </p:blipFill>
          <p:spPr>
            <a:xfrm>
              <a:off x="1023840" y="3932280"/>
              <a:ext cx="457200" cy="152280"/>
            </a:xfrm>
            <a:prstGeom prst="rect">
              <a:avLst/>
            </a:prstGeom>
            <a:ln w="0">
              <a:noFill/>
            </a:ln>
          </p:spPr>
        </p:pic>
        <p:sp>
          <p:nvSpPr>
            <p:cNvPr id="54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4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4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5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6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7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8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584" name="Group 89"/>
          <p:cNvGrpSpPr/>
          <p:nvPr/>
        </p:nvGrpSpPr>
        <p:grpSpPr>
          <a:xfrm>
            <a:off x="270000" y="3962880"/>
            <a:ext cx="3372120" cy="2080080"/>
            <a:chOff x="270000" y="3962880"/>
            <a:chExt cx="3372120" cy="2080080"/>
          </a:xfrm>
        </p:grpSpPr>
        <p:sp>
          <p:nvSpPr>
            <p:cNvPr id="58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86" name="Oval 91"/>
            <p:cNvGrpSpPr/>
            <p:nvPr/>
          </p:nvGrpSpPr>
          <p:grpSpPr>
            <a:xfrm>
              <a:off x="1694880" y="4809600"/>
              <a:ext cx="554760" cy="384120"/>
              <a:chOff x="1694880" y="4809600"/>
              <a:chExt cx="554760" cy="384120"/>
            </a:xfrm>
          </p:grpSpPr>
          <p:pic>
            <p:nvPicPr>
              <p:cNvPr id="587" name="Oval 91" descr=""/>
              <p:cNvPicPr/>
              <p:nvPr/>
            </p:nvPicPr>
            <p:blipFill>
              <a:blip r:embed="rId5"/>
              <a:stretch/>
            </p:blipFill>
            <p:spPr>
              <a:xfrm>
                <a:off x="1694880" y="4809600"/>
                <a:ext cx="554760" cy="384120"/>
              </a:xfrm>
              <a:prstGeom prst="rect">
                <a:avLst/>
              </a:prstGeom>
              <a:ln w="0">
                <a:noFill/>
              </a:ln>
            </p:spPr>
          </p:pic>
          <p:sp>
            <p:nvSpPr>
              <p:cNvPr id="58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89" name="Group 97"/>
          <p:cNvGrpSpPr/>
          <p:nvPr/>
        </p:nvGrpSpPr>
        <p:grpSpPr>
          <a:xfrm>
            <a:off x="2009880" y="3972240"/>
            <a:ext cx="3373560" cy="2080440"/>
            <a:chOff x="2009880" y="3972240"/>
            <a:chExt cx="3373560" cy="2080440"/>
          </a:xfrm>
        </p:grpSpPr>
        <p:sp>
          <p:nvSpPr>
            <p:cNvPr id="590"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1" name="Oval 99"/>
            <p:cNvGrpSpPr/>
            <p:nvPr/>
          </p:nvGrpSpPr>
          <p:grpSpPr>
            <a:xfrm>
              <a:off x="3438000" y="4821840"/>
              <a:ext cx="548640" cy="384120"/>
              <a:chOff x="3438000" y="4821840"/>
              <a:chExt cx="548640" cy="384120"/>
            </a:xfrm>
          </p:grpSpPr>
          <p:pic>
            <p:nvPicPr>
              <p:cNvPr id="592" name="Oval 99" descr=""/>
              <p:cNvPicPr/>
              <p:nvPr/>
            </p:nvPicPr>
            <p:blipFill>
              <a:blip r:embed="rId6"/>
              <a:stretch/>
            </p:blipFill>
            <p:spPr>
              <a:xfrm>
                <a:off x="3438000" y="4821840"/>
                <a:ext cx="548640" cy="384120"/>
              </a:xfrm>
              <a:prstGeom prst="rect">
                <a:avLst/>
              </a:prstGeom>
              <a:ln w="0">
                <a:noFill/>
              </a:ln>
            </p:spPr>
          </p:pic>
          <p:sp>
            <p:nvSpPr>
              <p:cNvPr id="593"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4" name="Group 100"/>
          <p:cNvGrpSpPr/>
          <p:nvPr/>
        </p:nvGrpSpPr>
        <p:grpSpPr>
          <a:xfrm>
            <a:off x="3687840" y="3997440"/>
            <a:ext cx="3373560" cy="2080440"/>
            <a:chOff x="3687840" y="3997440"/>
            <a:chExt cx="3373560" cy="2080440"/>
          </a:xfrm>
        </p:grpSpPr>
        <p:sp>
          <p:nvSpPr>
            <p:cNvPr id="595"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596" name="Oval 102"/>
            <p:cNvGrpSpPr/>
            <p:nvPr/>
          </p:nvGrpSpPr>
          <p:grpSpPr>
            <a:xfrm>
              <a:off x="5114520" y="4846320"/>
              <a:ext cx="554760" cy="384120"/>
              <a:chOff x="5114520" y="4846320"/>
              <a:chExt cx="554760" cy="384120"/>
            </a:xfrm>
          </p:grpSpPr>
          <p:pic>
            <p:nvPicPr>
              <p:cNvPr id="597" name="Oval 102" descr=""/>
              <p:cNvPicPr/>
              <p:nvPr/>
            </p:nvPicPr>
            <p:blipFill>
              <a:blip r:embed="rId7"/>
              <a:stretch/>
            </p:blipFill>
            <p:spPr>
              <a:xfrm>
                <a:off x="5114520" y="4846320"/>
                <a:ext cx="554760" cy="384120"/>
              </a:xfrm>
              <a:prstGeom prst="rect">
                <a:avLst/>
              </a:prstGeom>
              <a:ln w="0">
                <a:noFill/>
              </a:ln>
            </p:spPr>
          </p:pic>
          <p:sp>
            <p:nvSpPr>
              <p:cNvPr id="598"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599" name="Group 103"/>
          <p:cNvGrpSpPr/>
          <p:nvPr/>
        </p:nvGrpSpPr>
        <p:grpSpPr>
          <a:xfrm>
            <a:off x="5469120" y="3997440"/>
            <a:ext cx="3373560" cy="2080440"/>
            <a:chOff x="5469120" y="3997440"/>
            <a:chExt cx="3373560" cy="2080440"/>
          </a:xfrm>
        </p:grpSpPr>
        <p:sp>
          <p:nvSpPr>
            <p:cNvPr id="600"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01" name="Oval 105"/>
            <p:cNvGrpSpPr/>
            <p:nvPr/>
          </p:nvGrpSpPr>
          <p:grpSpPr>
            <a:xfrm>
              <a:off x="6894720" y="4846320"/>
              <a:ext cx="554760" cy="384120"/>
              <a:chOff x="6894720" y="4846320"/>
              <a:chExt cx="554760" cy="384120"/>
            </a:xfrm>
          </p:grpSpPr>
          <p:pic>
            <p:nvPicPr>
              <p:cNvPr id="602" name="Oval 105" descr=""/>
              <p:cNvPicPr/>
              <p:nvPr/>
            </p:nvPicPr>
            <p:blipFill>
              <a:blip r:embed="rId8"/>
              <a:stretch/>
            </p:blipFill>
            <p:spPr>
              <a:xfrm>
                <a:off x="6894720" y="4846320"/>
                <a:ext cx="554760" cy="384120"/>
              </a:xfrm>
              <a:prstGeom prst="rect">
                <a:avLst/>
              </a:prstGeom>
              <a:ln w="0">
                <a:noFill/>
              </a:ln>
            </p:spPr>
          </p:pic>
          <p:sp>
            <p:nvSpPr>
              <p:cNvPr id="603"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604"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05"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606"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607"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608" name="Straight Arrow Connector 14336"/>
          <p:cNvCxnSpPr>
            <a:stCxn id="605"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609" name="Straight Arrow Connector 112"/>
          <p:cNvCxnSpPr>
            <a:stCxn id="606"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610" name="Straight Arrow Connector 113"/>
          <p:cNvCxnSpPr>
            <a:stCxn id="607" idx="3"/>
          </p:cNvCxnSpPr>
          <p:nvPr/>
        </p:nvCxnSpPr>
        <p:spPr>
          <a:xfrm>
            <a:off x="2023560" y="5000400"/>
            <a:ext cx="266040" cy="1080"/>
          </a:xfrm>
          <a:prstGeom prst="straightConnector1">
            <a:avLst/>
          </a:prstGeom>
          <a:ln w="19080">
            <a:solidFill>
              <a:srgbClr val="00afff"/>
            </a:solidFill>
            <a:miter/>
            <a:tailEnd len="med" type="arrow" w="med"/>
          </a:ln>
        </p:spPr>
      </p:cxnSp>
      <p:sp>
        <p:nvSpPr>
          <p:cNvPr id="611"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grpSp>
        <p:nvGrpSpPr>
          <p:cNvPr id="612" name="Group 14335"/>
          <p:cNvGrpSpPr/>
          <p:nvPr/>
        </p:nvGrpSpPr>
        <p:grpSpPr>
          <a:xfrm>
            <a:off x="5107320" y="2545920"/>
            <a:ext cx="1726920" cy="1054800"/>
            <a:chOff x="5107320" y="2545920"/>
            <a:chExt cx="1726920" cy="1054800"/>
          </a:xfrm>
        </p:grpSpPr>
        <p:sp>
          <p:nvSpPr>
            <p:cNvPr id="613" name="Straight Connector 19"/>
            <p:cNvSpPr/>
            <p:nvPr/>
          </p:nvSpPr>
          <p:spPr>
            <a:xfrm>
              <a:off x="5614920" y="3085920"/>
              <a:ext cx="121932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14" name="Oval 24"/>
            <p:cNvGrpSpPr/>
            <p:nvPr/>
          </p:nvGrpSpPr>
          <p:grpSpPr>
            <a:xfrm>
              <a:off x="6016680" y="3169800"/>
              <a:ext cx="438840" cy="219240"/>
              <a:chOff x="6016680" y="3169800"/>
              <a:chExt cx="438840" cy="219240"/>
            </a:xfrm>
          </p:grpSpPr>
          <p:pic>
            <p:nvPicPr>
              <p:cNvPr id="615" name="Oval 24" descr=""/>
              <p:cNvPicPr/>
              <p:nvPr/>
            </p:nvPicPr>
            <p:blipFill>
              <a:blip r:embed="rId9"/>
              <a:stretch/>
            </p:blipFill>
            <p:spPr>
              <a:xfrm>
                <a:off x="6016680" y="3169800"/>
                <a:ext cx="438840" cy="219240"/>
              </a:xfrm>
              <a:prstGeom prst="rect">
                <a:avLst/>
              </a:prstGeom>
              <a:ln w="0">
                <a:noFill/>
              </a:ln>
            </p:spPr>
          </p:pic>
          <p:sp>
            <p:nvSpPr>
              <p:cNvPr id="616" name=""/>
              <p:cNvSpPr/>
              <p:nvPr/>
            </p:nvSpPr>
            <p:spPr>
              <a:xfrm rot="1215600">
                <a:off x="6075360" y="3226680"/>
                <a:ext cx="323280" cy="10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7" name="Lightning Bolt 83"/>
            <p:cNvSpPr/>
            <p:nvPr/>
          </p:nvSpPr>
          <p:spPr>
            <a:xfrm rot="17906400">
              <a:off x="5208120" y="2715840"/>
              <a:ext cx="812880" cy="7142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18" name="Freeform 14339"/>
          <p:cNvSpPr/>
          <p:nvPr/>
        </p:nvSpPr>
        <p:spPr>
          <a:xfrm>
            <a:off x="6594480" y="3695760"/>
            <a:ext cx="1373040" cy="49824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19" name="Oval 5"/>
          <p:cNvSpPr/>
          <p:nvPr/>
        </p:nvSpPr>
        <p:spPr>
          <a:xfrm rot="21028800">
            <a:off x="6716520" y="39034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0" name="Group 3"/>
          <p:cNvGrpSpPr/>
          <p:nvPr/>
        </p:nvGrpSpPr>
        <p:grpSpPr>
          <a:xfrm>
            <a:off x="6933960" y="3733920"/>
            <a:ext cx="276120" cy="276120"/>
            <a:chOff x="6933960" y="3733920"/>
            <a:chExt cx="276120" cy="276120"/>
          </a:xfrm>
        </p:grpSpPr>
        <p:sp>
          <p:nvSpPr>
            <p:cNvPr id="621" name="Oval 1"/>
            <p:cNvSpPr/>
            <p:nvPr/>
          </p:nvSpPr>
          <p:spPr>
            <a:xfrm rot="6220800">
              <a:off x="6958440" y="37584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2" name="Oval 79"/>
            <p:cNvSpPr/>
            <p:nvPr/>
          </p:nvSpPr>
          <p:spPr>
            <a:xfrm rot="6220800">
              <a:off x="6883920" y="3815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23" name="Group 85"/>
          <p:cNvGrpSpPr/>
          <p:nvPr/>
        </p:nvGrpSpPr>
        <p:grpSpPr>
          <a:xfrm>
            <a:off x="7314840" y="3809160"/>
            <a:ext cx="318240" cy="318600"/>
            <a:chOff x="7314840" y="3809160"/>
            <a:chExt cx="318240" cy="318600"/>
          </a:xfrm>
        </p:grpSpPr>
        <p:sp>
          <p:nvSpPr>
            <p:cNvPr id="624" name="Oval 86"/>
            <p:cNvSpPr/>
            <p:nvPr/>
          </p:nvSpPr>
          <p:spPr>
            <a:xfrm rot="14096400">
              <a:off x="735984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25" name="Oval 87"/>
            <p:cNvSpPr/>
            <p:nvPr/>
          </p:nvSpPr>
          <p:spPr>
            <a:xfrm rot="14096400">
              <a:off x="742212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26" name="Freeform 125"/>
          <p:cNvSpPr/>
          <p:nvPr/>
        </p:nvSpPr>
        <p:spPr>
          <a:xfrm flipH="1">
            <a:off x="2743200" y="3733920"/>
            <a:ext cx="1373040" cy="49680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27" name="Oval 126"/>
          <p:cNvSpPr/>
          <p:nvPr/>
        </p:nvSpPr>
        <p:spPr>
          <a:xfrm rot="21028800">
            <a:off x="3363480" y="38271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28" name="Group 122"/>
          <p:cNvGrpSpPr/>
          <p:nvPr/>
        </p:nvGrpSpPr>
        <p:grpSpPr>
          <a:xfrm>
            <a:off x="2971080" y="3962160"/>
            <a:ext cx="261000" cy="260640"/>
            <a:chOff x="2971080" y="3962160"/>
            <a:chExt cx="261000" cy="260640"/>
          </a:xfrm>
        </p:grpSpPr>
        <p:sp>
          <p:nvSpPr>
            <p:cNvPr id="629" name="Oval 123"/>
            <p:cNvSpPr/>
            <p:nvPr/>
          </p:nvSpPr>
          <p:spPr>
            <a:xfrm rot="10267200">
              <a:off x="298764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0" name="Oval 124"/>
            <p:cNvSpPr/>
            <p:nvPr/>
          </p:nvSpPr>
          <p:spPr>
            <a:xfrm rot="10267200">
              <a:off x="297540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1" name="Group 119"/>
          <p:cNvGrpSpPr/>
          <p:nvPr/>
        </p:nvGrpSpPr>
        <p:grpSpPr>
          <a:xfrm>
            <a:off x="3582360" y="3886200"/>
            <a:ext cx="322920" cy="322920"/>
            <a:chOff x="3582360" y="3886200"/>
            <a:chExt cx="322920" cy="322920"/>
          </a:xfrm>
        </p:grpSpPr>
        <p:sp>
          <p:nvSpPr>
            <p:cNvPr id="632" name="Oval 120"/>
            <p:cNvSpPr/>
            <p:nvPr/>
          </p:nvSpPr>
          <p:spPr>
            <a:xfrm rot="19024800">
              <a:off x="3629520" y="39333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3" name="Oval 121"/>
            <p:cNvSpPr/>
            <p:nvPr/>
          </p:nvSpPr>
          <p:spPr>
            <a:xfrm rot="19024800">
              <a:off x="3680280" y="406476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34" name="Freeform 14340"/>
          <p:cNvSpPr/>
          <p:nvPr/>
        </p:nvSpPr>
        <p:spPr>
          <a:xfrm>
            <a:off x="4049640" y="3490920"/>
            <a:ext cx="898560" cy="6843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35" name="Oval 127"/>
          <p:cNvSpPr/>
          <p:nvPr/>
        </p:nvSpPr>
        <p:spPr>
          <a:xfrm rot="3619800">
            <a:off x="4207680" y="368640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36" name="Group 96"/>
          <p:cNvGrpSpPr/>
          <p:nvPr/>
        </p:nvGrpSpPr>
        <p:grpSpPr>
          <a:xfrm>
            <a:off x="4353840" y="3515400"/>
            <a:ext cx="303120" cy="303120"/>
            <a:chOff x="4353840" y="3515400"/>
            <a:chExt cx="303120" cy="303120"/>
          </a:xfrm>
        </p:grpSpPr>
        <p:sp>
          <p:nvSpPr>
            <p:cNvPr id="637" name="Oval 97"/>
            <p:cNvSpPr/>
            <p:nvPr/>
          </p:nvSpPr>
          <p:spPr>
            <a:xfrm rot="20118600">
              <a:off x="4390920" y="3552480"/>
              <a:ext cx="22860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8" name="Oval 100"/>
            <p:cNvSpPr/>
            <p:nvPr/>
          </p:nvSpPr>
          <p:spPr>
            <a:xfrm rot="20118600">
              <a:off x="4422240" y="3697200"/>
              <a:ext cx="22860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39" name="Group 88"/>
          <p:cNvGrpSpPr/>
          <p:nvPr/>
        </p:nvGrpSpPr>
        <p:grpSpPr>
          <a:xfrm>
            <a:off x="4495680" y="3809880"/>
            <a:ext cx="270360" cy="270720"/>
            <a:chOff x="4495680" y="3809880"/>
            <a:chExt cx="270360" cy="270720"/>
          </a:xfrm>
        </p:grpSpPr>
        <p:sp>
          <p:nvSpPr>
            <p:cNvPr id="640" name="Oval 89"/>
            <p:cNvSpPr/>
            <p:nvPr/>
          </p:nvSpPr>
          <p:spPr>
            <a:xfrm rot="714000">
              <a:off x="4516560" y="383076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1" name="Oval 92"/>
            <p:cNvSpPr/>
            <p:nvPr/>
          </p:nvSpPr>
          <p:spPr>
            <a:xfrm rot="714000">
              <a:off x="4501080" y="3979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42" name="Freeform 14341"/>
          <p:cNvSpPr/>
          <p:nvPr/>
        </p:nvSpPr>
        <p:spPr>
          <a:xfrm>
            <a:off x="6081840" y="3479760"/>
            <a:ext cx="741240" cy="6825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43" name="Oval 130"/>
          <p:cNvSpPr/>
          <p:nvPr/>
        </p:nvSpPr>
        <p:spPr>
          <a:xfrm rot="6540600">
            <a:off x="6395760" y="39430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44" name="Group 103"/>
          <p:cNvGrpSpPr/>
          <p:nvPr/>
        </p:nvGrpSpPr>
        <p:grpSpPr>
          <a:xfrm>
            <a:off x="6400440" y="3506400"/>
            <a:ext cx="304560" cy="303480"/>
            <a:chOff x="6400440" y="3506400"/>
            <a:chExt cx="304560" cy="303480"/>
          </a:xfrm>
        </p:grpSpPr>
        <p:sp>
          <p:nvSpPr>
            <p:cNvPr id="645" name="Oval 106"/>
            <p:cNvSpPr/>
            <p:nvPr/>
          </p:nvSpPr>
          <p:spPr>
            <a:xfrm rot="3874200">
              <a:off x="6439320" y="35438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6" name="Oval 107"/>
            <p:cNvSpPr/>
            <p:nvPr/>
          </p:nvSpPr>
          <p:spPr>
            <a:xfrm rot="3874200">
              <a:off x="6369840" y="3652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47" name="Group 138"/>
          <p:cNvGrpSpPr/>
          <p:nvPr/>
        </p:nvGrpSpPr>
        <p:grpSpPr>
          <a:xfrm>
            <a:off x="6096960" y="3657240"/>
            <a:ext cx="313200" cy="313560"/>
            <a:chOff x="6096960" y="3657240"/>
            <a:chExt cx="313200" cy="313560"/>
          </a:xfrm>
        </p:grpSpPr>
        <p:sp>
          <p:nvSpPr>
            <p:cNvPr id="648" name="Oval 139"/>
            <p:cNvSpPr/>
            <p:nvPr/>
          </p:nvSpPr>
          <p:spPr>
            <a:xfrm rot="19720800">
              <a:off x="6139440" y="3699720"/>
              <a:ext cx="22752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9" name="Oval 140"/>
            <p:cNvSpPr/>
            <p:nvPr/>
          </p:nvSpPr>
          <p:spPr>
            <a:xfrm rot="19720800">
              <a:off x="6177600" y="38412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0" name="Freeform 14342"/>
          <p:cNvSpPr/>
          <p:nvPr/>
        </p:nvSpPr>
        <p:spPr>
          <a:xfrm>
            <a:off x="4932360" y="3792600"/>
            <a:ext cx="1177920" cy="38088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1" name="Oval 128"/>
          <p:cNvSpPr/>
          <p:nvPr/>
        </p:nvSpPr>
        <p:spPr>
          <a:xfrm rot="21028800">
            <a:off x="5420880" y="3979440"/>
            <a:ext cx="228600" cy="152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52" name="Group 135"/>
          <p:cNvGrpSpPr/>
          <p:nvPr/>
        </p:nvGrpSpPr>
        <p:grpSpPr>
          <a:xfrm>
            <a:off x="5790960" y="3810600"/>
            <a:ext cx="279360" cy="278640"/>
            <a:chOff x="5790960" y="3810600"/>
            <a:chExt cx="279360" cy="278640"/>
          </a:xfrm>
        </p:grpSpPr>
        <p:sp>
          <p:nvSpPr>
            <p:cNvPr id="653" name="Oval 136"/>
            <p:cNvSpPr/>
            <p:nvPr/>
          </p:nvSpPr>
          <p:spPr>
            <a:xfrm rot="4513800">
              <a:off x="5816520" y="3835800"/>
              <a:ext cx="22824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4" name="Oval 137"/>
            <p:cNvSpPr/>
            <p:nvPr/>
          </p:nvSpPr>
          <p:spPr>
            <a:xfrm rot="4513800">
              <a:off x="5742360" y="393084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55" name="Group 142"/>
          <p:cNvGrpSpPr/>
          <p:nvPr/>
        </p:nvGrpSpPr>
        <p:grpSpPr>
          <a:xfrm>
            <a:off x="5030280" y="3886920"/>
            <a:ext cx="287280" cy="287280"/>
            <a:chOff x="5030280" y="3886920"/>
            <a:chExt cx="287280" cy="287280"/>
          </a:xfrm>
        </p:grpSpPr>
        <p:sp>
          <p:nvSpPr>
            <p:cNvPr id="656" name="Oval 143"/>
            <p:cNvSpPr/>
            <p:nvPr/>
          </p:nvSpPr>
          <p:spPr>
            <a:xfrm rot="15135000">
              <a:off x="5059800" y="391644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57" name="Oval 144"/>
            <p:cNvSpPr/>
            <p:nvPr/>
          </p:nvSpPr>
          <p:spPr>
            <a:xfrm rot="15135000">
              <a:off x="5131080" y="39686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58" name="Freeform 14343"/>
          <p:cNvSpPr/>
          <p:nvPr/>
        </p:nvSpPr>
        <p:spPr>
          <a:xfrm>
            <a:off x="4829040" y="3332160"/>
            <a:ext cx="871560" cy="631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59" name="Oval 131"/>
          <p:cNvSpPr/>
          <p:nvPr/>
        </p:nvSpPr>
        <p:spPr>
          <a:xfrm rot="21028800">
            <a:off x="5268600" y="336996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660" name="Group 93"/>
          <p:cNvGrpSpPr/>
          <p:nvPr/>
        </p:nvGrpSpPr>
        <p:grpSpPr>
          <a:xfrm>
            <a:off x="4952160" y="3580920"/>
            <a:ext cx="261000" cy="260640"/>
            <a:chOff x="4952160" y="3580920"/>
            <a:chExt cx="261000" cy="260640"/>
          </a:xfrm>
        </p:grpSpPr>
        <p:sp>
          <p:nvSpPr>
            <p:cNvPr id="661" name="Oval 94"/>
            <p:cNvSpPr/>
            <p:nvPr/>
          </p:nvSpPr>
          <p:spPr>
            <a:xfrm rot="10267200">
              <a:off x="4968720" y="359712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2" name="Oval 95"/>
            <p:cNvSpPr/>
            <p:nvPr/>
          </p:nvSpPr>
          <p:spPr>
            <a:xfrm rot="10267200">
              <a:off x="4956480" y="3597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63" name="Group 145"/>
          <p:cNvGrpSpPr/>
          <p:nvPr/>
        </p:nvGrpSpPr>
        <p:grpSpPr>
          <a:xfrm>
            <a:off x="5333400" y="3505680"/>
            <a:ext cx="321840" cy="320760"/>
            <a:chOff x="5333400" y="3505680"/>
            <a:chExt cx="321840" cy="320760"/>
          </a:xfrm>
        </p:grpSpPr>
        <p:sp>
          <p:nvSpPr>
            <p:cNvPr id="664" name="Oval 146"/>
            <p:cNvSpPr/>
            <p:nvPr/>
          </p:nvSpPr>
          <p:spPr>
            <a:xfrm rot="2343000">
              <a:off x="5380920" y="355176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5" name="Oval 147"/>
            <p:cNvSpPr/>
            <p:nvPr/>
          </p:nvSpPr>
          <p:spPr>
            <a:xfrm rot="2343000">
              <a:off x="5331600" y="36864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
                                  <p:stCondLst>
                                    <p:cond delay="0"/>
                                  </p:stCondLst>
                                  <p:childTnLst>
                                    <p:set>
                                      <p:cBhvr>
                                        <p:cTn id="59"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7"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8"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69" name=""/>
          <p:cNvSpPr txBox="1"/>
          <p:nvPr/>
        </p:nvSpPr>
        <p:spPr>
          <a:xfrm>
            <a:off x="380880" y="456840"/>
            <a:ext cx="8382240" cy="1600200"/>
          </a:xfrm>
          <a:prstGeom prst="rect">
            <a:avLst/>
          </a:prstGeom>
          <a:noFill/>
          <a:ln w="0">
            <a:noFill/>
          </a:ln>
        </p:spPr>
        <p:txBody>
          <a:bodyPr lIns="182880" tIns="91440" anchor="t">
            <a:normAutofit fontScale="92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acrophages become fatty masses called </a:t>
            </a:r>
            <a:r>
              <a:rPr b="0" lang="en-US" sz="2600" spc="-1" strike="noStrike" u="sng">
                <a:solidFill>
                  <a:srgbClr val="00afff"/>
                </a:solidFill>
                <a:uFillTx/>
                <a:latin typeface="Arial"/>
              </a:rPr>
              <a:t>foam cells</a:t>
            </a:r>
            <a:r>
              <a:rPr b="0" lang="en-US" sz="2600" spc="-1" strike="noStrike">
                <a:solidFill>
                  <a:srgbClr val="00afff"/>
                </a:solidFill>
                <a:latin typeface="Arial"/>
              </a:rPr>
              <a:t>. More material is trapped in this space over time. As more material is trapped, the opening of the artery that allows blood through (the </a:t>
            </a:r>
            <a:r>
              <a:rPr b="0" lang="en-US" sz="2600" spc="-1" strike="noStrike" u="sng">
                <a:solidFill>
                  <a:srgbClr val="00afff"/>
                </a:solidFill>
                <a:uFillTx/>
                <a:latin typeface="Arial"/>
              </a:rPr>
              <a:t>lumen</a:t>
            </a:r>
            <a:r>
              <a:rPr b="0" lang="en-US" sz="2600" spc="-1" strike="noStrike">
                <a:solidFill>
                  <a:srgbClr val="00afff"/>
                </a:solidFill>
                <a:latin typeface="Arial"/>
              </a:rPr>
              <a:t>) narrows.</a:t>
            </a:r>
            <a:endParaRPr b="0" lang="en-US" sz="2600" spc="-1" strike="noStrike">
              <a:solidFill>
                <a:srgbClr val="00afff"/>
              </a:solidFill>
              <a:latin typeface="Arial"/>
            </a:endParaRPr>
          </a:p>
        </p:txBody>
      </p:sp>
      <p:sp>
        <p:nvSpPr>
          <p:cNvPr id="670" name="Straight Connector 20"/>
          <p:cNvSpPr/>
          <p:nvPr/>
        </p:nvSpPr>
        <p:spPr>
          <a:xfrm flipV="1">
            <a:off x="4472640" y="5078880"/>
            <a:ext cx="306360" cy="954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1"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2" name="Straight Connector 2"/>
          <p:cNvSpPr/>
          <p:nvPr/>
        </p:nvSpPr>
        <p:spPr>
          <a:xfrm>
            <a:off x="3622680" y="5265720"/>
            <a:ext cx="3682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3" name="Straight Connector 18"/>
          <p:cNvSpPr/>
          <p:nvPr/>
        </p:nvSpPr>
        <p:spPr>
          <a:xfrm>
            <a:off x="5354640" y="5148360"/>
            <a:ext cx="368280" cy="1173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674" name="Straight Connector 21"/>
          <p:cNvSpPr/>
          <p:nvPr/>
        </p:nvSpPr>
        <p:spPr>
          <a:xfrm flipV="1">
            <a:off x="4064040" y="5184360"/>
            <a:ext cx="368280" cy="81000"/>
          </a:xfrm>
          <a:prstGeom prst="line">
            <a:avLst/>
          </a:prstGeom>
          <a:ln cap="rnd" w="38160">
            <a:solidFill>
              <a:srgbClr val="c93a37"/>
            </a:solidFill>
            <a:miter/>
          </a:ln>
        </p:spPr>
        <p:style>
          <a:lnRef idx="0"/>
          <a:fillRef idx="0"/>
          <a:effectRef idx="0"/>
          <a:fontRef idx="minor"/>
        </p:style>
        <p:txBody>
          <a:bodyPr lIns="90000" rIns="90000" tIns="34200" bIns="34200" anchor="t">
            <a:noAutofit/>
          </a:bodyPr>
          <a:p>
            <a:endParaRPr b="0" lang="en-US" sz="1800" spc="-1" strike="noStrike">
              <a:solidFill>
                <a:srgbClr val="00afff"/>
              </a:solidFill>
              <a:latin typeface="Arial"/>
            </a:endParaRPr>
          </a:p>
        </p:txBody>
      </p:sp>
      <p:sp>
        <p:nvSpPr>
          <p:cNvPr id="675" name="Straight Connector 7"/>
          <p:cNvSpPr/>
          <p:nvPr/>
        </p:nvSpPr>
        <p:spPr>
          <a:xfrm flipV="1">
            <a:off x="3941640" y="5165280"/>
            <a:ext cx="552600" cy="1256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676" name="Oval 8"/>
          <p:cNvGrpSpPr/>
          <p:nvPr/>
        </p:nvGrpSpPr>
        <p:grpSpPr>
          <a:xfrm>
            <a:off x="5479920" y="5175360"/>
            <a:ext cx="122400" cy="55440"/>
            <a:chOff x="5479920" y="5175360"/>
            <a:chExt cx="122400" cy="55440"/>
          </a:xfrm>
        </p:grpSpPr>
        <p:pic>
          <p:nvPicPr>
            <p:cNvPr id="677" name="Oval 8" descr=""/>
            <p:cNvPicPr/>
            <p:nvPr/>
          </p:nvPicPr>
          <p:blipFill>
            <a:blip r:embed="rId1"/>
            <a:stretch/>
          </p:blipFill>
          <p:spPr>
            <a:xfrm>
              <a:off x="5479920" y="5175360"/>
              <a:ext cx="122400" cy="55440"/>
            </a:xfrm>
            <a:prstGeom prst="rect">
              <a:avLst/>
            </a:prstGeom>
            <a:ln w="0">
              <a:noFill/>
            </a:ln>
          </p:spPr>
        </p:pic>
        <p:sp>
          <p:nvSpPr>
            <p:cNvPr id="678" name=""/>
            <p:cNvSpPr/>
            <p:nvPr/>
          </p:nvSpPr>
          <p:spPr>
            <a:xfrm rot="967200">
              <a:off x="5498640" y="5192640"/>
              <a:ext cx="8748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79" name="Oval 25"/>
          <p:cNvGrpSpPr/>
          <p:nvPr/>
        </p:nvGrpSpPr>
        <p:grpSpPr>
          <a:xfrm>
            <a:off x="4578480" y="5102280"/>
            <a:ext cx="126720" cy="49320"/>
            <a:chOff x="4578480" y="5102280"/>
            <a:chExt cx="126720" cy="49320"/>
          </a:xfrm>
        </p:grpSpPr>
        <p:pic>
          <p:nvPicPr>
            <p:cNvPr id="680" name="Oval 25" descr=""/>
            <p:cNvPicPr/>
            <p:nvPr/>
          </p:nvPicPr>
          <p:blipFill>
            <a:blip r:embed="rId2"/>
            <a:stretch/>
          </p:blipFill>
          <p:spPr>
            <a:xfrm>
              <a:off x="4578480" y="5102280"/>
              <a:ext cx="126720" cy="49320"/>
            </a:xfrm>
            <a:prstGeom prst="rect">
              <a:avLst/>
            </a:prstGeom>
            <a:ln w="0">
              <a:noFill/>
            </a:ln>
          </p:spPr>
        </p:pic>
        <p:sp>
          <p:nvSpPr>
            <p:cNvPr id="681" name=""/>
            <p:cNvSpPr/>
            <p:nvPr/>
          </p:nvSpPr>
          <p:spPr>
            <a:xfrm rot="20695800">
              <a:off x="4597200" y="511344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2" name="Oval 26"/>
          <p:cNvGrpSpPr/>
          <p:nvPr/>
        </p:nvGrpSpPr>
        <p:grpSpPr>
          <a:xfrm>
            <a:off x="4170240" y="5205240"/>
            <a:ext cx="120600" cy="55800"/>
            <a:chOff x="4170240" y="5205240"/>
            <a:chExt cx="120600" cy="55800"/>
          </a:xfrm>
        </p:grpSpPr>
        <p:pic>
          <p:nvPicPr>
            <p:cNvPr id="683" name="Oval 26" descr=""/>
            <p:cNvPicPr/>
            <p:nvPr/>
          </p:nvPicPr>
          <p:blipFill>
            <a:blip r:embed="rId3"/>
            <a:stretch/>
          </p:blipFill>
          <p:spPr>
            <a:xfrm>
              <a:off x="4170240" y="5205240"/>
              <a:ext cx="120600" cy="55800"/>
            </a:xfrm>
            <a:prstGeom prst="rect">
              <a:avLst/>
            </a:prstGeom>
            <a:ln w="0">
              <a:noFill/>
            </a:ln>
          </p:spPr>
        </p:pic>
        <p:sp>
          <p:nvSpPr>
            <p:cNvPr id="684" name=""/>
            <p:cNvSpPr/>
            <p:nvPr/>
          </p:nvSpPr>
          <p:spPr>
            <a:xfrm rot="20708400">
              <a:off x="4187880" y="5219280"/>
              <a:ext cx="87120" cy="25560"/>
            </a:xfrm>
            <a:prstGeom prst="rect">
              <a:avLst/>
            </a:prstGeom>
            <a:noFill/>
            <a:ln w="0">
              <a:noFill/>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685" name="Oval 27"/>
          <p:cNvGrpSpPr/>
          <p:nvPr/>
        </p:nvGrpSpPr>
        <p:grpSpPr>
          <a:xfrm>
            <a:off x="3743280" y="5248440"/>
            <a:ext cx="127080" cy="36360"/>
            <a:chOff x="3743280" y="5248440"/>
            <a:chExt cx="127080" cy="36360"/>
          </a:xfrm>
        </p:grpSpPr>
        <p:pic>
          <p:nvPicPr>
            <p:cNvPr id="686" name="Oval 27" descr=""/>
            <p:cNvPicPr/>
            <p:nvPr/>
          </p:nvPicPr>
          <p:blipFill>
            <a:blip r:embed="rId4"/>
            <a:stretch/>
          </p:blipFill>
          <p:spPr>
            <a:xfrm>
              <a:off x="3743280" y="5248440"/>
              <a:ext cx="127080" cy="36360"/>
            </a:xfrm>
            <a:prstGeom prst="rect">
              <a:avLst/>
            </a:prstGeom>
            <a:ln w="0">
              <a:noFill/>
            </a:ln>
          </p:spPr>
        </p:pic>
        <p:sp>
          <p:nvSpPr>
            <p:cNvPr id="687" name=""/>
            <p:cNvSpPr/>
            <p:nvPr/>
          </p:nvSpPr>
          <p:spPr>
            <a:xfrm>
              <a:off x="3763800" y="5253120"/>
              <a:ext cx="8604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68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8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69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0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1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2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727" name="Group 14335"/>
          <p:cNvGrpSpPr/>
          <p:nvPr/>
        </p:nvGrpSpPr>
        <p:grpSpPr>
          <a:xfrm>
            <a:off x="4979880" y="5051520"/>
            <a:ext cx="327240" cy="83880"/>
            <a:chOff x="4979880" y="5051520"/>
            <a:chExt cx="327240" cy="83880"/>
          </a:xfrm>
        </p:grpSpPr>
        <p:sp>
          <p:nvSpPr>
            <p:cNvPr id="728" name="Straight Connector 19"/>
            <p:cNvSpPr/>
            <p:nvPr/>
          </p:nvSpPr>
          <p:spPr>
            <a:xfrm>
              <a:off x="4979880" y="5051520"/>
              <a:ext cx="327240" cy="83880"/>
            </a:xfrm>
            <a:prstGeom prst="line">
              <a:avLst/>
            </a:prstGeom>
            <a:ln cap="rnd" w="38160">
              <a:solidFill>
                <a:srgbClr val="c93a37"/>
              </a:solidFill>
              <a:miter/>
            </a:ln>
          </p:spPr>
          <p:style>
            <a:lnRef idx="0"/>
            <a:fillRef idx="0"/>
            <a:effectRef idx="0"/>
            <a:fontRef idx="minor"/>
          </p:style>
          <p:txBody>
            <a:bodyPr lIns="90000" rIns="90000" tIns="37080" bIns="37080" anchor="t">
              <a:noAutofit/>
            </a:bodyPr>
            <a:p>
              <a:endParaRPr b="0" lang="en-US" sz="1800" spc="-1" strike="noStrike">
                <a:solidFill>
                  <a:srgbClr val="00afff"/>
                </a:solidFill>
                <a:latin typeface="Arial"/>
              </a:endParaRPr>
            </a:p>
          </p:txBody>
        </p:sp>
        <p:grpSp>
          <p:nvGrpSpPr>
            <p:cNvPr id="729" name="Oval 24"/>
            <p:cNvGrpSpPr/>
            <p:nvPr/>
          </p:nvGrpSpPr>
          <p:grpSpPr>
            <a:xfrm>
              <a:off x="5083920" y="5065560"/>
              <a:ext cx="122040" cy="60840"/>
              <a:chOff x="5083920" y="5065560"/>
              <a:chExt cx="122040" cy="60840"/>
            </a:xfrm>
          </p:grpSpPr>
          <p:pic>
            <p:nvPicPr>
              <p:cNvPr id="730" name="Oval 24" descr=""/>
              <p:cNvPicPr/>
              <p:nvPr/>
            </p:nvPicPr>
            <p:blipFill>
              <a:blip r:embed="rId5"/>
              <a:stretch/>
            </p:blipFill>
            <p:spPr>
              <a:xfrm>
                <a:off x="5083920" y="5065560"/>
                <a:ext cx="122040" cy="60840"/>
              </a:xfrm>
              <a:prstGeom prst="rect">
                <a:avLst/>
              </a:prstGeom>
              <a:ln w="0">
                <a:noFill/>
              </a:ln>
            </p:spPr>
          </p:pic>
          <p:sp>
            <p:nvSpPr>
              <p:cNvPr id="731" name=""/>
              <p:cNvSpPr/>
              <p:nvPr/>
            </p:nvSpPr>
            <p:spPr>
              <a:xfrm rot="1215600">
                <a:off x="5103000" y="508356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73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3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34" name="Group 3"/>
          <p:cNvGrpSpPr/>
          <p:nvPr/>
        </p:nvGrpSpPr>
        <p:grpSpPr>
          <a:xfrm>
            <a:off x="5335200" y="5200560"/>
            <a:ext cx="72360" cy="66960"/>
            <a:chOff x="5335200" y="5200560"/>
            <a:chExt cx="72360" cy="66960"/>
          </a:xfrm>
        </p:grpSpPr>
        <p:sp>
          <p:nvSpPr>
            <p:cNvPr id="73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37" name="Group 85"/>
          <p:cNvGrpSpPr/>
          <p:nvPr/>
        </p:nvGrpSpPr>
        <p:grpSpPr>
          <a:xfrm>
            <a:off x="5439600" y="5217840"/>
            <a:ext cx="80280" cy="78480"/>
            <a:chOff x="5439600" y="5217840"/>
            <a:chExt cx="80280" cy="78480"/>
          </a:xfrm>
        </p:grpSpPr>
        <p:sp>
          <p:nvSpPr>
            <p:cNvPr id="73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3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42" name="Group 122"/>
          <p:cNvGrpSpPr/>
          <p:nvPr/>
        </p:nvGrpSpPr>
        <p:grpSpPr>
          <a:xfrm>
            <a:off x="4269960" y="5254920"/>
            <a:ext cx="69120" cy="61200"/>
            <a:chOff x="4269960" y="5254920"/>
            <a:chExt cx="69120" cy="61200"/>
          </a:xfrm>
        </p:grpSpPr>
        <p:sp>
          <p:nvSpPr>
            <p:cNvPr id="74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45" name="Group 119"/>
          <p:cNvGrpSpPr/>
          <p:nvPr/>
        </p:nvGrpSpPr>
        <p:grpSpPr>
          <a:xfrm>
            <a:off x="4435200" y="5235120"/>
            <a:ext cx="81000" cy="80640"/>
            <a:chOff x="4435200" y="5235120"/>
            <a:chExt cx="81000" cy="80640"/>
          </a:xfrm>
        </p:grpSpPr>
        <p:sp>
          <p:nvSpPr>
            <p:cNvPr id="74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4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48"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49" name="Oval 127"/>
          <p:cNvSpPr/>
          <p:nvPr/>
        </p:nvSpPr>
        <p:spPr>
          <a:xfrm rot="3619800">
            <a:off x="4604760" y="5187960"/>
            <a:ext cx="54000" cy="4140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0" name="Group 96"/>
          <p:cNvGrpSpPr/>
          <p:nvPr/>
        </p:nvGrpSpPr>
        <p:grpSpPr>
          <a:xfrm>
            <a:off x="4641480" y="5149440"/>
            <a:ext cx="78120" cy="74520"/>
            <a:chOff x="4641480" y="5149440"/>
            <a:chExt cx="78120" cy="74520"/>
          </a:xfrm>
        </p:grpSpPr>
        <p:sp>
          <p:nvSpPr>
            <p:cNvPr id="751" name="Oval 97"/>
            <p:cNvSpPr/>
            <p:nvPr/>
          </p:nvSpPr>
          <p:spPr>
            <a:xfrm rot="20118600">
              <a:off x="4649760" y="5159520"/>
              <a:ext cx="6120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2" name="Oval 100"/>
            <p:cNvSpPr/>
            <p:nvPr/>
          </p:nvSpPr>
          <p:spPr>
            <a:xfrm rot="20118600">
              <a:off x="4657320" y="519300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53" name="Group 88"/>
          <p:cNvGrpSpPr/>
          <p:nvPr/>
        </p:nvGrpSpPr>
        <p:grpSpPr>
          <a:xfrm>
            <a:off x="4680000" y="5218560"/>
            <a:ext cx="71280" cy="65520"/>
            <a:chOff x="4680000" y="5218560"/>
            <a:chExt cx="71280" cy="65520"/>
          </a:xfrm>
        </p:grpSpPr>
        <p:sp>
          <p:nvSpPr>
            <p:cNvPr id="754" name="Oval 89"/>
            <p:cNvSpPr/>
            <p:nvPr/>
          </p:nvSpPr>
          <p:spPr>
            <a:xfrm rot="714000">
              <a:off x="4685400" y="522396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5" name="Oval 92"/>
            <p:cNvSpPr/>
            <p:nvPr/>
          </p:nvSpPr>
          <p:spPr>
            <a:xfrm rot="714000">
              <a:off x="4681080" y="52592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56"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57" name="Oval 130"/>
          <p:cNvSpPr/>
          <p:nvPr/>
        </p:nvSpPr>
        <p:spPr>
          <a:xfrm rot="6540600">
            <a:off x="5193000" y="5247000"/>
            <a:ext cx="5220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58" name="Group 103"/>
          <p:cNvGrpSpPr/>
          <p:nvPr/>
        </p:nvGrpSpPr>
        <p:grpSpPr>
          <a:xfrm>
            <a:off x="5192280" y="5147640"/>
            <a:ext cx="78480" cy="73440"/>
            <a:chOff x="5192280" y="5147640"/>
            <a:chExt cx="78480" cy="73440"/>
          </a:xfrm>
        </p:grpSpPr>
        <p:sp>
          <p:nvSpPr>
            <p:cNvPr id="759" name="Oval 106"/>
            <p:cNvSpPr/>
            <p:nvPr/>
          </p:nvSpPr>
          <p:spPr>
            <a:xfrm rot="3874200">
              <a:off x="5205600" y="5153040"/>
              <a:ext cx="5184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0" name="Oval 107"/>
            <p:cNvSpPr/>
            <p:nvPr/>
          </p:nvSpPr>
          <p:spPr>
            <a:xfrm rot="3874200">
              <a:off x="5186520" y="51822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1" name="Group 138"/>
          <p:cNvGrpSpPr/>
          <p:nvPr/>
        </p:nvGrpSpPr>
        <p:grpSpPr>
          <a:xfrm>
            <a:off x="5110920" y="5182200"/>
            <a:ext cx="79560" cy="76680"/>
            <a:chOff x="5110920" y="5182200"/>
            <a:chExt cx="79560" cy="76680"/>
          </a:xfrm>
        </p:grpSpPr>
        <p:sp>
          <p:nvSpPr>
            <p:cNvPr id="762" name="Oval 139"/>
            <p:cNvSpPr/>
            <p:nvPr/>
          </p:nvSpPr>
          <p:spPr>
            <a:xfrm rot="19720800">
              <a:off x="5119920" y="5194080"/>
              <a:ext cx="61560" cy="52200"/>
            </a:xfrm>
            <a:prstGeom prst="ellipse">
              <a:avLst/>
            </a:prstGeom>
            <a:solidFill>
              <a:srgbClr val="ffeb00"/>
            </a:solidFill>
            <a:ln w="0">
              <a:noFill/>
            </a:ln>
          </p:spPr>
          <p:style>
            <a:lnRef idx="0"/>
            <a:fillRef idx="0"/>
            <a:effectRef idx="0"/>
            <a:fontRef idx="minor"/>
          </p:style>
          <p:txBody>
            <a:bodyPr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3" name="Oval 140"/>
            <p:cNvSpPr/>
            <p:nvPr/>
          </p:nvSpPr>
          <p:spPr>
            <a:xfrm rot="19720800">
              <a:off x="5128200" y="522576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64" name="Freeform 14342"/>
          <p:cNvSpPr/>
          <p:nvPr/>
        </p:nvSpPr>
        <p:spPr>
          <a:xfrm>
            <a:off x="4795920" y="5214960"/>
            <a:ext cx="317520" cy="8892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120" bIns="42120" anchor="ctr">
            <a:noAutofit/>
          </a:bodyPr>
          <a:p>
            <a:endParaRPr b="0" lang="en-US" sz="1800" spc="-1" strike="noStrike">
              <a:solidFill>
                <a:srgbClr val="00afff"/>
              </a:solidFill>
              <a:latin typeface="Arial"/>
            </a:endParaRPr>
          </a:p>
        </p:txBody>
      </p:sp>
      <p:sp>
        <p:nvSpPr>
          <p:cNvPr id="765" name="Oval 128"/>
          <p:cNvSpPr/>
          <p:nvPr/>
        </p:nvSpPr>
        <p:spPr>
          <a:xfrm rot="21028800">
            <a:off x="4927320" y="5259240"/>
            <a:ext cx="6192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66" name="Group 135"/>
          <p:cNvGrpSpPr/>
          <p:nvPr/>
        </p:nvGrpSpPr>
        <p:grpSpPr>
          <a:xfrm>
            <a:off x="5028480" y="5219280"/>
            <a:ext cx="73080" cy="65880"/>
            <a:chOff x="5028480" y="5219280"/>
            <a:chExt cx="73080" cy="65880"/>
          </a:xfrm>
        </p:grpSpPr>
        <p:sp>
          <p:nvSpPr>
            <p:cNvPr id="767" name="Oval 136"/>
            <p:cNvSpPr/>
            <p:nvPr/>
          </p:nvSpPr>
          <p:spPr>
            <a:xfrm rot="4513800">
              <a:off x="5038920" y="5221080"/>
              <a:ext cx="5184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68" name="Oval 137"/>
            <p:cNvSpPr/>
            <p:nvPr/>
          </p:nvSpPr>
          <p:spPr>
            <a:xfrm rot="4513800">
              <a:off x="5018760" y="5247000"/>
              <a:ext cx="518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69" name="Group 142"/>
          <p:cNvGrpSpPr/>
          <p:nvPr/>
        </p:nvGrpSpPr>
        <p:grpSpPr>
          <a:xfrm>
            <a:off x="4824360" y="5235840"/>
            <a:ext cx="73440" cy="69480"/>
            <a:chOff x="4824360" y="5235840"/>
            <a:chExt cx="73440" cy="69480"/>
          </a:xfrm>
        </p:grpSpPr>
        <p:sp>
          <p:nvSpPr>
            <p:cNvPr id="770" name="Oval 143"/>
            <p:cNvSpPr/>
            <p:nvPr/>
          </p:nvSpPr>
          <p:spPr>
            <a:xfrm rot="15135000">
              <a:off x="4834080" y="5240520"/>
              <a:ext cx="53640" cy="60120"/>
            </a:xfrm>
            <a:prstGeom prst="ellipse">
              <a:avLst/>
            </a:prstGeom>
            <a:solidFill>
              <a:srgbClr val="ffeb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1" name="Oval 144"/>
            <p:cNvSpPr/>
            <p:nvPr/>
          </p:nvSpPr>
          <p:spPr>
            <a:xfrm rot="15135000">
              <a:off x="4852080" y="5253840"/>
              <a:ext cx="5364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72"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773" name="Oval 131"/>
          <p:cNvSpPr/>
          <p:nvPr/>
        </p:nvSpPr>
        <p:spPr>
          <a:xfrm rot="21028800">
            <a:off x="4886280" y="5116680"/>
            <a:ext cx="61920" cy="3636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74" name="Group 93"/>
          <p:cNvGrpSpPr/>
          <p:nvPr/>
        </p:nvGrpSpPr>
        <p:grpSpPr>
          <a:xfrm>
            <a:off x="4801680" y="5166000"/>
            <a:ext cx="69120" cy="61200"/>
            <a:chOff x="4801680" y="5166000"/>
            <a:chExt cx="69120" cy="61200"/>
          </a:xfrm>
        </p:grpSpPr>
        <p:sp>
          <p:nvSpPr>
            <p:cNvPr id="775" name="Oval 94"/>
            <p:cNvSpPr/>
            <p:nvPr/>
          </p:nvSpPr>
          <p:spPr>
            <a:xfrm rot="10267200">
              <a:off x="4805280" y="517032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6" name="Oval 95"/>
            <p:cNvSpPr/>
            <p:nvPr/>
          </p:nvSpPr>
          <p:spPr>
            <a:xfrm rot="10267200">
              <a:off x="4802400" y="517032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777" name="Group 145"/>
          <p:cNvGrpSpPr/>
          <p:nvPr/>
        </p:nvGrpSpPr>
        <p:grpSpPr>
          <a:xfrm>
            <a:off x="4906440" y="5146560"/>
            <a:ext cx="82080" cy="80280"/>
            <a:chOff x="4906440" y="5146560"/>
            <a:chExt cx="82080" cy="80280"/>
          </a:xfrm>
        </p:grpSpPr>
        <p:sp>
          <p:nvSpPr>
            <p:cNvPr id="778" name="Oval 146"/>
            <p:cNvSpPr/>
            <p:nvPr/>
          </p:nvSpPr>
          <p:spPr>
            <a:xfrm rot="2343000">
              <a:off x="4917240" y="5159520"/>
              <a:ext cx="60840" cy="5400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79" name="Oval 147"/>
            <p:cNvSpPr/>
            <p:nvPr/>
          </p:nvSpPr>
          <p:spPr>
            <a:xfrm rot="2343000">
              <a:off x="4905000" y="519156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80"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1" name="Straight Connector 172"/>
          <p:cNvSpPr/>
          <p:nvPr/>
        </p:nvSpPr>
        <p:spPr>
          <a:xfrm>
            <a:off x="5715000" y="5257800"/>
            <a:ext cx="2895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2"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3"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4"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5"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6"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787" name="Group 14338"/>
          <p:cNvGrpSpPr/>
          <p:nvPr/>
        </p:nvGrpSpPr>
        <p:grpSpPr>
          <a:xfrm>
            <a:off x="533520" y="3048120"/>
            <a:ext cx="8076960" cy="457200"/>
            <a:chOff x="533520" y="3048120"/>
            <a:chExt cx="8076960" cy="457200"/>
          </a:xfrm>
        </p:grpSpPr>
        <p:sp>
          <p:nvSpPr>
            <p:cNvPr id="788"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89"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0"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1"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2"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793"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794"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5"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96" name="TextBox 108"/>
          <p:cNvSpPr/>
          <p:nvPr/>
        </p:nvSpPr>
        <p:spPr>
          <a:xfrm>
            <a:off x="918720" y="243828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umen</a:t>
            </a:r>
            <a:endParaRPr b="0" lang="en-US" sz="1600" spc="-1" strike="noStrike">
              <a:solidFill>
                <a:srgbClr val="00afff"/>
              </a:solidFill>
              <a:latin typeface="Arial"/>
            </a:endParaRPr>
          </a:p>
        </p:txBody>
      </p:sp>
      <p:cxnSp>
        <p:nvCxnSpPr>
          <p:cNvPr id="797" name="Straight Arrow Connector 195"/>
          <p:cNvCxnSpPr/>
          <p:nvPr/>
        </p:nvCxnSpPr>
        <p:spPr>
          <a:xfrm>
            <a:off x="1447920" y="2742840"/>
            <a:ext cx="1372320" cy="1067400"/>
          </a:xfrm>
          <a:prstGeom prst="straightConnector1">
            <a:avLst/>
          </a:prstGeom>
          <a:ln w="19080">
            <a:solidFill>
              <a:srgbClr val="00afff"/>
            </a:solidFill>
            <a:miter/>
            <a:tailEnd len="med" type="arrow" w="med"/>
          </a:ln>
        </p:spPr>
      </p:cxnSp>
      <p:sp>
        <p:nvSpPr>
          <p:cNvPr id="798" name="TextBox 108"/>
          <p:cNvSpPr/>
          <p:nvPr/>
        </p:nvSpPr>
        <p:spPr>
          <a:xfrm>
            <a:off x="2825280" y="6095880"/>
            <a:ext cx="109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foam cells</a:t>
            </a:r>
            <a:endParaRPr b="0" lang="en-US" sz="1600" spc="-1" strike="noStrike">
              <a:solidFill>
                <a:srgbClr val="00afff"/>
              </a:solidFill>
              <a:latin typeface="Arial"/>
            </a:endParaRPr>
          </a:p>
        </p:txBody>
      </p:sp>
      <p:cxnSp>
        <p:nvCxnSpPr>
          <p:cNvPr id="799" name="Straight Arrow Connector 197"/>
          <p:cNvCxnSpPr>
            <a:stCxn id="798" idx="3"/>
            <a:endCxn id="748" idx="23"/>
          </p:cNvCxnSpPr>
          <p:nvPr/>
        </p:nvCxnSpPr>
        <p:spPr>
          <a:xfrm flipV="1">
            <a:off x="3927240" y="5299920"/>
            <a:ext cx="835560" cy="965880"/>
          </a:xfrm>
          <a:prstGeom prst="straightConnector1">
            <a:avLst/>
          </a:prstGeom>
          <a:ln w="19080">
            <a:solidFill>
              <a:srgbClr val="00afff"/>
            </a:solidFill>
            <a:miter/>
            <a:tailEnd len="med" type="arrow" w="med"/>
          </a:ln>
        </p:spPr>
      </p:cxnSp>
      <p:sp>
        <p:nvSpPr>
          <p:cNvPr id="800" name="TextBox 108"/>
          <p:cNvSpPr/>
          <p:nvPr/>
        </p:nvSpPr>
        <p:spPr>
          <a:xfrm>
            <a:off x="3517560" y="2514600"/>
            <a:ext cx="217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a:t>
            </a:r>
            <a:endParaRPr b="0" lang="en-US" sz="1600" spc="-1" strike="noStrike">
              <a:solidFill>
                <a:srgbClr val="00afff"/>
              </a:solidFill>
              <a:latin typeface="Arial"/>
            </a:endParaRPr>
          </a:p>
        </p:txBody>
      </p:sp>
      <p:sp>
        <p:nvSpPr>
          <p:cNvPr id="801" name="TextBox 108"/>
          <p:cNvSpPr/>
          <p:nvPr/>
        </p:nvSpPr>
        <p:spPr>
          <a:xfrm>
            <a:off x="3974760" y="4038480"/>
            <a:ext cx="187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narrowing of artery</a:t>
            </a:r>
            <a:endParaRPr b="0" lang="en-US" sz="1600" spc="-1" strike="noStrike">
              <a:solidFill>
                <a:srgbClr val="00afff"/>
              </a:solidFill>
              <a:latin typeface="Arial"/>
            </a:endParaRPr>
          </a:p>
        </p:txBody>
      </p:sp>
      <p:cxnSp>
        <p:nvCxnSpPr>
          <p:cNvPr id="802" name="Straight Arrow Connector 201"/>
          <p:cNvCxnSpPr/>
          <p:nvPr/>
        </p:nvCxnSpPr>
        <p:spPr>
          <a:xfrm>
            <a:off x="5028840" y="4343040"/>
            <a:ext cx="1080" cy="686520"/>
          </a:xfrm>
          <a:prstGeom prst="straightConnector1">
            <a:avLst/>
          </a:prstGeom>
          <a:ln w="19080">
            <a:solidFill>
              <a:srgbClr val="00afff"/>
            </a:solidFill>
            <a:miter/>
            <a:tailEnd len="med" type="arrow" w="med"/>
          </a:ln>
        </p:spPr>
      </p:cxnSp>
      <p:cxnSp>
        <p:nvCxnSpPr>
          <p:cNvPr id="803" name="Straight Arrow Connector 202"/>
          <p:cNvCxnSpPr/>
          <p:nvPr/>
        </p:nvCxnSpPr>
        <p:spPr>
          <a:xfrm flipV="1">
            <a:off x="5028840" y="3657240"/>
            <a:ext cx="1080" cy="457920"/>
          </a:xfrm>
          <a:prstGeom prst="straightConnector1">
            <a:avLst/>
          </a:prstGeom>
          <a:ln w="19080">
            <a:solidFill>
              <a:srgbClr val="00afff"/>
            </a:solidFill>
            <a:miter/>
            <a:tailEnd len="med" type="arrow" w="med"/>
          </a:ln>
        </p:spPr>
      </p:cxnSp>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1">
                                  <p:stCondLst>
                                    <p:cond delay="0"/>
                                  </p:stCondLst>
                                  <p:childTnLst>
                                    <p:set>
                                      <p:cBhvr>
                                        <p:cTn id="65" dur="1" fill="hold">
                                          <p:stCondLst>
                                            <p:cond delay="0"/>
                                          </p:stCondLst>
                                        </p:cTn>
                                        <p:tgtEl>
                                          <p:spTgt spid="6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ounded Rectangle 192"/>
          <p:cNvSpPr/>
          <p:nvPr/>
        </p:nvSpPr>
        <p:spPr>
          <a:xfrm>
            <a:off x="457200" y="3048120"/>
            <a:ext cx="8229600" cy="53316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5" name="Rounded Rectangle 185"/>
          <p:cNvSpPr/>
          <p:nvPr/>
        </p:nvSpPr>
        <p:spPr>
          <a:xfrm>
            <a:off x="457200" y="3581280"/>
            <a:ext cx="8229600" cy="1676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6" name="Rounded Rectangle 14337"/>
          <p:cNvSpPr/>
          <p:nvPr/>
        </p:nvSpPr>
        <p:spPr>
          <a:xfrm>
            <a:off x="457200" y="5257800"/>
            <a:ext cx="8229600" cy="533520"/>
          </a:xfrm>
          <a:prstGeom prst="roundRect">
            <a:avLst>
              <a:gd name="adj" fmla="val 16667"/>
            </a:avLst>
          </a:prstGeom>
          <a:solidFill>
            <a:srgbClr val="c93a37"/>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07"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smooth muscles near the damage produce collagen (a fibrous protein) that forms a dense layer around the foam cells. At this point, the whole mass is a called a </a:t>
            </a:r>
            <a:r>
              <a:rPr b="0" lang="en-US" sz="2600" spc="-1" strike="noStrike" u="sng">
                <a:solidFill>
                  <a:srgbClr val="00afff"/>
                </a:solidFill>
                <a:uFillTx/>
                <a:latin typeface="Arial"/>
              </a:rPr>
              <a:t>plaque</a:t>
            </a:r>
            <a:r>
              <a:rPr b="0" lang="en-US" sz="2600" spc="-1" strike="noStrike">
                <a:solidFill>
                  <a:srgbClr val="00afff"/>
                </a:solidFill>
                <a:latin typeface="Arial"/>
              </a:rPr>
              <a:t>, often referred to as “hardened arteries”. </a:t>
            </a:r>
            <a:endParaRPr b="0" lang="en-US" sz="2600" spc="-1" strike="noStrike">
              <a:solidFill>
                <a:srgbClr val="00afff"/>
              </a:solidFill>
              <a:latin typeface="Arial"/>
            </a:endParaRPr>
          </a:p>
        </p:txBody>
      </p:sp>
      <p:sp>
        <p:nvSpPr>
          <p:cNvPr id="808" name="Straight Connector 81"/>
          <p:cNvSpPr/>
          <p:nvPr/>
        </p:nvSpPr>
        <p:spPr>
          <a:xfrm>
            <a:off x="5292720" y="5130720"/>
            <a:ext cx="414360" cy="13824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809" name="Straight Connector 2"/>
          <p:cNvSpPr/>
          <p:nvPr/>
        </p:nvSpPr>
        <p:spPr>
          <a:xfrm flipV="1">
            <a:off x="3622680" y="5181480"/>
            <a:ext cx="415800" cy="84240"/>
          </a:xfrm>
          <a:prstGeom prst="line">
            <a:avLst/>
          </a:prstGeom>
          <a:ln cap="rnd" w="38160">
            <a:solidFill>
              <a:srgbClr val="c93a37"/>
            </a:solidFill>
            <a:miter/>
          </a:ln>
        </p:spPr>
        <p:style>
          <a:lnRef idx="0"/>
          <a:fillRef idx="0"/>
          <a:effectRef idx="0"/>
          <a:fontRef idx="minor"/>
        </p:style>
        <p:txBody>
          <a:bodyPr lIns="90000" rIns="90000" tIns="37440" bIns="37440" anchor="t">
            <a:noAutofit/>
          </a:bodyPr>
          <a:p>
            <a:endParaRPr b="0" lang="en-US" sz="1800" spc="-1" strike="noStrike">
              <a:solidFill>
                <a:srgbClr val="00afff"/>
              </a:solidFill>
              <a:latin typeface="Arial"/>
            </a:endParaRPr>
          </a:p>
        </p:txBody>
      </p:sp>
      <p:grpSp>
        <p:nvGrpSpPr>
          <p:cNvPr id="810" name="Group 11"/>
          <p:cNvGrpSpPr/>
          <p:nvPr/>
        </p:nvGrpSpPr>
        <p:grpSpPr>
          <a:xfrm>
            <a:off x="5568840" y="5105160"/>
            <a:ext cx="362160" cy="136800"/>
            <a:chOff x="5568840" y="5105160"/>
            <a:chExt cx="362160" cy="136800"/>
          </a:xfrm>
        </p:grpSpPr>
        <p:sp>
          <p:nvSpPr>
            <p:cNvPr id="811" name="Straight Connector 18"/>
            <p:cNvSpPr/>
            <p:nvPr/>
          </p:nvSpPr>
          <p:spPr>
            <a:xfrm>
              <a:off x="5568840" y="5105160"/>
              <a:ext cx="36216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12" name="Oval 8"/>
            <p:cNvGrpSpPr/>
            <p:nvPr/>
          </p:nvGrpSpPr>
          <p:grpSpPr>
            <a:xfrm>
              <a:off x="5693400" y="5145120"/>
              <a:ext cx="122040" cy="54720"/>
              <a:chOff x="5693400" y="5145120"/>
              <a:chExt cx="122040" cy="54720"/>
            </a:xfrm>
          </p:grpSpPr>
          <p:pic>
            <p:nvPicPr>
              <p:cNvPr id="813" name="Oval 8" descr=""/>
              <p:cNvPicPr/>
              <p:nvPr/>
            </p:nvPicPr>
            <p:blipFill>
              <a:blip r:embed="rId1"/>
              <a:stretch/>
            </p:blipFill>
            <p:spPr>
              <a:xfrm rot="21599400">
                <a:off x="5693400" y="5144760"/>
                <a:ext cx="122040" cy="54720"/>
              </a:xfrm>
              <a:prstGeom prst="rect">
                <a:avLst/>
              </a:prstGeom>
              <a:ln w="0">
                <a:noFill/>
              </a:ln>
            </p:spPr>
          </p:pic>
          <p:sp>
            <p:nvSpPr>
              <p:cNvPr id="814" name=""/>
              <p:cNvSpPr/>
              <p:nvPr/>
            </p:nvSpPr>
            <p:spPr>
              <a:xfrm rot="1148400">
                <a:off x="5709240" y="515916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15" name="Group 4"/>
          <p:cNvGrpSpPr/>
          <p:nvPr/>
        </p:nvGrpSpPr>
        <p:grpSpPr>
          <a:xfrm>
            <a:off x="4421160" y="4966920"/>
            <a:ext cx="314280" cy="64080"/>
            <a:chOff x="4421160" y="4966920"/>
            <a:chExt cx="314280" cy="64080"/>
          </a:xfrm>
        </p:grpSpPr>
        <p:sp>
          <p:nvSpPr>
            <p:cNvPr id="816" name="Straight Connector 20"/>
            <p:cNvSpPr/>
            <p:nvPr/>
          </p:nvSpPr>
          <p:spPr>
            <a:xfrm flipV="1">
              <a:off x="4421160" y="4966920"/>
              <a:ext cx="314280" cy="64080"/>
            </a:xfrm>
            <a:prstGeom prst="line">
              <a:avLst/>
            </a:prstGeom>
            <a:ln cap="rnd" w="38160">
              <a:solidFill>
                <a:srgbClr val="c93a37"/>
              </a:solidFill>
              <a:miter/>
            </a:ln>
          </p:spPr>
          <p:style>
            <a:lnRef idx="0"/>
            <a:fillRef idx="0"/>
            <a:effectRef idx="0"/>
            <a:fontRef idx="minor"/>
          </p:style>
          <p:txBody>
            <a:bodyPr lIns="90000" rIns="90000" tIns="17280" bIns="17280" anchor="t">
              <a:noAutofit/>
            </a:bodyPr>
            <a:p>
              <a:endParaRPr b="0" lang="en-US" sz="1800" spc="-1" strike="noStrike">
                <a:solidFill>
                  <a:srgbClr val="00afff"/>
                </a:solidFill>
                <a:latin typeface="Arial"/>
              </a:endParaRPr>
            </a:p>
          </p:txBody>
        </p:sp>
        <p:grpSp>
          <p:nvGrpSpPr>
            <p:cNvPr id="817" name="Oval 25"/>
            <p:cNvGrpSpPr/>
            <p:nvPr/>
          </p:nvGrpSpPr>
          <p:grpSpPr>
            <a:xfrm>
              <a:off x="4529160" y="4974120"/>
              <a:ext cx="127800" cy="48600"/>
              <a:chOff x="4529160" y="4974120"/>
              <a:chExt cx="127800" cy="48600"/>
            </a:xfrm>
          </p:grpSpPr>
          <p:pic>
            <p:nvPicPr>
              <p:cNvPr id="818" name="Oval 25" descr=""/>
              <p:cNvPicPr/>
              <p:nvPr/>
            </p:nvPicPr>
            <p:blipFill>
              <a:blip r:embed="rId2"/>
              <a:stretch/>
            </p:blipFill>
            <p:spPr>
              <a:xfrm rot="21599400">
                <a:off x="4529160" y="4973760"/>
                <a:ext cx="127800" cy="48600"/>
              </a:xfrm>
              <a:prstGeom prst="rect">
                <a:avLst/>
              </a:prstGeom>
              <a:ln w="0">
                <a:noFill/>
              </a:ln>
            </p:spPr>
          </p:pic>
          <p:sp>
            <p:nvSpPr>
              <p:cNvPr id="819" name=""/>
              <p:cNvSpPr/>
              <p:nvPr/>
            </p:nvSpPr>
            <p:spPr>
              <a:xfrm rot="21024600">
                <a:off x="4550400" y="4986720"/>
                <a:ext cx="8676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0" name="Group 6"/>
          <p:cNvGrpSpPr/>
          <p:nvPr/>
        </p:nvGrpSpPr>
        <p:grpSpPr>
          <a:xfrm>
            <a:off x="4052520" y="5029560"/>
            <a:ext cx="349920" cy="138960"/>
            <a:chOff x="4052520" y="5029560"/>
            <a:chExt cx="349920" cy="138960"/>
          </a:xfrm>
        </p:grpSpPr>
        <p:sp>
          <p:nvSpPr>
            <p:cNvPr id="821" name="Straight Connector 21"/>
            <p:cNvSpPr/>
            <p:nvPr/>
          </p:nvSpPr>
          <p:spPr>
            <a:xfrm flipV="1">
              <a:off x="4052520" y="5029560"/>
              <a:ext cx="349920" cy="13896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822" name="Oval 26"/>
            <p:cNvGrpSpPr/>
            <p:nvPr/>
          </p:nvGrpSpPr>
          <p:grpSpPr>
            <a:xfrm>
              <a:off x="4151160" y="5077440"/>
              <a:ext cx="121680" cy="65520"/>
              <a:chOff x="4151160" y="5077440"/>
              <a:chExt cx="121680" cy="65520"/>
            </a:xfrm>
          </p:grpSpPr>
          <p:pic>
            <p:nvPicPr>
              <p:cNvPr id="823" name="Oval 26" descr=""/>
              <p:cNvPicPr/>
              <p:nvPr/>
            </p:nvPicPr>
            <p:blipFill>
              <a:blip r:embed="rId3"/>
              <a:stretch/>
            </p:blipFill>
            <p:spPr>
              <a:xfrm rot="21599400">
                <a:off x="4151160" y="5077080"/>
                <a:ext cx="121680" cy="65520"/>
              </a:xfrm>
              <a:prstGeom prst="rect">
                <a:avLst/>
              </a:prstGeom>
              <a:ln w="0">
                <a:noFill/>
              </a:ln>
            </p:spPr>
          </p:pic>
          <p:sp>
            <p:nvSpPr>
              <p:cNvPr id="824" name=""/>
              <p:cNvSpPr/>
              <p:nvPr/>
            </p:nvSpPr>
            <p:spPr>
              <a:xfrm rot="20136000">
                <a:off x="4168080" y="5096880"/>
                <a:ext cx="86760" cy="24480"/>
              </a:xfrm>
              <a:prstGeom prst="rect">
                <a:avLst/>
              </a:prstGeom>
              <a:noFill/>
              <a:ln w="0">
                <a:noFill/>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25" name="Oval 27"/>
          <p:cNvGrpSpPr/>
          <p:nvPr/>
        </p:nvGrpSpPr>
        <p:grpSpPr>
          <a:xfrm>
            <a:off x="3809880" y="5187960"/>
            <a:ext cx="128880" cy="54000"/>
            <a:chOff x="3809880" y="5187960"/>
            <a:chExt cx="128880" cy="54000"/>
          </a:xfrm>
        </p:grpSpPr>
        <p:pic>
          <p:nvPicPr>
            <p:cNvPr id="826" name="Oval 27" descr=""/>
            <p:cNvPicPr/>
            <p:nvPr/>
          </p:nvPicPr>
          <p:blipFill>
            <a:blip r:embed="rId4"/>
            <a:stretch/>
          </p:blipFill>
          <p:spPr>
            <a:xfrm>
              <a:off x="3809880" y="5187960"/>
              <a:ext cx="128880" cy="54000"/>
            </a:xfrm>
            <a:prstGeom prst="rect">
              <a:avLst/>
            </a:prstGeom>
            <a:ln w="0">
              <a:noFill/>
            </a:ln>
          </p:spPr>
        </p:pic>
        <p:sp>
          <p:nvSpPr>
            <p:cNvPr id="827" name=""/>
            <p:cNvSpPr/>
            <p:nvPr/>
          </p:nvSpPr>
          <p:spPr>
            <a:xfrm rot="10343400">
              <a:off x="3830400" y="5195520"/>
              <a:ext cx="87120" cy="33480"/>
            </a:xfrm>
            <a:prstGeom prst="rect">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28" name="Arc 29"/>
          <p:cNvSpPr/>
          <p:nvPr/>
        </p:nvSpPr>
        <p:spPr>
          <a:xfrm rot="20593800">
            <a:off x="376992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29" name="Arc 30"/>
          <p:cNvSpPr/>
          <p:nvPr/>
        </p:nvSpPr>
        <p:spPr>
          <a:xfrm rot="20593800">
            <a:off x="3916080" y="5344920"/>
            <a:ext cx="65412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0" name="Arc 31"/>
          <p:cNvSpPr/>
          <p:nvPr/>
        </p:nvSpPr>
        <p:spPr>
          <a:xfrm rot="20593800">
            <a:off x="400176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1" name="Arc 32"/>
          <p:cNvSpPr/>
          <p:nvPr/>
        </p:nvSpPr>
        <p:spPr>
          <a:xfrm rot="20593800">
            <a:off x="3981240" y="5371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2" name="Arc 33"/>
          <p:cNvSpPr/>
          <p:nvPr/>
        </p:nvSpPr>
        <p:spPr>
          <a:xfrm rot="20593800">
            <a:off x="4136760" y="5349600"/>
            <a:ext cx="6541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3" name="Arc 34"/>
          <p:cNvSpPr/>
          <p:nvPr/>
        </p:nvSpPr>
        <p:spPr>
          <a:xfrm rot="20593800">
            <a:off x="4255560" y="5346360"/>
            <a:ext cx="6541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4" name="Arc 35"/>
          <p:cNvSpPr/>
          <p:nvPr/>
        </p:nvSpPr>
        <p:spPr>
          <a:xfrm rot="20593800">
            <a:off x="447012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5" name="Arc 36"/>
          <p:cNvSpPr/>
          <p:nvPr/>
        </p:nvSpPr>
        <p:spPr>
          <a:xfrm rot="20593800">
            <a:off x="459720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6" name="Arc 37"/>
          <p:cNvSpPr/>
          <p:nvPr/>
        </p:nvSpPr>
        <p:spPr>
          <a:xfrm rot="20593800">
            <a:off x="46861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7" name="Arc 38"/>
          <p:cNvSpPr/>
          <p:nvPr/>
        </p:nvSpPr>
        <p:spPr>
          <a:xfrm rot="20593800">
            <a:off x="4814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8" name="Arc 39"/>
          <p:cNvSpPr/>
          <p:nvPr/>
        </p:nvSpPr>
        <p:spPr>
          <a:xfrm rot="20593800">
            <a:off x="4885920" y="53622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39" name="Arc 40"/>
          <p:cNvSpPr/>
          <p:nvPr/>
        </p:nvSpPr>
        <p:spPr>
          <a:xfrm>
            <a:off x="5068800" y="53053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0" name="Arc 41"/>
          <p:cNvSpPr/>
          <p:nvPr/>
        </p:nvSpPr>
        <p:spPr>
          <a:xfrm rot="20593800">
            <a:off x="5095440" y="534492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1" name="Arc 43"/>
          <p:cNvSpPr/>
          <p:nvPr/>
        </p:nvSpPr>
        <p:spPr>
          <a:xfrm rot="20593800">
            <a:off x="3428640" y="534636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2" name="Arc 44"/>
          <p:cNvSpPr/>
          <p:nvPr/>
        </p:nvSpPr>
        <p:spPr>
          <a:xfrm rot="20593800">
            <a:off x="4541400" y="53589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3" name="Arc 45"/>
          <p:cNvSpPr/>
          <p:nvPr/>
        </p:nvSpPr>
        <p:spPr>
          <a:xfrm rot="20593800">
            <a:off x="433368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4" name="Arc 46"/>
          <p:cNvSpPr/>
          <p:nvPr/>
        </p:nvSpPr>
        <p:spPr>
          <a:xfrm rot="9830400">
            <a:off x="362376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5" name="Arc 47"/>
          <p:cNvSpPr/>
          <p:nvPr/>
        </p:nvSpPr>
        <p:spPr>
          <a:xfrm rot="20593800">
            <a:off x="3551040" y="53496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6" name="Arc 48"/>
          <p:cNvSpPr/>
          <p:nvPr/>
        </p:nvSpPr>
        <p:spPr>
          <a:xfrm rot="20593800">
            <a:off x="3676320" y="5344920"/>
            <a:ext cx="655560" cy="1234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7" name="Arc 49"/>
          <p:cNvSpPr/>
          <p:nvPr/>
        </p:nvSpPr>
        <p:spPr>
          <a:xfrm rot="9830400">
            <a:off x="484596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8" name="Arc 50"/>
          <p:cNvSpPr/>
          <p:nvPr/>
        </p:nvSpPr>
        <p:spPr>
          <a:xfrm rot="9830400">
            <a:off x="500364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49" name="Arc 51"/>
          <p:cNvSpPr/>
          <p:nvPr/>
        </p:nvSpPr>
        <p:spPr>
          <a:xfrm rot="9830400">
            <a:off x="502848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0" name="Arc 52"/>
          <p:cNvSpPr/>
          <p:nvPr/>
        </p:nvSpPr>
        <p:spPr>
          <a:xfrm rot="9830400">
            <a:off x="5211000" y="518436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1" name="Arc 53"/>
          <p:cNvSpPr/>
          <p:nvPr/>
        </p:nvSpPr>
        <p:spPr>
          <a:xfrm rot="9830400">
            <a:off x="5363640" y="5184360"/>
            <a:ext cx="65592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2" name="Arc 54"/>
          <p:cNvSpPr/>
          <p:nvPr/>
        </p:nvSpPr>
        <p:spPr>
          <a:xfrm rot="9830400">
            <a:off x="3678120" y="518796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3" name="Arc 55"/>
          <p:cNvSpPr/>
          <p:nvPr/>
        </p:nvSpPr>
        <p:spPr>
          <a:xfrm rot="9830400">
            <a:off x="4717800" y="51847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4" name="Arc 56"/>
          <p:cNvSpPr/>
          <p:nvPr/>
        </p:nvSpPr>
        <p:spPr>
          <a:xfrm rot="10286400">
            <a:off x="3616200" y="5190840"/>
            <a:ext cx="65592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5" name="Arc 57"/>
          <p:cNvSpPr/>
          <p:nvPr/>
        </p:nvSpPr>
        <p:spPr>
          <a:xfrm rot="9830400">
            <a:off x="3733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6" name="Arc 58"/>
          <p:cNvSpPr/>
          <p:nvPr/>
        </p:nvSpPr>
        <p:spPr>
          <a:xfrm rot="9830400">
            <a:off x="3831840" y="519588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7" name="Arc 59"/>
          <p:cNvSpPr/>
          <p:nvPr/>
        </p:nvSpPr>
        <p:spPr>
          <a:xfrm rot="9830400">
            <a:off x="3926880" y="5200200"/>
            <a:ext cx="655560" cy="1256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8" name="Arc 60"/>
          <p:cNvSpPr/>
          <p:nvPr/>
        </p:nvSpPr>
        <p:spPr>
          <a:xfrm rot="9830400">
            <a:off x="4070160" y="520524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59" name="Arc 61"/>
          <p:cNvSpPr/>
          <p:nvPr/>
        </p:nvSpPr>
        <p:spPr>
          <a:xfrm rot="9830400">
            <a:off x="4122360" y="520380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0" name="Arc 62"/>
          <p:cNvSpPr/>
          <p:nvPr/>
        </p:nvSpPr>
        <p:spPr>
          <a:xfrm rot="9830400">
            <a:off x="4186080" y="519588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1" name="Arc 63"/>
          <p:cNvSpPr/>
          <p:nvPr/>
        </p:nvSpPr>
        <p:spPr>
          <a:xfrm rot="9830400">
            <a:off x="438264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2" name="Arc 64"/>
          <p:cNvSpPr/>
          <p:nvPr/>
        </p:nvSpPr>
        <p:spPr>
          <a:xfrm rot="9830400">
            <a:off x="4520520" y="519120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3" name="Arc 65"/>
          <p:cNvSpPr/>
          <p:nvPr/>
        </p:nvSpPr>
        <p:spPr>
          <a:xfrm rot="9830400">
            <a:off x="4552560" y="5199120"/>
            <a:ext cx="65556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4" name="Arc 66"/>
          <p:cNvSpPr/>
          <p:nvPr/>
        </p:nvSpPr>
        <p:spPr>
          <a:xfrm rot="9830400">
            <a:off x="4662360" y="5203800"/>
            <a:ext cx="655920" cy="12384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5" name="Arc 67"/>
          <p:cNvSpPr/>
          <p:nvPr/>
        </p:nvSpPr>
        <p:spPr>
          <a:xfrm rot="9830400">
            <a:off x="4804560" y="5207040"/>
            <a:ext cx="655560" cy="12528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66" name="Arc 68"/>
          <p:cNvSpPr/>
          <p:nvPr/>
        </p:nvSpPr>
        <p:spPr>
          <a:xfrm flipH="1" rot="11769600">
            <a:off x="5092920" y="5195520"/>
            <a:ext cx="655560" cy="12420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867" name="Group 14335"/>
          <p:cNvGrpSpPr/>
          <p:nvPr/>
        </p:nvGrpSpPr>
        <p:grpSpPr>
          <a:xfrm>
            <a:off x="4799880" y="4943880"/>
            <a:ext cx="339480" cy="42480"/>
            <a:chOff x="4799880" y="4943880"/>
            <a:chExt cx="339480" cy="42480"/>
          </a:xfrm>
        </p:grpSpPr>
        <p:sp>
          <p:nvSpPr>
            <p:cNvPr id="868" name="Straight Connector 19"/>
            <p:cNvSpPr/>
            <p:nvPr/>
          </p:nvSpPr>
          <p:spPr>
            <a:xfrm flipV="1">
              <a:off x="4799880" y="4958640"/>
              <a:ext cx="339480" cy="7920"/>
            </a:xfrm>
            <a:prstGeom prst="line">
              <a:avLst/>
            </a:prstGeom>
            <a:ln cap="rnd" w="38160">
              <a:solidFill>
                <a:srgbClr val="c93a37"/>
              </a:solidFill>
              <a:miter/>
            </a:ln>
          </p:spPr>
          <p:style>
            <a:lnRef idx="0"/>
            <a:fillRef idx="0"/>
            <a:effectRef idx="0"/>
            <a:fontRef idx="minor"/>
          </p:style>
          <p:txBody>
            <a:bodyPr lIns="90000" rIns="90000" tIns="-38880" bIns="-38880" anchor="t">
              <a:noAutofit/>
            </a:bodyPr>
            <a:p>
              <a:endParaRPr b="0" lang="en-US" sz="1800" spc="-1" strike="noStrike">
                <a:solidFill>
                  <a:srgbClr val="00afff"/>
                </a:solidFill>
                <a:latin typeface="Arial"/>
              </a:endParaRPr>
            </a:p>
          </p:txBody>
        </p:sp>
        <p:grpSp>
          <p:nvGrpSpPr>
            <p:cNvPr id="869" name="Oval 24"/>
            <p:cNvGrpSpPr/>
            <p:nvPr/>
          </p:nvGrpSpPr>
          <p:grpSpPr>
            <a:xfrm>
              <a:off x="4907160" y="4943880"/>
              <a:ext cx="128160" cy="42480"/>
              <a:chOff x="4907160" y="4943880"/>
              <a:chExt cx="128160" cy="42480"/>
            </a:xfrm>
          </p:grpSpPr>
          <p:pic>
            <p:nvPicPr>
              <p:cNvPr id="870" name="Oval 24" descr=""/>
              <p:cNvPicPr/>
              <p:nvPr/>
            </p:nvPicPr>
            <p:blipFill>
              <a:blip r:embed="rId5"/>
              <a:stretch/>
            </p:blipFill>
            <p:spPr>
              <a:xfrm rot="21599400">
                <a:off x="4907160" y="4943520"/>
                <a:ext cx="128160" cy="42480"/>
              </a:xfrm>
              <a:prstGeom prst="rect">
                <a:avLst/>
              </a:prstGeom>
              <a:ln w="0">
                <a:noFill/>
              </a:ln>
            </p:spPr>
          </p:pic>
          <p:sp>
            <p:nvSpPr>
              <p:cNvPr id="871" name=""/>
              <p:cNvSpPr/>
              <p:nvPr/>
            </p:nvSpPr>
            <p:spPr>
              <a:xfrm rot="258600">
                <a:off x="4929840" y="4951080"/>
                <a:ext cx="87120" cy="25200"/>
              </a:xfrm>
              <a:prstGeom prst="rect">
                <a:avLst/>
              </a:prstGeom>
              <a:no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872" name="Freeform 14339"/>
          <p:cNvSpPr/>
          <p:nvPr/>
        </p:nvSpPr>
        <p:spPr>
          <a:xfrm>
            <a:off x="5243400" y="5192640"/>
            <a:ext cx="36828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73" name="Oval 5"/>
          <p:cNvSpPr/>
          <p:nvPr/>
        </p:nvSpPr>
        <p:spPr>
          <a:xfrm rot="21028800">
            <a:off x="5275080" y="5241960"/>
            <a:ext cx="6156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74" name="Group 3"/>
          <p:cNvGrpSpPr/>
          <p:nvPr/>
        </p:nvGrpSpPr>
        <p:grpSpPr>
          <a:xfrm>
            <a:off x="5335200" y="5200560"/>
            <a:ext cx="72360" cy="66960"/>
            <a:chOff x="5335200" y="5200560"/>
            <a:chExt cx="72360" cy="66960"/>
          </a:xfrm>
        </p:grpSpPr>
        <p:sp>
          <p:nvSpPr>
            <p:cNvPr id="875" name="Oval 1"/>
            <p:cNvSpPr/>
            <p:nvPr/>
          </p:nvSpPr>
          <p:spPr>
            <a:xfrm rot="6220800">
              <a:off x="5344920" y="520380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6" name="Oval 79"/>
            <p:cNvSpPr/>
            <p:nvPr/>
          </p:nvSpPr>
          <p:spPr>
            <a:xfrm rot="6220800">
              <a:off x="5324400" y="521820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77" name="Group 85"/>
          <p:cNvGrpSpPr/>
          <p:nvPr/>
        </p:nvGrpSpPr>
        <p:grpSpPr>
          <a:xfrm>
            <a:off x="5439600" y="5217840"/>
            <a:ext cx="80280" cy="78480"/>
            <a:chOff x="5439600" y="5217840"/>
            <a:chExt cx="80280" cy="78480"/>
          </a:xfrm>
        </p:grpSpPr>
        <p:sp>
          <p:nvSpPr>
            <p:cNvPr id="878" name="Oval 86"/>
            <p:cNvSpPr/>
            <p:nvPr/>
          </p:nvSpPr>
          <p:spPr>
            <a:xfrm rot="14096400">
              <a:off x="5453640" y="5226480"/>
              <a:ext cx="51480" cy="61920"/>
            </a:xfrm>
            <a:prstGeom prst="ellipse">
              <a:avLst/>
            </a:prstGeom>
            <a:solidFill>
              <a:srgbClr val="ffeb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79" name="Oval 87"/>
            <p:cNvSpPr/>
            <p:nvPr/>
          </p:nvSpPr>
          <p:spPr>
            <a:xfrm rot="14096400">
              <a:off x="5469480" y="5234400"/>
              <a:ext cx="5148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880" name="Freeform 125"/>
          <p:cNvSpPr/>
          <p:nvPr/>
        </p:nvSpPr>
        <p:spPr>
          <a:xfrm flipH="1">
            <a:off x="4206240" y="5202360"/>
            <a:ext cx="369720" cy="115920"/>
          </a:xfrm>
          <a:custGeom>
            <a:avLst/>
            <a:gdLst/>
            <a:ahLst/>
            <a:rect l="l" t="t" r="r" b="b"/>
            <a:pathLst>
              <a:path w="1372795" h="497440">
                <a:moveTo>
                  <a:pt x="723262" y="56949"/>
                </a:moveTo>
                <a:cubicBezTo>
                  <a:pt x="736550" y="57898"/>
                  <a:pt x="768883" y="60119"/>
                  <a:pt x="791602" y="62643"/>
                </a:cubicBezTo>
                <a:cubicBezTo>
                  <a:pt x="802813" y="63889"/>
                  <a:pt x="841699" y="71137"/>
                  <a:pt x="854247" y="74033"/>
                </a:cubicBezTo>
                <a:cubicBezTo>
                  <a:pt x="869500" y="77553"/>
                  <a:pt x="899807" y="85423"/>
                  <a:pt x="899807" y="85423"/>
                </a:cubicBezTo>
                <a:lnTo>
                  <a:pt x="945367" y="130981"/>
                </a:lnTo>
                <a:cubicBezTo>
                  <a:pt x="955980" y="141594"/>
                  <a:pt x="970051" y="158644"/>
                  <a:pt x="985232" y="165150"/>
                </a:cubicBezTo>
                <a:cubicBezTo>
                  <a:pt x="992426" y="168233"/>
                  <a:pt x="1000263" y="169738"/>
                  <a:pt x="1008011" y="170845"/>
                </a:cubicBezTo>
                <a:cubicBezTo>
                  <a:pt x="1026897" y="173543"/>
                  <a:pt x="1045978" y="174642"/>
                  <a:pt x="1064961" y="176540"/>
                </a:cubicBezTo>
                <a:cubicBezTo>
                  <a:pt x="1070656" y="178438"/>
                  <a:pt x="1076834" y="179257"/>
                  <a:pt x="1082046" y="182235"/>
                </a:cubicBezTo>
                <a:cubicBezTo>
                  <a:pt x="1100095" y="192548"/>
                  <a:pt x="1104289" y="201898"/>
                  <a:pt x="1121911" y="210709"/>
                </a:cubicBezTo>
                <a:cubicBezTo>
                  <a:pt x="1127280" y="213394"/>
                  <a:pt x="1133301" y="214506"/>
                  <a:pt x="1138996" y="216404"/>
                </a:cubicBezTo>
                <a:cubicBezTo>
                  <a:pt x="1140894" y="223997"/>
                  <a:pt x="1140349" y="232671"/>
                  <a:pt x="1144691" y="239183"/>
                </a:cubicBezTo>
                <a:cubicBezTo>
                  <a:pt x="1153614" y="252568"/>
                  <a:pt x="1166822" y="249580"/>
                  <a:pt x="1178861" y="256268"/>
                </a:cubicBezTo>
                <a:cubicBezTo>
                  <a:pt x="1206366" y="271548"/>
                  <a:pt x="1209302" y="280496"/>
                  <a:pt x="1235811" y="290437"/>
                </a:cubicBezTo>
                <a:cubicBezTo>
                  <a:pt x="1243139" y="293185"/>
                  <a:pt x="1251093" y="293882"/>
                  <a:pt x="1258590" y="296131"/>
                </a:cubicBezTo>
                <a:lnTo>
                  <a:pt x="1309845" y="313216"/>
                </a:lnTo>
                <a:cubicBezTo>
                  <a:pt x="1315540" y="315114"/>
                  <a:pt x="1321935" y="315581"/>
                  <a:pt x="1326930" y="318911"/>
                </a:cubicBezTo>
                <a:cubicBezTo>
                  <a:pt x="1351913" y="335565"/>
                  <a:pt x="1338540" y="326193"/>
                  <a:pt x="1366795" y="347385"/>
                </a:cubicBezTo>
                <a:cubicBezTo>
                  <a:pt x="1374942" y="371825"/>
                  <a:pt x="1374649" y="361528"/>
                  <a:pt x="1366795" y="392944"/>
                </a:cubicBezTo>
                <a:cubicBezTo>
                  <a:pt x="1365339" y="398768"/>
                  <a:pt x="1364850" y="405341"/>
                  <a:pt x="1361100" y="410028"/>
                </a:cubicBezTo>
                <a:cubicBezTo>
                  <a:pt x="1356824" y="415373"/>
                  <a:pt x="1349710" y="417621"/>
                  <a:pt x="1344015" y="421418"/>
                </a:cubicBezTo>
                <a:cubicBezTo>
                  <a:pt x="1317905" y="460582"/>
                  <a:pt x="1334222" y="451259"/>
                  <a:pt x="1304150" y="461281"/>
                </a:cubicBezTo>
                <a:cubicBezTo>
                  <a:pt x="1302252" y="466976"/>
                  <a:pt x="1301140" y="472997"/>
                  <a:pt x="1298455" y="478366"/>
                </a:cubicBezTo>
                <a:cubicBezTo>
                  <a:pt x="1283253" y="508769"/>
                  <a:pt x="1283396" y="494991"/>
                  <a:pt x="1241506" y="489756"/>
                </a:cubicBezTo>
                <a:cubicBezTo>
                  <a:pt x="1235811" y="487858"/>
                  <a:pt x="1229790" y="486746"/>
                  <a:pt x="1224421" y="484061"/>
                </a:cubicBezTo>
                <a:cubicBezTo>
                  <a:pt x="1218299" y="481000"/>
                  <a:pt x="1214173" y="472997"/>
                  <a:pt x="1207336" y="472671"/>
                </a:cubicBezTo>
                <a:lnTo>
                  <a:pt x="1104826" y="478366"/>
                </a:lnTo>
                <a:cubicBezTo>
                  <a:pt x="1093436" y="480264"/>
                  <a:pt x="1081716" y="480743"/>
                  <a:pt x="1070656" y="484061"/>
                </a:cubicBezTo>
                <a:cubicBezTo>
                  <a:pt x="1062525" y="486500"/>
                  <a:pt x="1056314" y="494512"/>
                  <a:pt x="1047876" y="495450"/>
                </a:cubicBezTo>
                <a:cubicBezTo>
                  <a:pt x="1038705" y="496469"/>
                  <a:pt x="990039" y="481571"/>
                  <a:pt x="985232" y="478366"/>
                </a:cubicBezTo>
                <a:cubicBezTo>
                  <a:pt x="979537" y="474569"/>
                  <a:pt x="974750" y="468777"/>
                  <a:pt x="968147" y="466976"/>
                </a:cubicBezTo>
                <a:cubicBezTo>
                  <a:pt x="950926" y="462279"/>
                  <a:pt x="852297" y="455875"/>
                  <a:pt x="848552" y="455587"/>
                </a:cubicBezTo>
                <a:cubicBezTo>
                  <a:pt x="842857" y="453689"/>
                  <a:pt x="836715" y="452807"/>
                  <a:pt x="831467" y="449892"/>
                </a:cubicBezTo>
                <a:cubicBezTo>
                  <a:pt x="819501" y="443244"/>
                  <a:pt x="797297" y="427113"/>
                  <a:pt x="797297" y="427113"/>
                </a:cubicBezTo>
                <a:cubicBezTo>
                  <a:pt x="796609" y="427159"/>
                  <a:pt x="701074" y="430712"/>
                  <a:pt x="677703" y="438502"/>
                </a:cubicBezTo>
                <a:cubicBezTo>
                  <a:pt x="671210" y="440666"/>
                  <a:pt x="666909" y="447196"/>
                  <a:pt x="660618" y="449892"/>
                </a:cubicBezTo>
                <a:cubicBezTo>
                  <a:pt x="653424" y="452975"/>
                  <a:pt x="645431" y="453689"/>
                  <a:pt x="637838" y="455587"/>
                </a:cubicBezTo>
                <a:cubicBezTo>
                  <a:pt x="632143" y="459383"/>
                  <a:pt x="626875" y="463915"/>
                  <a:pt x="620753" y="466976"/>
                </a:cubicBezTo>
                <a:cubicBezTo>
                  <a:pt x="615384" y="469661"/>
                  <a:pt x="609659" y="472285"/>
                  <a:pt x="603668" y="472671"/>
                </a:cubicBezTo>
                <a:cubicBezTo>
                  <a:pt x="550591" y="476095"/>
                  <a:pt x="497362" y="476468"/>
                  <a:pt x="444209" y="478366"/>
                </a:cubicBezTo>
                <a:cubicBezTo>
                  <a:pt x="417632" y="476468"/>
                  <a:pt x="391123" y="472671"/>
                  <a:pt x="364479" y="472671"/>
                </a:cubicBezTo>
                <a:cubicBezTo>
                  <a:pt x="347289" y="472671"/>
                  <a:pt x="330414" y="478366"/>
                  <a:pt x="313224" y="478366"/>
                </a:cubicBezTo>
                <a:cubicBezTo>
                  <a:pt x="286580" y="478366"/>
                  <a:pt x="260071" y="474569"/>
                  <a:pt x="233494" y="472671"/>
                </a:cubicBezTo>
                <a:cubicBezTo>
                  <a:pt x="227799" y="468874"/>
                  <a:pt x="222531" y="464342"/>
                  <a:pt x="216409" y="461281"/>
                </a:cubicBezTo>
                <a:cubicBezTo>
                  <a:pt x="187565" y="446860"/>
                  <a:pt x="156978" y="458844"/>
                  <a:pt x="125290" y="461281"/>
                </a:cubicBezTo>
                <a:cubicBezTo>
                  <a:pt x="119595" y="463179"/>
                  <a:pt x="114208" y="466976"/>
                  <a:pt x="108205" y="466976"/>
                </a:cubicBezTo>
                <a:cubicBezTo>
                  <a:pt x="89127" y="466976"/>
                  <a:pt x="69184" y="467801"/>
                  <a:pt x="51255" y="461281"/>
                </a:cubicBezTo>
                <a:cubicBezTo>
                  <a:pt x="45614" y="459230"/>
                  <a:pt x="47925" y="449714"/>
                  <a:pt x="45560" y="444197"/>
                </a:cubicBezTo>
                <a:cubicBezTo>
                  <a:pt x="36890" y="423967"/>
                  <a:pt x="34218" y="421490"/>
                  <a:pt x="22780" y="404333"/>
                </a:cubicBezTo>
                <a:cubicBezTo>
                  <a:pt x="19890" y="392775"/>
                  <a:pt x="16291" y="375906"/>
                  <a:pt x="11390" y="364469"/>
                </a:cubicBezTo>
                <a:cubicBezTo>
                  <a:pt x="8046" y="356666"/>
                  <a:pt x="3797" y="349283"/>
                  <a:pt x="0" y="341690"/>
                </a:cubicBezTo>
                <a:cubicBezTo>
                  <a:pt x="1898" y="301826"/>
                  <a:pt x="1288" y="261764"/>
                  <a:pt x="5695" y="222099"/>
                </a:cubicBezTo>
                <a:cubicBezTo>
                  <a:pt x="7021" y="210167"/>
                  <a:pt x="7096" y="194590"/>
                  <a:pt x="17085" y="187930"/>
                </a:cubicBezTo>
                <a:lnTo>
                  <a:pt x="51255" y="165150"/>
                </a:lnTo>
                <a:cubicBezTo>
                  <a:pt x="71985" y="134057"/>
                  <a:pt x="51519" y="160648"/>
                  <a:pt x="85425" y="130981"/>
                </a:cubicBezTo>
                <a:cubicBezTo>
                  <a:pt x="93507" y="123910"/>
                  <a:pt x="100052" y="115190"/>
                  <a:pt x="108205" y="108202"/>
                </a:cubicBezTo>
                <a:cubicBezTo>
                  <a:pt x="113402" y="103748"/>
                  <a:pt x="118503" y="97697"/>
                  <a:pt x="125290" y="96812"/>
                </a:cubicBezTo>
                <a:cubicBezTo>
                  <a:pt x="162984" y="91895"/>
                  <a:pt x="201223" y="93015"/>
                  <a:pt x="239189" y="91117"/>
                </a:cubicBezTo>
                <a:cubicBezTo>
                  <a:pt x="252477" y="87321"/>
                  <a:pt x="265845" y="83792"/>
                  <a:pt x="279054" y="79728"/>
                </a:cubicBezTo>
                <a:cubicBezTo>
                  <a:pt x="290529" y="76197"/>
                  <a:pt x="313224" y="68338"/>
                  <a:pt x="313224" y="68338"/>
                </a:cubicBezTo>
                <a:cubicBezTo>
                  <a:pt x="318919" y="62643"/>
                  <a:pt x="323608" y="55721"/>
                  <a:pt x="330309" y="51254"/>
                </a:cubicBezTo>
                <a:cubicBezTo>
                  <a:pt x="335304" y="47924"/>
                  <a:pt x="342706" y="49309"/>
                  <a:pt x="347394" y="45559"/>
                </a:cubicBezTo>
                <a:cubicBezTo>
                  <a:pt x="367565" y="29422"/>
                  <a:pt x="348105" y="25628"/>
                  <a:pt x="375869" y="17085"/>
                </a:cubicBezTo>
                <a:cubicBezTo>
                  <a:pt x="392006" y="12120"/>
                  <a:pt x="444819" y="3695"/>
                  <a:pt x="466988" y="0"/>
                </a:cubicBezTo>
                <a:cubicBezTo>
                  <a:pt x="493565" y="1898"/>
                  <a:pt x="520436" y="1315"/>
                  <a:pt x="546718" y="5695"/>
                </a:cubicBezTo>
                <a:cubicBezTo>
                  <a:pt x="555092" y="7091"/>
                  <a:pt x="561616" y="13932"/>
                  <a:pt x="569498" y="17085"/>
                </a:cubicBezTo>
                <a:cubicBezTo>
                  <a:pt x="580645" y="21544"/>
                  <a:pt x="591895" y="26119"/>
                  <a:pt x="603668" y="28474"/>
                </a:cubicBezTo>
                <a:cubicBezTo>
                  <a:pt x="613160" y="30372"/>
                  <a:pt x="622804" y="31622"/>
                  <a:pt x="632143" y="34169"/>
                </a:cubicBezTo>
                <a:cubicBezTo>
                  <a:pt x="657863" y="41183"/>
                  <a:pt x="684624" y="55132"/>
                  <a:pt x="711873" y="56949"/>
                </a:cubicBezTo>
                <a:cubicBezTo>
                  <a:pt x="730814" y="58212"/>
                  <a:pt x="709974" y="56000"/>
                  <a:pt x="723262" y="56949"/>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81" name="Oval 126"/>
          <p:cNvSpPr/>
          <p:nvPr/>
        </p:nvSpPr>
        <p:spPr>
          <a:xfrm rot="21028800">
            <a:off x="4374720" y="5224320"/>
            <a:ext cx="6048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82" name="Group 122"/>
          <p:cNvGrpSpPr/>
          <p:nvPr/>
        </p:nvGrpSpPr>
        <p:grpSpPr>
          <a:xfrm>
            <a:off x="4269960" y="5254920"/>
            <a:ext cx="69120" cy="61200"/>
            <a:chOff x="4269960" y="5254920"/>
            <a:chExt cx="69120" cy="61200"/>
          </a:xfrm>
        </p:grpSpPr>
        <p:sp>
          <p:nvSpPr>
            <p:cNvPr id="883" name="Oval 123"/>
            <p:cNvSpPr/>
            <p:nvPr/>
          </p:nvSpPr>
          <p:spPr>
            <a:xfrm rot="10267200">
              <a:off x="4273560" y="5259240"/>
              <a:ext cx="6156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4" name="Oval 124"/>
            <p:cNvSpPr/>
            <p:nvPr/>
          </p:nvSpPr>
          <p:spPr>
            <a:xfrm rot="10267200">
              <a:off x="4270680" y="5259240"/>
              <a:ext cx="615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5" name="Group 119"/>
          <p:cNvGrpSpPr/>
          <p:nvPr/>
        </p:nvGrpSpPr>
        <p:grpSpPr>
          <a:xfrm>
            <a:off x="4435200" y="5235120"/>
            <a:ext cx="81000" cy="80640"/>
            <a:chOff x="4435200" y="5235120"/>
            <a:chExt cx="81000" cy="80640"/>
          </a:xfrm>
        </p:grpSpPr>
        <p:sp>
          <p:nvSpPr>
            <p:cNvPr id="886" name="Oval 120"/>
            <p:cNvSpPr/>
            <p:nvPr/>
          </p:nvSpPr>
          <p:spPr>
            <a:xfrm rot="19024800">
              <a:off x="4445280" y="524844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87" name="Oval 121"/>
            <p:cNvSpPr/>
            <p:nvPr/>
          </p:nvSpPr>
          <p:spPr>
            <a:xfrm rot="19024800">
              <a:off x="4457520" y="527904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88" name="Group 16"/>
          <p:cNvGrpSpPr/>
          <p:nvPr/>
        </p:nvGrpSpPr>
        <p:grpSpPr>
          <a:xfrm>
            <a:off x="4559400" y="5145120"/>
            <a:ext cx="241200" cy="160200"/>
            <a:chOff x="4559400" y="5145120"/>
            <a:chExt cx="241200" cy="160200"/>
          </a:xfrm>
        </p:grpSpPr>
        <p:sp>
          <p:nvSpPr>
            <p:cNvPr id="889" name="Freeform 14340"/>
            <p:cNvSpPr/>
            <p:nvPr/>
          </p:nvSpPr>
          <p:spPr>
            <a:xfrm>
              <a:off x="4559400" y="5145120"/>
              <a:ext cx="241200" cy="16020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0" name="Oval 127"/>
            <p:cNvSpPr/>
            <p:nvPr/>
          </p:nvSpPr>
          <p:spPr>
            <a:xfrm rot="3619800">
              <a:off x="4605120" y="51883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891" name="Group 96"/>
            <p:cNvGrpSpPr/>
            <p:nvPr/>
          </p:nvGrpSpPr>
          <p:grpSpPr>
            <a:xfrm>
              <a:off x="4642560" y="5149440"/>
              <a:ext cx="77760" cy="73800"/>
              <a:chOff x="4642560" y="5149440"/>
              <a:chExt cx="77760" cy="73800"/>
            </a:xfrm>
          </p:grpSpPr>
          <p:sp>
            <p:nvSpPr>
              <p:cNvPr id="892" name="Oval 97"/>
              <p:cNvSpPr/>
              <p:nvPr/>
            </p:nvSpPr>
            <p:spPr>
              <a:xfrm rot="20118600">
                <a:off x="4650840" y="5159520"/>
                <a:ext cx="6048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3" name="Oval 100"/>
              <p:cNvSpPr/>
              <p:nvPr/>
            </p:nvSpPr>
            <p:spPr>
              <a:xfrm rot="20118600">
                <a:off x="4658760" y="519264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894" name="Group 88"/>
            <p:cNvGrpSpPr/>
            <p:nvPr/>
          </p:nvGrpSpPr>
          <p:grpSpPr>
            <a:xfrm>
              <a:off x="4680000" y="5219280"/>
              <a:ext cx="70560" cy="64800"/>
              <a:chOff x="4680000" y="5219280"/>
              <a:chExt cx="70560" cy="64800"/>
            </a:xfrm>
          </p:grpSpPr>
          <p:sp>
            <p:nvSpPr>
              <p:cNvPr id="895" name="Oval 89"/>
              <p:cNvSpPr/>
              <p:nvPr/>
            </p:nvSpPr>
            <p:spPr>
              <a:xfrm rot="714000">
                <a:off x="4685400" y="5224680"/>
                <a:ext cx="6012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896" name="Oval 92"/>
              <p:cNvSpPr/>
              <p:nvPr/>
            </p:nvSpPr>
            <p:spPr>
              <a:xfrm rot="714000">
                <a:off x="4681080" y="525924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897" name="Group 15"/>
          <p:cNvGrpSpPr/>
          <p:nvPr/>
        </p:nvGrpSpPr>
        <p:grpSpPr>
          <a:xfrm>
            <a:off x="5105520" y="5141880"/>
            <a:ext cx="198360" cy="160200"/>
            <a:chOff x="5105520" y="5141880"/>
            <a:chExt cx="198360" cy="160200"/>
          </a:xfrm>
        </p:grpSpPr>
        <p:sp>
          <p:nvSpPr>
            <p:cNvPr id="898" name="Freeform 14341"/>
            <p:cNvSpPr/>
            <p:nvPr/>
          </p:nvSpPr>
          <p:spPr>
            <a:xfrm>
              <a:off x="5105520" y="5141880"/>
              <a:ext cx="198360" cy="16020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899" name="Oval 130"/>
            <p:cNvSpPr/>
            <p:nvPr/>
          </p:nvSpPr>
          <p:spPr>
            <a:xfrm rot="6540600">
              <a:off x="5192640" y="524772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0" name="Group 103"/>
            <p:cNvGrpSpPr/>
            <p:nvPr/>
          </p:nvGrpSpPr>
          <p:grpSpPr>
            <a:xfrm>
              <a:off x="5193000" y="5146560"/>
              <a:ext cx="78120" cy="74160"/>
              <a:chOff x="5193000" y="5146560"/>
              <a:chExt cx="78120" cy="74160"/>
            </a:xfrm>
          </p:grpSpPr>
          <p:sp>
            <p:nvSpPr>
              <p:cNvPr id="901" name="Oval 106"/>
              <p:cNvSpPr/>
              <p:nvPr/>
            </p:nvSpPr>
            <p:spPr>
              <a:xfrm rot="3874200">
                <a:off x="5205600" y="5152680"/>
                <a:ext cx="5292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2" name="Oval 107"/>
              <p:cNvSpPr/>
              <p:nvPr/>
            </p:nvSpPr>
            <p:spPr>
              <a:xfrm rot="3874200">
                <a:off x="5186880" y="5181480"/>
                <a:ext cx="5292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03" name="Group 138"/>
            <p:cNvGrpSpPr/>
            <p:nvPr/>
          </p:nvGrpSpPr>
          <p:grpSpPr>
            <a:xfrm>
              <a:off x="5111640" y="5181480"/>
              <a:ext cx="79920" cy="77400"/>
              <a:chOff x="5111640" y="5181480"/>
              <a:chExt cx="79920" cy="77400"/>
            </a:xfrm>
          </p:grpSpPr>
          <p:sp>
            <p:nvSpPr>
              <p:cNvPr id="904" name="Oval 139"/>
              <p:cNvSpPr/>
              <p:nvPr/>
            </p:nvSpPr>
            <p:spPr>
              <a:xfrm rot="19720800">
                <a:off x="5121000" y="5193360"/>
                <a:ext cx="60840" cy="53640"/>
              </a:xfrm>
              <a:prstGeom prst="ellipse">
                <a:avLst/>
              </a:prstGeom>
              <a:solidFill>
                <a:srgbClr val="ffeb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05" name="Oval 140"/>
              <p:cNvSpPr/>
              <p:nvPr/>
            </p:nvSpPr>
            <p:spPr>
              <a:xfrm rot="19720800">
                <a:off x="5129280" y="5225760"/>
                <a:ext cx="60840" cy="18000"/>
              </a:xfrm>
              <a:prstGeom prst="ellipse">
                <a:avLst/>
              </a:prstGeom>
              <a:solidFill>
                <a:srgbClr val="260073"/>
              </a:solidFill>
              <a:ln w="0">
                <a:noFill/>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06" name="Group 13"/>
          <p:cNvGrpSpPr/>
          <p:nvPr/>
        </p:nvGrpSpPr>
        <p:grpSpPr>
          <a:xfrm>
            <a:off x="4768920" y="5108400"/>
            <a:ext cx="233280" cy="147960"/>
            <a:chOff x="4768920" y="5108400"/>
            <a:chExt cx="233280" cy="147960"/>
          </a:xfrm>
        </p:grpSpPr>
        <p:sp>
          <p:nvSpPr>
            <p:cNvPr id="907" name="Freeform 14343"/>
            <p:cNvSpPr/>
            <p:nvPr/>
          </p:nvSpPr>
          <p:spPr>
            <a:xfrm>
              <a:off x="4768920" y="5108400"/>
              <a:ext cx="233280" cy="14796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08" name="Oval 131"/>
            <p:cNvSpPr/>
            <p:nvPr/>
          </p:nvSpPr>
          <p:spPr>
            <a:xfrm rot="21028800">
              <a:off x="4886640" y="511740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09" name="Group 93"/>
            <p:cNvGrpSpPr/>
            <p:nvPr/>
          </p:nvGrpSpPr>
          <p:grpSpPr>
            <a:xfrm>
              <a:off x="4802760" y="5166360"/>
              <a:ext cx="68400" cy="61920"/>
              <a:chOff x="4802760" y="5166360"/>
              <a:chExt cx="68400" cy="61920"/>
            </a:xfrm>
          </p:grpSpPr>
          <p:sp>
            <p:nvSpPr>
              <p:cNvPr id="910" name="Oval 94"/>
              <p:cNvSpPr/>
              <p:nvPr/>
            </p:nvSpPr>
            <p:spPr>
              <a:xfrm rot="10267200">
                <a:off x="4806000" y="5171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1" name="Oval 95"/>
              <p:cNvSpPr/>
              <p:nvPr/>
            </p:nvSpPr>
            <p:spPr>
              <a:xfrm rot="10267200">
                <a:off x="4803480" y="517068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12" name="Group 145"/>
            <p:cNvGrpSpPr/>
            <p:nvPr/>
          </p:nvGrpSpPr>
          <p:grpSpPr>
            <a:xfrm>
              <a:off x="4906800" y="5147280"/>
              <a:ext cx="81000" cy="79200"/>
              <a:chOff x="4906800" y="5147280"/>
              <a:chExt cx="81000" cy="79200"/>
            </a:xfrm>
          </p:grpSpPr>
          <p:sp>
            <p:nvSpPr>
              <p:cNvPr id="913" name="Oval 146"/>
              <p:cNvSpPr/>
              <p:nvPr/>
            </p:nvSpPr>
            <p:spPr>
              <a:xfrm rot="2343000">
                <a:off x="4917240" y="516024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14" name="Oval 147"/>
              <p:cNvSpPr/>
              <p:nvPr/>
            </p:nvSpPr>
            <p:spPr>
              <a:xfrm rot="2343000">
                <a:off x="4905360" y="51915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915" name="Straight Connector 171"/>
          <p:cNvSpPr/>
          <p:nvPr/>
        </p:nvSpPr>
        <p:spPr>
          <a:xfrm>
            <a:off x="533520" y="5257800"/>
            <a:ext cx="31114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6" name="Straight Connector 172"/>
          <p:cNvSpPr/>
          <p:nvPr/>
        </p:nvSpPr>
        <p:spPr>
          <a:xfrm>
            <a:off x="5943600" y="5257800"/>
            <a:ext cx="266688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7" name="Straight Connector 180"/>
          <p:cNvSpPr/>
          <p:nvPr/>
        </p:nvSpPr>
        <p:spPr>
          <a:xfrm>
            <a:off x="533520" y="548640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8" name="Straight Connector 181"/>
          <p:cNvSpPr/>
          <p:nvPr/>
        </p:nvSpPr>
        <p:spPr>
          <a:xfrm>
            <a:off x="533520" y="563868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19" name="Straight Connector 182"/>
          <p:cNvSpPr/>
          <p:nvPr/>
        </p:nvSpPr>
        <p:spPr>
          <a:xfrm>
            <a:off x="533520" y="571500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0" name="Straight Connector 184"/>
          <p:cNvSpPr/>
          <p:nvPr/>
        </p:nvSpPr>
        <p:spPr>
          <a:xfrm>
            <a:off x="533520" y="57913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1" name="Group 14338"/>
          <p:cNvGrpSpPr/>
          <p:nvPr/>
        </p:nvGrpSpPr>
        <p:grpSpPr>
          <a:xfrm>
            <a:off x="533520" y="3048120"/>
            <a:ext cx="8076960" cy="457200"/>
            <a:chOff x="533520" y="3048120"/>
            <a:chExt cx="8076960" cy="457200"/>
          </a:xfrm>
        </p:grpSpPr>
        <p:sp>
          <p:nvSpPr>
            <p:cNvPr id="922" name="Straight Connector 186"/>
            <p:cNvSpPr/>
            <p:nvPr/>
          </p:nvSpPr>
          <p:spPr>
            <a:xfrm>
              <a:off x="533520" y="35053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3" name="Straight Connector 187"/>
            <p:cNvSpPr/>
            <p:nvPr/>
          </p:nvSpPr>
          <p:spPr>
            <a:xfrm>
              <a:off x="533520" y="3353040"/>
              <a:ext cx="8076960" cy="0"/>
            </a:xfrm>
            <a:prstGeom prst="line">
              <a:avLst/>
            </a:prstGeom>
            <a:ln cap="rnd" w="127080">
              <a:solidFill>
                <a:srgbClr val="ffccf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4" name="Straight Connector 188"/>
            <p:cNvSpPr/>
            <p:nvPr/>
          </p:nvSpPr>
          <p:spPr>
            <a:xfrm>
              <a:off x="533520" y="320040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5" name="Straight Connector 189"/>
            <p:cNvSpPr/>
            <p:nvPr/>
          </p:nvSpPr>
          <p:spPr>
            <a:xfrm>
              <a:off x="533520" y="3124080"/>
              <a:ext cx="8076960" cy="0"/>
            </a:xfrm>
            <a:prstGeom prst="line">
              <a:avLst/>
            </a:prstGeom>
            <a:ln cap="rnd"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926" name="Straight Connector 190"/>
            <p:cNvSpPr/>
            <p:nvPr/>
          </p:nvSpPr>
          <p:spPr>
            <a:xfrm>
              <a:off x="533520" y="304812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927" name="Straight Connector 191"/>
          <p:cNvSpPr/>
          <p:nvPr/>
        </p:nvSpPr>
        <p:spPr>
          <a:xfrm>
            <a:off x="533520" y="3581280"/>
            <a:ext cx="8076960" cy="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28" name="Group 132"/>
          <p:cNvGrpSpPr/>
          <p:nvPr/>
        </p:nvGrpSpPr>
        <p:grpSpPr>
          <a:xfrm>
            <a:off x="5195520" y="4953600"/>
            <a:ext cx="310320" cy="136800"/>
            <a:chOff x="5195520" y="4953600"/>
            <a:chExt cx="310320" cy="136800"/>
          </a:xfrm>
        </p:grpSpPr>
        <p:sp>
          <p:nvSpPr>
            <p:cNvPr id="929" name="Straight Connector 133"/>
            <p:cNvSpPr/>
            <p:nvPr/>
          </p:nvSpPr>
          <p:spPr>
            <a:xfrm>
              <a:off x="5195520" y="4953600"/>
              <a:ext cx="310320" cy="136800"/>
            </a:xfrm>
            <a:prstGeom prst="line">
              <a:avLst/>
            </a:prstGeom>
            <a:ln cap="rnd" w="3816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930" name="Oval 134"/>
            <p:cNvGrpSpPr/>
            <p:nvPr/>
          </p:nvGrpSpPr>
          <p:grpSpPr>
            <a:xfrm>
              <a:off x="5297040" y="4986360"/>
              <a:ext cx="115560" cy="73440"/>
              <a:chOff x="5297040" y="4986360"/>
              <a:chExt cx="115560" cy="73440"/>
            </a:xfrm>
          </p:grpSpPr>
          <p:pic>
            <p:nvPicPr>
              <p:cNvPr id="931" name="Oval 134" descr=""/>
              <p:cNvPicPr/>
              <p:nvPr/>
            </p:nvPicPr>
            <p:blipFill>
              <a:blip r:embed="rId6"/>
              <a:stretch/>
            </p:blipFill>
            <p:spPr>
              <a:xfrm rot="21599400">
                <a:off x="5297040" y="4986000"/>
                <a:ext cx="115560" cy="73440"/>
              </a:xfrm>
              <a:prstGeom prst="rect">
                <a:avLst/>
              </a:prstGeom>
              <a:ln w="0">
                <a:noFill/>
              </a:ln>
            </p:spPr>
          </p:pic>
          <p:sp>
            <p:nvSpPr>
              <p:cNvPr id="932" name=""/>
              <p:cNvSpPr/>
              <p:nvPr/>
            </p:nvSpPr>
            <p:spPr>
              <a:xfrm rot="1782600">
                <a:off x="5309280" y="5012280"/>
                <a:ext cx="87120" cy="24840"/>
              </a:xfrm>
              <a:prstGeom prst="rect">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33" name="Group 148"/>
          <p:cNvGrpSpPr/>
          <p:nvPr/>
        </p:nvGrpSpPr>
        <p:grpSpPr>
          <a:xfrm>
            <a:off x="4038480" y="5104800"/>
            <a:ext cx="276480" cy="241200"/>
            <a:chOff x="4038480" y="5104800"/>
            <a:chExt cx="276480" cy="241200"/>
          </a:xfrm>
        </p:grpSpPr>
        <p:sp>
          <p:nvSpPr>
            <p:cNvPr id="934" name="Freeform 149"/>
            <p:cNvSpPr/>
            <p:nvPr/>
          </p:nvSpPr>
          <p:spPr>
            <a:xfrm rot="9102000">
              <a:off x="4059000" y="5151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35" name="Oval 150"/>
            <p:cNvSpPr/>
            <p:nvPr/>
          </p:nvSpPr>
          <p:spPr>
            <a:xfrm rot="8530800">
              <a:off x="4140000" y="52635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36" name="Group 151"/>
            <p:cNvGrpSpPr/>
            <p:nvPr/>
          </p:nvGrpSpPr>
          <p:grpSpPr>
            <a:xfrm>
              <a:off x="4172760" y="5148720"/>
              <a:ext cx="81000" cy="79560"/>
              <a:chOff x="4172760" y="5148720"/>
              <a:chExt cx="81000" cy="79560"/>
            </a:xfrm>
          </p:grpSpPr>
          <p:sp>
            <p:nvSpPr>
              <p:cNvPr id="937" name="Oval 155"/>
              <p:cNvSpPr/>
              <p:nvPr/>
            </p:nvSpPr>
            <p:spPr>
              <a:xfrm rot="19369200">
                <a:off x="4182480" y="516168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38" name="Oval 156"/>
              <p:cNvSpPr/>
              <p:nvPr/>
            </p:nvSpPr>
            <p:spPr>
              <a:xfrm rot="19369200">
                <a:off x="4193280" y="519336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39" name="Group 152"/>
            <p:cNvGrpSpPr/>
            <p:nvPr/>
          </p:nvGrpSpPr>
          <p:grpSpPr>
            <a:xfrm>
              <a:off x="4084920" y="5218920"/>
              <a:ext cx="70200" cy="64080"/>
              <a:chOff x="4084920" y="5218920"/>
              <a:chExt cx="70200" cy="64080"/>
            </a:xfrm>
          </p:grpSpPr>
          <p:sp>
            <p:nvSpPr>
              <p:cNvPr id="940" name="Oval 153"/>
              <p:cNvSpPr/>
              <p:nvPr/>
            </p:nvSpPr>
            <p:spPr>
              <a:xfrm rot="11444400">
                <a:off x="4088880" y="5225760"/>
                <a:ext cx="6120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1" name="Oval 154"/>
              <p:cNvSpPr/>
              <p:nvPr/>
            </p:nvSpPr>
            <p:spPr>
              <a:xfrm rot="11444400">
                <a:off x="4092480" y="52243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42" name="Group 157"/>
          <p:cNvGrpSpPr/>
          <p:nvPr/>
        </p:nvGrpSpPr>
        <p:grpSpPr>
          <a:xfrm>
            <a:off x="5562000" y="5104800"/>
            <a:ext cx="277560" cy="247320"/>
            <a:chOff x="5562000" y="5104800"/>
            <a:chExt cx="277560" cy="247320"/>
          </a:xfrm>
        </p:grpSpPr>
        <p:sp>
          <p:nvSpPr>
            <p:cNvPr id="943" name="Freeform 158"/>
            <p:cNvSpPr/>
            <p:nvPr/>
          </p:nvSpPr>
          <p:spPr>
            <a:xfrm rot="1854000">
              <a:off x="5583240" y="515448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44" name="Oval 159"/>
            <p:cNvSpPr/>
            <p:nvPr/>
          </p:nvSpPr>
          <p:spPr>
            <a:xfrm rot="1282800">
              <a:off x="5721120" y="518616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45" name="Group 160"/>
            <p:cNvGrpSpPr/>
            <p:nvPr/>
          </p:nvGrpSpPr>
          <p:grpSpPr>
            <a:xfrm>
              <a:off x="5613120" y="5180040"/>
              <a:ext cx="74880" cy="72000"/>
              <a:chOff x="5613120" y="5180040"/>
              <a:chExt cx="74880" cy="72000"/>
            </a:xfrm>
          </p:grpSpPr>
          <p:sp>
            <p:nvSpPr>
              <p:cNvPr id="946" name="Oval 164"/>
              <p:cNvSpPr/>
              <p:nvPr/>
            </p:nvSpPr>
            <p:spPr>
              <a:xfrm rot="12121200">
                <a:off x="5620320" y="5191200"/>
                <a:ext cx="6012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47" name="Oval 165"/>
              <p:cNvSpPr/>
              <p:nvPr/>
            </p:nvSpPr>
            <p:spPr>
              <a:xfrm rot="12121200">
                <a:off x="5626440" y="51904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48" name="Group 161"/>
            <p:cNvGrpSpPr/>
            <p:nvPr/>
          </p:nvGrpSpPr>
          <p:grpSpPr>
            <a:xfrm>
              <a:off x="5716080" y="5226480"/>
              <a:ext cx="70920" cy="74880"/>
              <a:chOff x="5716080" y="5226480"/>
              <a:chExt cx="70920" cy="74880"/>
            </a:xfrm>
          </p:grpSpPr>
          <p:sp>
            <p:nvSpPr>
              <p:cNvPr id="949" name="Oval 162"/>
              <p:cNvSpPr/>
              <p:nvPr/>
            </p:nvSpPr>
            <p:spPr>
              <a:xfrm rot="4197000">
                <a:off x="5721840" y="523800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0" name="Oval 163"/>
              <p:cNvSpPr/>
              <p:nvPr/>
            </p:nvSpPr>
            <p:spPr>
              <a:xfrm rot="4197000">
                <a:off x="5703480" y="526140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51" name="Group 166"/>
          <p:cNvGrpSpPr/>
          <p:nvPr/>
        </p:nvGrpSpPr>
        <p:grpSpPr>
          <a:xfrm>
            <a:off x="4952160" y="4952880"/>
            <a:ext cx="193680" cy="260640"/>
            <a:chOff x="4952160" y="4952880"/>
            <a:chExt cx="193680" cy="260640"/>
          </a:xfrm>
        </p:grpSpPr>
        <p:sp>
          <p:nvSpPr>
            <p:cNvPr id="952" name="Freeform 167"/>
            <p:cNvSpPr/>
            <p:nvPr/>
          </p:nvSpPr>
          <p:spPr>
            <a:xfrm rot="4671600">
              <a:off x="4931640" y="500904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53" name="Oval 168"/>
            <p:cNvSpPr/>
            <p:nvPr/>
          </p:nvSpPr>
          <p:spPr>
            <a:xfrm rot="4101000">
              <a:off x="5070600" y="50864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54" name="Group 169"/>
            <p:cNvGrpSpPr/>
            <p:nvPr/>
          </p:nvGrpSpPr>
          <p:grpSpPr>
            <a:xfrm>
              <a:off x="4988160" y="4999680"/>
              <a:ext cx="71280" cy="76320"/>
              <a:chOff x="4988160" y="4999680"/>
              <a:chExt cx="71280" cy="76320"/>
            </a:xfrm>
          </p:grpSpPr>
          <p:sp>
            <p:nvSpPr>
              <p:cNvPr id="955" name="Oval 175"/>
              <p:cNvSpPr/>
              <p:nvPr/>
            </p:nvSpPr>
            <p:spPr>
              <a:xfrm rot="14939400">
                <a:off x="4993200" y="501156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6" name="Oval 176"/>
              <p:cNvSpPr/>
              <p:nvPr/>
            </p:nvSpPr>
            <p:spPr>
              <a:xfrm rot="14939400">
                <a:off x="5009760" y="502200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57" name="Group 170"/>
            <p:cNvGrpSpPr/>
            <p:nvPr/>
          </p:nvGrpSpPr>
          <p:grpSpPr>
            <a:xfrm>
              <a:off x="5020200" y="5105160"/>
              <a:ext cx="75240" cy="79200"/>
              <a:chOff x="5020200" y="5105160"/>
              <a:chExt cx="75240" cy="79200"/>
            </a:xfrm>
          </p:grpSpPr>
          <p:sp>
            <p:nvSpPr>
              <p:cNvPr id="958" name="Oval 173"/>
              <p:cNvSpPr/>
              <p:nvPr/>
            </p:nvSpPr>
            <p:spPr>
              <a:xfrm rot="7014600">
                <a:off x="5027760" y="511992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59" name="Oval 174"/>
              <p:cNvSpPr/>
              <p:nvPr/>
            </p:nvSpPr>
            <p:spPr>
              <a:xfrm rot="7014600">
                <a:off x="5010480" y="512784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0" name="Group 177"/>
          <p:cNvGrpSpPr/>
          <p:nvPr/>
        </p:nvGrpSpPr>
        <p:grpSpPr>
          <a:xfrm>
            <a:off x="4343040" y="5029560"/>
            <a:ext cx="199800" cy="229320"/>
            <a:chOff x="4343040" y="5029560"/>
            <a:chExt cx="199800" cy="229320"/>
          </a:xfrm>
        </p:grpSpPr>
        <p:sp>
          <p:nvSpPr>
            <p:cNvPr id="961" name="Freeform 178"/>
            <p:cNvSpPr/>
            <p:nvPr/>
          </p:nvSpPr>
          <p:spPr>
            <a:xfrm rot="4605000">
              <a:off x="4343760" y="5064840"/>
              <a:ext cx="19836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62" name="Oval 183"/>
            <p:cNvSpPr/>
            <p:nvPr/>
          </p:nvSpPr>
          <p:spPr>
            <a:xfrm rot="11145600">
              <a:off x="4375440" y="5148720"/>
              <a:ext cx="5292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63" name="Group 198"/>
            <p:cNvGrpSpPr/>
            <p:nvPr/>
          </p:nvGrpSpPr>
          <p:grpSpPr>
            <a:xfrm>
              <a:off x="4446720" y="5121720"/>
              <a:ext cx="79200" cy="80640"/>
              <a:chOff x="4446720" y="5121720"/>
              <a:chExt cx="79200" cy="80640"/>
            </a:xfrm>
          </p:grpSpPr>
          <p:sp>
            <p:nvSpPr>
              <p:cNvPr id="964" name="Oval 206"/>
              <p:cNvSpPr/>
              <p:nvPr/>
            </p:nvSpPr>
            <p:spPr>
              <a:xfrm rot="8479200">
                <a:off x="4460040" y="5132880"/>
                <a:ext cx="52920" cy="59400"/>
              </a:xfrm>
              <a:prstGeom prst="ellipse">
                <a:avLst/>
              </a:prstGeom>
              <a:solidFill>
                <a:srgbClr val="ffeb00"/>
              </a:solidFill>
              <a:ln w="0">
                <a:noFill/>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5" name="Oval 207"/>
              <p:cNvSpPr/>
              <p:nvPr/>
            </p:nvSpPr>
            <p:spPr>
              <a:xfrm rot="8479200">
                <a:off x="4446720" y="5135760"/>
                <a:ext cx="52920" cy="19800"/>
              </a:xfrm>
              <a:prstGeom prst="ellipse">
                <a:avLst/>
              </a:prstGeom>
              <a:solidFill>
                <a:srgbClr val="260073"/>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66" name="Group 203"/>
            <p:cNvGrpSpPr/>
            <p:nvPr/>
          </p:nvGrpSpPr>
          <p:grpSpPr>
            <a:xfrm>
              <a:off x="4392000" y="5052600"/>
              <a:ext cx="80640" cy="78840"/>
              <a:chOff x="4392000" y="5052600"/>
              <a:chExt cx="80640" cy="78840"/>
            </a:xfrm>
          </p:grpSpPr>
          <p:sp>
            <p:nvSpPr>
              <p:cNvPr id="967" name="Oval 204"/>
              <p:cNvSpPr/>
              <p:nvPr/>
            </p:nvSpPr>
            <p:spPr>
              <a:xfrm rot="2725800">
                <a:off x="4403160" y="5065920"/>
                <a:ext cx="597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68" name="Oval 205"/>
              <p:cNvSpPr/>
              <p:nvPr/>
            </p:nvSpPr>
            <p:spPr>
              <a:xfrm rot="2725800">
                <a:off x="4388760" y="5095800"/>
                <a:ext cx="597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69" name="Group 208"/>
          <p:cNvGrpSpPr/>
          <p:nvPr/>
        </p:nvGrpSpPr>
        <p:grpSpPr>
          <a:xfrm>
            <a:off x="5410800" y="5105160"/>
            <a:ext cx="201960" cy="231840"/>
            <a:chOff x="5410800" y="5105160"/>
            <a:chExt cx="201960" cy="231840"/>
          </a:xfrm>
        </p:grpSpPr>
        <p:sp>
          <p:nvSpPr>
            <p:cNvPr id="970" name="Freeform 209"/>
            <p:cNvSpPr/>
            <p:nvPr/>
          </p:nvSpPr>
          <p:spPr>
            <a:xfrm rot="15370200">
              <a:off x="5411880" y="5141520"/>
              <a:ext cx="199800" cy="158760"/>
            </a:xfrm>
            <a:custGeom>
              <a:avLst/>
              <a:gdLst/>
              <a:ahLst/>
              <a:rect l="l" t="t" r="r" b="b"/>
              <a:pathLst>
                <a:path w="741004" h="683379">
                  <a:moveTo>
                    <a:pt x="484730" y="39863"/>
                  </a:moveTo>
                  <a:cubicBezTo>
                    <a:pt x="498018" y="42710"/>
                    <a:pt x="542548" y="40297"/>
                    <a:pt x="564460" y="51253"/>
                  </a:cubicBezTo>
                  <a:cubicBezTo>
                    <a:pt x="570582" y="54314"/>
                    <a:pt x="575850" y="58846"/>
                    <a:pt x="581545" y="62643"/>
                  </a:cubicBezTo>
                  <a:cubicBezTo>
                    <a:pt x="585342" y="68338"/>
                    <a:pt x="588095" y="74887"/>
                    <a:pt x="592935" y="79727"/>
                  </a:cubicBezTo>
                  <a:cubicBezTo>
                    <a:pt x="609663" y="96455"/>
                    <a:pt x="633985" y="97108"/>
                    <a:pt x="655580" y="102507"/>
                  </a:cubicBezTo>
                  <a:lnTo>
                    <a:pt x="701140" y="113896"/>
                  </a:lnTo>
                  <a:cubicBezTo>
                    <a:pt x="706835" y="117693"/>
                    <a:pt x="713948" y="119942"/>
                    <a:pt x="718224" y="125286"/>
                  </a:cubicBezTo>
                  <a:cubicBezTo>
                    <a:pt x="721287" y="129115"/>
                    <a:pt x="729123" y="163512"/>
                    <a:pt x="729614" y="165150"/>
                  </a:cubicBezTo>
                  <a:cubicBezTo>
                    <a:pt x="733064" y="176649"/>
                    <a:pt x="741004" y="199319"/>
                    <a:pt x="741004" y="199319"/>
                  </a:cubicBezTo>
                  <a:cubicBezTo>
                    <a:pt x="737093" y="250155"/>
                    <a:pt x="748400" y="261060"/>
                    <a:pt x="723919" y="290436"/>
                  </a:cubicBezTo>
                  <a:cubicBezTo>
                    <a:pt x="718763" y="296623"/>
                    <a:pt x="714715" y="305861"/>
                    <a:pt x="706834" y="307520"/>
                  </a:cubicBezTo>
                  <a:cubicBezTo>
                    <a:pt x="677054" y="313789"/>
                    <a:pt x="646088" y="311317"/>
                    <a:pt x="615715" y="313215"/>
                  </a:cubicBezTo>
                  <a:lnTo>
                    <a:pt x="581545" y="324605"/>
                  </a:lnTo>
                  <a:lnTo>
                    <a:pt x="564460" y="330300"/>
                  </a:lnTo>
                  <a:cubicBezTo>
                    <a:pt x="556867" y="341690"/>
                    <a:pt x="546009" y="351483"/>
                    <a:pt x="541680" y="364469"/>
                  </a:cubicBezTo>
                  <a:cubicBezTo>
                    <a:pt x="528126" y="405131"/>
                    <a:pt x="536950" y="388649"/>
                    <a:pt x="518900" y="415722"/>
                  </a:cubicBezTo>
                  <a:cubicBezTo>
                    <a:pt x="517002" y="427112"/>
                    <a:pt x="516243" y="438751"/>
                    <a:pt x="513205" y="449891"/>
                  </a:cubicBezTo>
                  <a:cubicBezTo>
                    <a:pt x="510515" y="459753"/>
                    <a:pt x="502279" y="468153"/>
                    <a:pt x="501815" y="478365"/>
                  </a:cubicBezTo>
                  <a:cubicBezTo>
                    <a:pt x="500347" y="510658"/>
                    <a:pt x="505612" y="542907"/>
                    <a:pt x="507510" y="575178"/>
                  </a:cubicBezTo>
                  <a:cubicBezTo>
                    <a:pt x="505612" y="594161"/>
                    <a:pt x="507848" y="614028"/>
                    <a:pt x="501815" y="632126"/>
                  </a:cubicBezTo>
                  <a:cubicBezTo>
                    <a:pt x="499651" y="638619"/>
                    <a:pt x="490985" y="640736"/>
                    <a:pt x="484730" y="643516"/>
                  </a:cubicBezTo>
                  <a:cubicBezTo>
                    <a:pt x="473759" y="648392"/>
                    <a:pt x="462473" y="653416"/>
                    <a:pt x="450560" y="654905"/>
                  </a:cubicBezTo>
                  <a:cubicBezTo>
                    <a:pt x="420187" y="658702"/>
                    <a:pt x="389712" y="661754"/>
                    <a:pt x="359441" y="666295"/>
                  </a:cubicBezTo>
                  <a:cubicBezTo>
                    <a:pt x="351701" y="667456"/>
                    <a:pt x="344254" y="670092"/>
                    <a:pt x="336661" y="671990"/>
                  </a:cubicBezTo>
                  <a:cubicBezTo>
                    <a:pt x="279746" y="666299"/>
                    <a:pt x="271428" y="661981"/>
                    <a:pt x="211371" y="671990"/>
                  </a:cubicBezTo>
                  <a:cubicBezTo>
                    <a:pt x="199528" y="673964"/>
                    <a:pt x="177201" y="683379"/>
                    <a:pt x="177201" y="683379"/>
                  </a:cubicBezTo>
                  <a:lnTo>
                    <a:pt x="63302" y="677684"/>
                  </a:lnTo>
                  <a:cubicBezTo>
                    <a:pt x="55688" y="675871"/>
                    <a:pt x="61949" y="661417"/>
                    <a:pt x="57607" y="654905"/>
                  </a:cubicBezTo>
                  <a:cubicBezTo>
                    <a:pt x="53810" y="649210"/>
                    <a:pt x="46217" y="647312"/>
                    <a:pt x="40522" y="643516"/>
                  </a:cubicBezTo>
                  <a:cubicBezTo>
                    <a:pt x="38624" y="637821"/>
                    <a:pt x="38577" y="631119"/>
                    <a:pt x="34827" y="626431"/>
                  </a:cubicBezTo>
                  <a:cubicBezTo>
                    <a:pt x="30551" y="621086"/>
                    <a:pt x="20081" y="621473"/>
                    <a:pt x="17742" y="615041"/>
                  </a:cubicBezTo>
                  <a:cubicBezTo>
                    <a:pt x="11867" y="598887"/>
                    <a:pt x="13945" y="580872"/>
                    <a:pt x="12047" y="563788"/>
                  </a:cubicBezTo>
                  <a:cubicBezTo>
                    <a:pt x="13945" y="520128"/>
                    <a:pt x="17742" y="476509"/>
                    <a:pt x="17742" y="432807"/>
                  </a:cubicBezTo>
                  <a:cubicBezTo>
                    <a:pt x="17742" y="406144"/>
                    <a:pt x="12350" y="388461"/>
                    <a:pt x="6352" y="364469"/>
                  </a:cubicBezTo>
                  <a:cubicBezTo>
                    <a:pt x="529" y="312064"/>
                    <a:pt x="-4413" y="296593"/>
                    <a:pt x="6352" y="239183"/>
                  </a:cubicBezTo>
                  <a:cubicBezTo>
                    <a:pt x="7613" y="232456"/>
                    <a:pt x="14681" y="228220"/>
                    <a:pt x="17742" y="222098"/>
                  </a:cubicBezTo>
                  <a:cubicBezTo>
                    <a:pt x="20427" y="216729"/>
                    <a:pt x="19192" y="209259"/>
                    <a:pt x="23437" y="205014"/>
                  </a:cubicBezTo>
                  <a:cubicBezTo>
                    <a:pt x="29440" y="199011"/>
                    <a:pt x="39309" y="198558"/>
                    <a:pt x="46217" y="193624"/>
                  </a:cubicBezTo>
                  <a:cubicBezTo>
                    <a:pt x="52771" y="188943"/>
                    <a:pt x="57115" y="181695"/>
                    <a:pt x="63302" y="176539"/>
                  </a:cubicBezTo>
                  <a:cubicBezTo>
                    <a:pt x="78020" y="164274"/>
                    <a:pt x="80351" y="165162"/>
                    <a:pt x="97472" y="159455"/>
                  </a:cubicBezTo>
                  <a:cubicBezTo>
                    <a:pt x="103167" y="153760"/>
                    <a:pt x="107856" y="146837"/>
                    <a:pt x="114557" y="142370"/>
                  </a:cubicBezTo>
                  <a:cubicBezTo>
                    <a:pt x="119552" y="139040"/>
                    <a:pt x="126273" y="139360"/>
                    <a:pt x="131642" y="136676"/>
                  </a:cubicBezTo>
                  <a:cubicBezTo>
                    <a:pt x="137764" y="133615"/>
                    <a:pt x="143032" y="129083"/>
                    <a:pt x="148727" y="125286"/>
                  </a:cubicBezTo>
                  <a:cubicBezTo>
                    <a:pt x="179101" y="79724"/>
                    <a:pt x="139235" y="134778"/>
                    <a:pt x="177201" y="96812"/>
                  </a:cubicBezTo>
                  <a:cubicBezTo>
                    <a:pt x="199655" y="74358"/>
                    <a:pt x="177647" y="83748"/>
                    <a:pt x="199981" y="56948"/>
                  </a:cubicBezTo>
                  <a:cubicBezTo>
                    <a:pt x="204363" y="51690"/>
                    <a:pt x="211371" y="49355"/>
                    <a:pt x="217066" y="45558"/>
                  </a:cubicBezTo>
                  <a:cubicBezTo>
                    <a:pt x="220863" y="39863"/>
                    <a:pt x="225060" y="34416"/>
                    <a:pt x="228456" y="28474"/>
                  </a:cubicBezTo>
                  <a:cubicBezTo>
                    <a:pt x="232668" y="21103"/>
                    <a:pt x="233324" y="11129"/>
                    <a:pt x="239846" y="5694"/>
                  </a:cubicBezTo>
                  <a:cubicBezTo>
                    <a:pt x="245859" y="683"/>
                    <a:pt x="255033" y="1898"/>
                    <a:pt x="262626" y="0"/>
                  </a:cubicBezTo>
                  <a:cubicBezTo>
                    <a:pt x="311983" y="1898"/>
                    <a:pt x="361420" y="2296"/>
                    <a:pt x="410696" y="5694"/>
                  </a:cubicBezTo>
                  <a:cubicBezTo>
                    <a:pt x="416685" y="6107"/>
                    <a:pt x="422009" y="9740"/>
                    <a:pt x="427781" y="11389"/>
                  </a:cubicBezTo>
                  <a:cubicBezTo>
                    <a:pt x="435307" y="13539"/>
                    <a:pt x="443034" y="14934"/>
                    <a:pt x="450560" y="17084"/>
                  </a:cubicBezTo>
                  <a:cubicBezTo>
                    <a:pt x="463530" y="20790"/>
                    <a:pt x="474746" y="24185"/>
                    <a:pt x="484730" y="34169"/>
                  </a:cubicBezTo>
                  <a:cubicBezTo>
                    <a:pt x="487731" y="37170"/>
                    <a:pt x="471442" y="37016"/>
                    <a:pt x="484730" y="39863"/>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71" name="Oval 210"/>
            <p:cNvSpPr/>
            <p:nvPr/>
          </p:nvSpPr>
          <p:spPr>
            <a:xfrm rot="310800">
              <a:off x="5526360" y="517392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72" name="Group 211"/>
            <p:cNvGrpSpPr/>
            <p:nvPr/>
          </p:nvGrpSpPr>
          <p:grpSpPr>
            <a:xfrm>
              <a:off x="5428440" y="5163120"/>
              <a:ext cx="79920" cy="81000"/>
              <a:chOff x="5428440" y="5163120"/>
              <a:chExt cx="79920" cy="81000"/>
            </a:xfrm>
          </p:grpSpPr>
          <p:sp>
            <p:nvSpPr>
              <p:cNvPr id="973" name="Oval 215"/>
              <p:cNvSpPr/>
              <p:nvPr/>
            </p:nvSpPr>
            <p:spPr>
              <a:xfrm rot="19245000">
                <a:off x="5441760" y="5172840"/>
                <a:ext cx="52920" cy="6156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4" name="Oval 216"/>
              <p:cNvSpPr/>
              <p:nvPr/>
            </p:nvSpPr>
            <p:spPr>
              <a:xfrm rot="19245000">
                <a:off x="5454360" y="5209200"/>
                <a:ext cx="52920" cy="20520"/>
              </a:xfrm>
              <a:prstGeom prst="ellipse">
                <a:avLst/>
              </a:prstGeom>
              <a:solidFill>
                <a:srgbClr val="260073"/>
              </a:solidFill>
              <a:ln w="0">
                <a:noFill/>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75" name="Group 212"/>
            <p:cNvGrpSpPr/>
            <p:nvPr/>
          </p:nvGrpSpPr>
          <p:grpSpPr>
            <a:xfrm>
              <a:off x="5483520" y="5233320"/>
              <a:ext cx="79200" cy="81000"/>
              <a:chOff x="5483520" y="5233320"/>
              <a:chExt cx="79200" cy="81000"/>
            </a:xfrm>
          </p:grpSpPr>
          <p:sp>
            <p:nvSpPr>
              <p:cNvPr id="976" name="Oval 213"/>
              <p:cNvSpPr/>
              <p:nvPr/>
            </p:nvSpPr>
            <p:spPr>
              <a:xfrm rot="13491000">
                <a:off x="5492880" y="5248800"/>
                <a:ext cx="6012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77" name="Oval 214"/>
              <p:cNvSpPr/>
              <p:nvPr/>
            </p:nvSpPr>
            <p:spPr>
              <a:xfrm rot="13491000">
                <a:off x="5504760" y="5251680"/>
                <a:ext cx="6012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78" name="Group 217"/>
          <p:cNvGrpSpPr/>
          <p:nvPr/>
        </p:nvGrpSpPr>
        <p:grpSpPr>
          <a:xfrm>
            <a:off x="4572360" y="4952520"/>
            <a:ext cx="288000" cy="253440"/>
            <a:chOff x="4572360" y="4952520"/>
            <a:chExt cx="288000" cy="253440"/>
          </a:xfrm>
        </p:grpSpPr>
        <p:sp>
          <p:nvSpPr>
            <p:cNvPr id="979" name="Freeform 218"/>
            <p:cNvSpPr/>
            <p:nvPr/>
          </p:nvSpPr>
          <p:spPr>
            <a:xfrm rot="9165000">
              <a:off x="4595760" y="4998960"/>
              <a:ext cx="241200" cy="1605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0" name="Oval 219"/>
            <p:cNvSpPr/>
            <p:nvPr/>
          </p:nvSpPr>
          <p:spPr>
            <a:xfrm rot="12784800">
              <a:off x="4739400" y="5051160"/>
              <a:ext cx="53640" cy="406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81" name="Group 220"/>
            <p:cNvGrpSpPr/>
            <p:nvPr/>
          </p:nvGrpSpPr>
          <p:grpSpPr>
            <a:xfrm>
              <a:off x="4692960" y="5074200"/>
              <a:ext cx="79920" cy="81360"/>
              <a:chOff x="4692960" y="5074200"/>
              <a:chExt cx="79920" cy="81360"/>
            </a:xfrm>
          </p:grpSpPr>
          <p:sp>
            <p:nvSpPr>
              <p:cNvPr id="982" name="Oval 224"/>
              <p:cNvSpPr/>
              <p:nvPr/>
            </p:nvSpPr>
            <p:spPr>
              <a:xfrm rot="7683600">
                <a:off x="4703040" y="509004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3" name="Oval 225"/>
              <p:cNvSpPr/>
              <p:nvPr/>
            </p:nvSpPr>
            <p:spPr>
              <a:xfrm rot="7683600">
                <a:off x="4687560" y="5094720"/>
                <a:ext cx="6120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84" name="Group 221"/>
            <p:cNvGrpSpPr/>
            <p:nvPr/>
          </p:nvGrpSpPr>
          <p:grpSpPr>
            <a:xfrm>
              <a:off x="4636440" y="5038200"/>
              <a:ext cx="73080" cy="67320"/>
              <a:chOff x="4636440" y="5038200"/>
              <a:chExt cx="73080" cy="67320"/>
            </a:xfrm>
          </p:grpSpPr>
          <p:sp>
            <p:nvSpPr>
              <p:cNvPr id="985" name="Oval 222"/>
              <p:cNvSpPr/>
              <p:nvPr/>
            </p:nvSpPr>
            <p:spPr>
              <a:xfrm rot="9879000">
                <a:off x="4643280" y="5046840"/>
                <a:ext cx="60480" cy="51480"/>
              </a:xfrm>
              <a:prstGeom prst="ellipse">
                <a:avLst/>
              </a:prstGeom>
              <a:solidFill>
                <a:srgbClr val="ffeb00"/>
              </a:solid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6" name="Oval 223"/>
              <p:cNvSpPr/>
              <p:nvPr/>
            </p:nvSpPr>
            <p:spPr>
              <a:xfrm rot="9879000">
                <a:off x="4637160" y="5045760"/>
                <a:ext cx="6048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87" name="Group 226"/>
          <p:cNvGrpSpPr/>
          <p:nvPr/>
        </p:nvGrpSpPr>
        <p:grpSpPr>
          <a:xfrm>
            <a:off x="5029200" y="4953600"/>
            <a:ext cx="287280" cy="246600"/>
            <a:chOff x="5029200" y="4953600"/>
            <a:chExt cx="287280" cy="246600"/>
          </a:xfrm>
        </p:grpSpPr>
        <p:sp>
          <p:nvSpPr>
            <p:cNvPr id="988" name="Freeform 227"/>
            <p:cNvSpPr/>
            <p:nvPr/>
          </p:nvSpPr>
          <p:spPr>
            <a:xfrm rot="20091600">
              <a:off x="5051160" y="4997160"/>
              <a:ext cx="24264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89" name="Oval 228"/>
            <p:cNvSpPr/>
            <p:nvPr/>
          </p:nvSpPr>
          <p:spPr>
            <a:xfrm rot="2111400">
              <a:off x="5095800" y="50612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0" name="Group 229"/>
            <p:cNvGrpSpPr/>
            <p:nvPr/>
          </p:nvGrpSpPr>
          <p:grpSpPr>
            <a:xfrm>
              <a:off x="5117760" y="5000040"/>
              <a:ext cx="80280" cy="81360"/>
              <a:chOff x="5117760" y="5000040"/>
              <a:chExt cx="80280" cy="81360"/>
            </a:xfrm>
          </p:grpSpPr>
          <p:sp>
            <p:nvSpPr>
              <p:cNvPr id="991" name="Oval 233"/>
              <p:cNvSpPr/>
              <p:nvPr/>
            </p:nvSpPr>
            <p:spPr>
              <a:xfrm rot="18610200">
                <a:off x="5126760" y="5014080"/>
                <a:ext cx="6156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2" name="Oval 234"/>
              <p:cNvSpPr/>
              <p:nvPr/>
            </p:nvSpPr>
            <p:spPr>
              <a:xfrm rot="18610200">
                <a:off x="5140080" y="5042880"/>
                <a:ext cx="6156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993" name="Group 230"/>
            <p:cNvGrpSpPr/>
            <p:nvPr/>
          </p:nvGrpSpPr>
          <p:grpSpPr>
            <a:xfrm>
              <a:off x="5180400" y="5052240"/>
              <a:ext cx="71640" cy="65520"/>
              <a:chOff x="5180400" y="5052240"/>
              <a:chExt cx="71640" cy="65520"/>
            </a:xfrm>
          </p:grpSpPr>
          <p:sp>
            <p:nvSpPr>
              <p:cNvPr id="994" name="Oval 231"/>
              <p:cNvSpPr/>
              <p:nvPr/>
            </p:nvSpPr>
            <p:spPr>
              <a:xfrm rot="20805600">
                <a:off x="5185440" y="5058360"/>
                <a:ext cx="6120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95" name="Oval 232"/>
              <p:cNvSpPr/>
              <p:nvPr/>
            </p:nvSpPr>
            <p:spPr>
              <a:xfrm rot="20805600">
                <a:off x="5188680" y="5092560"/>
                <a:ext cx="6120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996" name="Group 235"/>
          <p:cNvGrpSpPr/>
          <p:nvPr/>
        </p:nvGrpSpPr>
        <p:grpSpPr>
          <a:xfrm>
            <a:off x="5180760" y="5029200"/>
            <a:ext cx="272880" cy="209520"/>
            <a:chOff x="5180760" y="5029200"/>
            <a:chExt cx="272880" cy="209520"/>
          </a:xfrm>
        </p:grpSpPr>
        <p:sp>
          <p:nvSpPr>
            <p:cNvPr id="997" name="Freeform 236"/>
            <p:cNvSpPr/>
            <p:nvPr/>
          </p:nvSpPr>
          <p:spPr>
            <a:xfrm rot="11584200">
              <a:off x="5195520" y="5054400"/>
              <a:ext cx="243000" cy="158760"/>
            </a:xfrm>
            <a:custGeom>
              <a:avLst/>
              <a:gdLst/>
              <a:ahLst/>
              <a:rect l="l" t="t" r="r" b="b"/>
              <a:pathLst>
                <a:path w="899806" h="683546">
                  <a:moveTo>
                    <a:pt x="39865" y="142371"/>
                  </a:moveTo>
                  <a:cubicBezTo>
                    <a:pt x="33221" y="158506"/>
                    <a:pt x="23789" y="195285"/>
                    <a:pt x="11390" y="244878"/>
                  </a:cubicBezTo>
                  <a:cubicBezTo>
                    <a:pt x="9492" y="260064"/>
                    <a:pt x="8022" y="275310"/>
                    <a:pt x="5695" y="290437"/>
                  </a:cubicBezTo>
                  <a:cubicBezTo>
                    <a:pt x="4223" y="300004"/>
                    <a:pt x="0" y="309232"/>
                    <a:pt x="0" y="318911"/>
                  </a:cubicBezTo>
                  <a:cubicBezTo>
                    <a:pt x="0" y="328590"/>
                    <a:pt x="3347" y="337995"/>
                    <a:pt x="5695" y="347385"/>
                  </a:cubicBezTo>
                  <a:cubicBezTo>
                    <a:pt x="7151" y="353208"/>
                    <a:pt x="7640" y="359782"/>
                    <a:pt x="11390" y="364469"/>
                  </a:cubicBezTo>
                  <a:cubicBezTo>
                    <a:pt x="15666" y="369814"/>
                    <a:pt x="22780" y="372062"/>
                    <a:pt x="28475" y="375859"/>
                  </a:cubicBezTo>
                  <a:cubicBezTo>
                    <a:pt x="32272" y="381554"/>
                    <a:pt x="35483" y="387686"/>
                    <a:pt x="39865" y="392944"/>
                  </a:cubicBezTo>
                  <a:cubicBezTo>
                    <a:pt x="45021" y="399131"/>
                    <a:pt x="53039" y="402988"/>
                    <a:pt x="56950" y="410028"/>
                  </a:cubicBezTo>
                  <a:cubicBezTo>
                    <a:pt x="62781" y="420523"/>
                    <a:pt x="65429" y="432550"/>
                    <a:pt x="68340" y="444197"/>
                  </a:cubicBezTo>
                  <a:cubicBezTo>
                    <a:pt x="75490" y="472800"/>
                    <a:pt x="71559" y="459551"/>
                    <a:pt x="79729" y="484061"/>
                  </a:cubicBezTo>
                  <a:cubicBezTo>
                    <a:pt x="81627" y="518230"/>
                    <a:pt x="82179" y="552500"/>
                    <a:pt x="85424" y="586568"/>
                  </a:cubicBezTo>
                  <a:cubicBezTo>
                    <a:pt x="85993" y="592544"/>
                    <a:pt x="86874" y="599408"/>
                    <a:pt x="91119" y="603652"/>
                  </a:cubicBezTo>
                  <a:cubicBezTo>
                    <a:pt x="95364" y="607897"/>
                    <a:pt x="102509" y="607449"/>
                    <a:pt x="108204" y="609347"/>
                  </a:cubicBezTo>
                  <a:cubicBezTo>
                    <a:pt x="113881" y="626379"/>
                    <a:pt x="115071" y="635950"/>
                    <a:pt x="130984" y="649211"/>
                  </a:cubicBezTo>
                  <a:cubicBezTo>
                    <a:pt x="135596" y="653054"/>
                    <a:pt x="142700" y="652221"/>
                    <a:pt x="148069" y="654906"/>
                  </a:cubicBezTo>
                  <a:cubicBezTo>
                    <a:pt x="154191" y="657967"/>
                    <a:pt x="158551" y="664494"/>
                    <a:pt x="165154" y="666295"/>
                  </a:cubicBezTo>
                  <a:cubicBezTo>
                    <a:pt x="179920" y="670322"/>
                    <a:pt x="195527" y="670092"/>
                    <a:pt x="210714" y="671990"/>
                  </a:cubicBezTo>
                  <a:cubicBezTo>
                    <a:pt x="256274" y="670092"/>
                    <a:pt x="301794" y="666295"/>
                    <a:pt x="347393" y="666295"/>
                  </a:cubicBezTo>
                  <a:cubicBezTo>
                    <a:pt x="509057" y="666295"/>
                    <a:pt x="465125" y="648278"/>
                    <a:pt x="535328" y="683380"/>
                  </a:cubicBezTo>
                  <a:cubicBezTo>
                    <a:pt x="552413" y="681482"/>
                    <a:pt x="569593" y="680299"/>
                    <a:pt x="586583" y="677685"/>
                  </a:cubicBezTo>
                  <a:cubicBezTo>
                    <a:pt x="594319" y="676495"/>
                    <a:pt x="601535" y="671990"/>
                    <a:pt x="609362" y="671990"/>
                  </a:cubicBezTo>
                  <a:cubicBezTo>
                    <a:pt x="647376" y="671990"/>
                    <a:pt x="685295" y="675787"/>
                    <a:pt x="723262" y="677685"/>
                  </a:cubicBezTo>
                  <a:cubicBezTo>
                    <a:pt x="755519" y="688437"/>
                    <a:pt x="725998" y="684257"/>
                    <a:pt x="757432" y="666295"/>
                  </a:cubicBezTo>
                  <a:cubicBezTo>
                    <a:pt x="764228" y="662412"/>
                    <a:pt x="772571" y="662299"/>
                    <a:pt x="780212" y="660601"/>
                  </a:cubicBezTo>
                  <a:cubicBezTo>
                    <a:pt x="810198" y="653938"/>
                    <a:pt x="815262" y="653967"/>
                    <a:pt x="848552" y="649211"/>
                  </a:cubicBezTo>
                  <a:cubicBezTo>
                    <a:pt x="854247" y="645414"/>
                    <a:pt x="862241" y="643764"/>
                    <a:pt x="865637" y="637821"/>
                  </a:cubicBezTo>
                  <a:cubicBezTo>
                    <a:pt x="870439" y="629417"/>
                    <a:pt x="868551" y="618618"/>
                    <a:pt x="871332" y="609347"/>
                  </a:cubicBezTo>
                  <a:cubicBezTo>
                    <a:pt x="874269" y="599556"/>
                    <a:pt x="878925" y="590364"/>
                    <a:pt x="882721" y="580873"/>
                  </a:cubicBezTo>
                  <a:cubicBezTo>
                    <a:pt x="884619" y="567585"/>
                    <a:pt x="885160" y="554031"/>
                    <a:pt x="888416" y="541009"/>
                  </a:cubicBezTo>
                  <a:cubicBezTo>
                    <a:pt x="890895" y="531092"/>
                    <a:pt x="899806" y="522758"/>
                    <a:pt x="899806" y="512535"/>
                  </a:cubicBezTo>
                  <a:cubicBezTo>
                    <a:pt x="899806" y="481536"/>
                    <a:pt x="891348" y="457871"/>
                    <a:pt x="877026" y="432807"/>
                  </a:cubicBezTo>
                  <a:cubicBezTo>
                    <a:pt x="873630" y="426865"/>
                    <a:pt x="868698" y="421845"/>
                    <a:pt x="865637" y="415723"/>
                  </a:cubicBezTo>
                  <a:cubicBezTo>
                    <a:pt x="862952" y="410354"/>
                    <a:pt x="863272" y="403633"/>
                    <a:pt x="859942" y="398638"/>
                  </a:cubicBezTo>
                  <a:cubicBezTo>
                    <a:pt x="855475" y="391937"/>
                    <a:pt x="847802" y="387911"/>
                    <a:pt x="842857" y="381554"/>
                  </a:cubicBezTo>
                  <a:cubicBezTo>
                    <a:pt x="834453" y="370749"/>
                    <a:pt x="827670" y="358775"/>
                    <a:pt x="820077" y="347385"/>
                  </a:cubicBezTo>
                  <a:lnTo>
                    <a:pt x="808687" y="330300"/>
                  </a:lnTo>
                  <a:cubicBezTo>
                    <a:pt x="804445" y="309089"/>
                    <a:pt x="799708" y="281416"/>
                    <a:pt x="791602" y="261963"/>
                  </a:cubicBezTo>
                  <a:cubicBezTo>
                    <a:pt x="787345" y="251745"/>
                    <a:pt x="779097" y="243565"/>
                    <a:pt x="774517" y="233488"/>
                  </a:cubicBezTo>
                  <a:cubicBezTo>
                    <a:pt x="769549" y="222558"/>
                    <a:pt x="767586" y="210466"/>
                    <a:pt x="763127" y="199319"/>
                  </a:cubicBezTo>
                  <a:cubicBezTo>
                    <a:pt x="759330" y="189828"/>
                    <a:pt x="761435" y="174078"/>
                    <a:pt x="751737" y="170845"/>
                  </a:cubicBezTo>
                  <a:cubicBezTo>
                    <a:pt x="717330" y="159377"/>
                    <a:pt x="679600" y="163252"/>
                    <a:pt x="643532" y="159456"/>
                  </a:cubicBezTo>
                  <a:cubicBezTo>
                    <a:pt x="641634" y="151863"/>
                    <a:pt x="640086" y="144173"/>
                    <a:pt x="637837" y="136676"/>
                  </a:cubicBezTo>
                  <a:cubicBezTo>
                    <a:pt x="634387" y="125177"/>
                    <a:pt x="626447" y="102507"/>
                    <a:pt x="626447" y="102507"/>
                  </a:cubicBezTo>
                  <a:cubicBezTo>
                    <a:pt x="628345" y="96812"/>
                    <a:pt x="634040" y="91118"/>
                    <a:pt x="632142" y="85423"/>
                  </a:cubicBezTo>
                  <a:cubicBezTo>
                    <a:pt x="620719" y="51155"/>
                    <a:pt x="615908" y="53436"/>
                    <a:pt x="592278" y="45559"/>
                  </a:cubicBezTo>
                  <a:cubicBezTo>
                    <a:pt x="590380" y="39864"/>
                    <a:pt x="589913" y="33469"/>
                    <a:pt x="586583" y="28474"/>
                  </a:cubicBezTo>
                  <a:cubicBezTo>
                    <a:pt x="582116" y="21773"/>
                    <a:pt x="576491" y="15386"/>
                    <a:pt x="569498" y="11390"/>
                  </a:cubicBezTo>
                  <a:cubicBezTo>
                    <a:pt x="562702" y="7507"/>
                    <a:pt x="554454" y="6885"/>
                    <a:pt x="546718" y="5695"/>
                  </a:cubicBezTo>
                  <a:cubicBezTo>
                    <a:pt x="529728" y="3081"/>
                    <a:pt x="512548" y="1898"/>
                    <a:pt x="495463" y="0"/>
                  </a:cubicBezTo>
                  <a:cubicBezTo>
                    <a:pt x="476480" y="1898"/>
                    <a:pt x="457264" y="2179"/>
                    <a:pt x="438513" y="5695"/>
                  </a:cubicBezTo>
                  <a:cubicBezTo>
                    <a:pt x="426713" y="7908"/>
                    <a:pt x="416116" y="14730"/>
                    <a:pt x="404343" y="17085"/>
                  </a:cubicBezTo>
                  <a:cubicBezTo>
                    <a:pt x="394851" y="18983"/>
                    <a:pt x="385207" y="20233"/>
                    <a:pt x="375868" y="22780"/>
                  </a:cubicBezTo>
                  <a:cubicBezTo>
                    <a:pt x="364285" y="25939"/>
                    <a:pt x="341698" y="34169"/>
                    <a:pt x="341698" y="34169"/>
                  </a:cubicBezTo>
                  <a:cubicBezTo>
                    <a:pt x="316504" y="71964"/>
                    <a:pt x="343789" y="40637"/>
                    <a:pt x="267664" y="56949"/>
                  </a:cubicBezTo>
                  <a:cubicBezTo>
                    <a:pt x="251140" y="60490"/>
                    <a:pt x="246873" y="77990"/>
                    <a:pt x="233494" y="85423"/>
                  </a:cubicBezTo>
                  <a:cubicBezTo>
                    <a:pt x="222999" y="91253"/>
                    <a:pt x="210714" y="93016"/>
                    <a:pt x="199324" y="96812"/>
                  </a:cubicBezTo>
                  <a:lnTo>
                    <a:pt x="182239" y="102507"/>
                  </a:lnTo>
                  <a:cubicBezTo>
                    <a:pt x="110247" y="126504"/>
                    <a:pt x="225348" y="86472"/>
                    <a:pt x="148069" y="119592"/>
                  </a:cubicBezTo>
                  <a:cubicBezTo>
                    <a:pt x="141028" y="122610"/>
                    <a:pt x="101887" y="129967"/>
                    <a:pt x="96814" y="130981"/>
                  </a:cubicBezTo>
                  <a:cubicBezTo>
                    <a:pt x="78248" y="140264"/>
                    <a:pt x="71931" y="145481"/>
                    <a:pt x="51255" y="148066"/>
                  </a:cubicBezTo>
                  <a:cubicBezTo>
                    <a:pt x="43720" y="149008"/>
                    <a:pt x="46509" y="126236"/>
                    <a:pt x="39865" y="142371"/>
                  </a:cubicBez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998" name="Oval 237"/>
            <p:cNvSpPr/>
            <p:nvPr/>
          </p:nvSpPr>
          <p:spPr>
            <a:xfrm rot="15204000">
              <a:off x="5333760" y="5140440"/>
              <a:ext cx="52920" cy="410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999" name="Group 238"/>
            <p:cNvGrpSpPr/>
            <p:nvPr/>
          </p:nvGrpSpPr>
          <p:grpSpPr>
            <a:xfrm>
              <a:off x="5271480" y="5139360"/>
              <a:ext cx="70920" cy="64080"/>
              <a:chOff x="5271480" y="5139360"/>
              <a:chExt cx="70920" cy="64080"/>
            </a:xfrm>
          </p:grpSpPr>
          <p:sp>
            <p:nvSpPr>
              <p:cNvPr id="1000" name="Oval 242"/>
              <p:cNvSpPr/>
              <p:nvPr/>
            </p:nvSpPr>
            <p:spPr>
              <a:xfrm rot="10102800">
                <a:off x="5277240" y="514512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1" name="Oval 243"/>
              <p:cNvSpPr/>
              <p:nvPr/>
            </p:nvSpPr>
            <p:spPr>
              <a:xfrm rot="10102800">
                <a:off x="5272200" y="51451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02" name="Group 239"/>
            <p:cNvGrpSpPr/>
            <p:nvPr/>
          </p:nvGrpSpPr>
          <p:grpSpPr>
            <a:xfrm>
              <a:off x="5249880" y="5063760"/>
              <a:ext cx="77400" cy="73800"/>
              <a:chOff x="5249880" y="5063760"/>
              <a:chExt cx="77400" cy="73800"/>
            </a:xfrm>
          </p:grpSpPr>
          <p:sp>
            <p:nvSpPr>
              <p:cNvPr id="1003" name="Oval 240"/>
              <p:cNvSpPr/>
              <p:nvPr/>
            </p:nvSpPr>
            <p:spPr>
              <a:xfrm rot="12298800">
                <a:off x="5257800" y="5074200"/>
                <a:ext cx="60840" cy="52920"/>
              </a:xfrm>
              <a:prstGeom prst="ellipse">
                <a:avLst/>
              </a:prstGeom>
              <a:solidFill>
                <a:srgbClr val="ffeb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04" name="Oval 241"/>
              <p:cNvSpPr/>
              <p:nvPr/>
            </p:nvSpPr>
            <p:spPr>
              <a:xfrm rot="12298800">
                <a:off x="5264640" y="5075640"/>
                <a:ext cx="60840" cy="17640"/>
              </a:xfrm>
              <a:prstGeom prst="ellipse">
                <a:avLst/>
              </a:prstGeom>
              <a:solidFill>
                <a:srgbClr val="260073"/>
              </a:solidFill>
              <a:ln w="0">
                <a:noFill/>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05" name="Group 244"/>
          <p:cNvGrpSpPr/>
          <p:nvPr/>
        </p:nvGrpSpPr>
        <p:grpSpPr>
          <a:xfrm>
            <a:off x="4419360" y="5029560"/>
            <a:ext cx="251640" cy="176040"/>
            <a:chOff x="4419360" y="5029560"/>
            <a:chExt cx="251640" cy="176040"/>
          </a:xfrm>
        </p:grpSpPr>
        <p:sp>
          <p:nvSpPr>
            <p:cNvPr id="1006" name="Freeform 245"/>
            <p:cNvSpPr/>
            <p:nvPr/>
          </p:nvSpPr>
          <p:spPr>
            <a:xfrm rot="11235000">
              <a:off x="4427640" y="5043600"/>
              <a:ext cx="23472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07" name="Oval 246"/>
            <p:cNvSpPr/>
            <p:nvPr/>
          </p:nvSpPr>
          <p:spPr>
            <a:xfrm rot="10663800">
              <a:off x="4476600" y="514188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08" name="Group 247"/>
            <p:cNvGrpSpPr/>
            <p:nvPr/>
          </p:nvGrpSpPr>
          <p:grpSpPr>
            <a:xfrm>
              <a:off x="4565160" y="5081040"/>
              <a:ext cx="62640" cy="55080"/>
              <a:chOff x="4565160" y="5081040"/>
              <a:chExt cx="62640" cy="55080"/>
            </a:xfrm>
          </p:grpSpPr>
          <p:sp>
            <p:nvSpPr>
              <p:cNvPr id="1009" name="Oval 251"/>
              <p:cNvSpPr/>
              <p:nvPr/>
            </p:nvSpPr>
            <p:spPr>
              <a:xfrm rot="21502800">
                <a:off x="4565880" y="5081760"/>
                <a:ext cx="6120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0" name="Oval 252"/>
              <p:cNvSpPr/>
              <p:nvPr/>
            </p:nvSpPr>
            <p:spPr>
              <a:xfrm rot="21502800">
                <a:off x="4565160" y="5116320"/>
                <a:ext cx="6120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11" name="Group 248"/>
            <p:cNvGrpSpPr/>
            <p:nvPr/>
          </p:nvGrpSpPr>
          <p:grpSpPr>
            <a:xfrm>
              <a:off x="4444560" y="5064480"/>
              <a:ext cx="79920" cy="81360"/>
              <a:chOff x="4444560" y="5064480"/>
              <a:chExt cx="79920" cy="81360"/>
            </a:xfrm>
          </p:grpSpPr>
          <p:sp>
            <p:nvSpPr>
              <p:cNvPr id="1012" name="Oval 249"/>
              <p:cNvSpPr/>
              <p:nvPr/>
            </p:nvSpPr>
            <p:spPr>
              <a:xfrm rot="13578000">
                <a:off x="4454640" y="5078880"/>
                <a:ext cx="5976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3" name="Oval 250"/>
              <p:cNvSpPr/>
              <p:nvPr/>
            </p:nvSpPr>
            <p:spPr>
              <a:xfrm rot="13578000">
                <a:off x="4466520" y="5083200"/>
                <a:ext cx="5976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14" name="Group 253"/>
          <p:cNvGrpSpPr/>
          <p:nvPr/>
        </p:nvGrpSpPr>
        <p:grpSpPr>
          <a:xfrm>
            <a:off x="4725360" y="4953960"/>
            <a:ext cx="263520" cy="201240"/>
            <a:chOff x="4725360" y="4953960"/>
            <a:chExt cx="263520" cy="201240"/>
          </a:xfrm>
        </p:grpSpPr>
        <p:sp>
          <p:nvSpPr>
            <p:cNvPr id="1015" name="Freeform 254"/>
            <p:cNvSpPr/>
            <p:nvPr/>
          </p:nvSpPr>
          <p:spPr>
            <a:xfrm rot="20698800">
              <a:off x="4740120" y="4981320"/>
              <a:ext cx="233640" cy="1458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16" name="Oval 255"/>
            <p:cNvSpPr/>
            <p:nvPr/>
          </p:nvSpPr>
          <p:spPr>
            <a:xfrm rot="20127600">
              <a:off x="4844520" y="4984200"/>
              <a:ext cx="61200" cy="3492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17" name="Group 256"/>
            <p:cNvGrpSpPr/>
            <p:nvPr/>
          </p:nvGrpSpPr>
          <p:grpSpPr>
            <a:xfrm>
              <a:off x="4775040" y="5044680"/>
              <a:ext cx="77040" cy="73080"/>
              <a:chOff x="4775040" y="5044680"/>
              <a:chExt cx="77040" cy="73080"/>
            </a:xfrm>
          </p:grpSpPr>
          <p:sp>
            <p:nvSpPr>
              <p:cNvPr id="1018" name="Oval 260"/>
              <p:cNvSpPr/>
              <p:nvPr/>
            </p:nvSpPr>
            <p:spPr>
              <a:xfrm rot="9366000">
                <a:off x="4782960" y="5056200"/>
                <a:ext cx="6120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19" name="Oval 261"/>
              <p:cNvSpPr/>
              <p:nvPr/>
            </p:nvSpPr>
            <p:spPr>
              <a:xfrm rot="9366000">
                <a:off x="4775400" y="5056200"/>
                <a:ext cx="61200" cy="16920"/>
              </a:xfrm>
              <a:prstGeom prst="ellipse">
                <a:avLst/>
              </a:prstGeom>
              <a:solidFill>
                <a:srgbClr val="260073"/>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0" name="Group 257"/>
            <p:cNvGrpSpPr/>
            <p:nvPr/>
          </p:nvGrpSpPr>
          <p:grpSpPr>
            <a:xfrm>
              <a:off x="4878720" y="5006160"/>
              <a:ext cx="77760" cy="72720"/>
              <a:chOff x="4878720" y="5006160"/>
              <a:chExt cx="77760" cy="72720"/>
            </a:xfrm>
          </p:grpSpPr>
          <p:sp>
            <p:nvSpPr>
              <p:cNvPr id="1021" name="Oval 258"/>
              <p:cNvSpPr/>
              <p:nvPr/>
            </p:nvSpPr>
            <p:spPr>
              <a:xfrm rot="1441800">
                <a:off x="4887720" y="5015880"/>
                <a:ext cx="60480" cy="52560"/>
              </a:xfrm>
              <a:prstGeom prst="ellipse">
                <a:avLst/>
              </a:prstGeom>
              <a:solidFill>
                <a:srgbClr val="ffeb00"/>
              </a:solidFill>
              <a:ln w="0">
                <a:noFill/>
              </a:ln>
            </p:spPr>
            <p:style>
              <a:lnRef idx="0"/>
              <a:fillRef idx="0"/>
              <a:effectRef idx="0"/>
              <a:fontRef idx="minor"/>
            </p:style>
            <p:txBody>
              <a:bodyPr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2" name="Oval 259"/>
              <p:cNvSpPr/>
              <p:nvPr/>
            </p:nvSpPr>
            <p:spPr>
              <a:xfrm rot="1441800">
                <a:off x="4879440" y="504972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23" name="Group 262"/>
          <p:cNvGrpSpPr/>
          <p:nvPr/>
        </p:nvGrpSpPr>
        <p:grpSpPr>
          <a:xfrm>
            <a:off x="4800600" y="5029200"/>
            <a:ext cx="235080" cy="147600"/>
            <a:chOff x="4800600" y="5029200"/>
            <a:chExt cx="235080" cy="147600"/>
          </a:xfrm>
        </p:grpSpPr>
        <p:sp>
          <p:nvSpPr>
            <p:cNvPr id="1024" name="Freeform 263"/>
            <p:cNvSpPr/>
            <p:nvPr/>
          </p:nvSpPr>
          <p:spPr>
            <a:xfrm>
              <a:off x="4800600" y="50292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25" name="Oval 264"/>
            <p:cNvSpPr/>
            <p:nvPr/>
          </p:nvSpPr>
          <p:spPr>
            <a:xfrm rot="21028800">
              <a:off x="4919040" y="503820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26" name="Group 265"/>
            <p:cNvGrpSpPr/>
            <p:nvPr/>
          </p:nvGrpSpPr>
          <p:grpSpPr>
            <a:xfrm>
              <a:off x="4834440" y="5087160"/>
              <a:ext cx="68760" cy="61920"/>
              <a:chOff x="4834440" y="5087160"/>
              <a:chExt cx="68760" cy="61920"/>
            </a:xfrm>
          </p:grpSpPr>
          <p:sp>
            <p:nvSpPr>
              <p:cNvPr id="1027" name="Oval 269"/>
              <p:cNvSpPr/>
              <p:nvPr/>
            </p:nvSpPr>
            <p:spPr>
              <a:xfrm rot="10267200">
                <a:off x="4837680" y="5092920"/>
                <a:ext cx="61560" cy="5184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28" name="Oval 270"/>
              <p:cNvSpPr/>
              <p:nvPr/>
            </p:nvSpPr>
            <p:spPr>
              <a:xfrm rot="10267200">
                <a:off x="4835160" y="509148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29" name="Group 266"/>
            <p:cNvGrpSpPr/>
            <p:nvPr/>
          </p:nvGrpSpPr>
          <p:grpSpPr>
            <a:xfrm>
              <a:off x="4939560" y="5068080"/>
              <a:ext cx="81000" cy="79560"/>
              <a:chOff x="4939560" y="5068080"/>
              <a:chExt cx="81000" cy="79560"/>
            </a:xfrm>
          </p:grpSpPr>
          <p:sp>
            <p:nvSpPr>
              <p:cNvPr id="1030" name="Oval 267"/>
              <p:cNvSpPr/>
              <p:nvPr/>
            </p:nvSpPr>
            <p:spPr>
              <a:xfrm rot="2343000">
                <a:off x="4950000" y="5081040"/>
                <a:ext cx="6048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1" name="Oval 268"/>
              <p:cNvSpPr/>
              <p:nvPr/>
            </p:nvSpPr>
            <p:spPr>
              <a:xfrm rot="2343000">
                <a:off x="4938120" y="5112360"/>
                <a:ext cx="6048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32" name="Group 271"/>
          <p:cNvGrpSpPr/>
          <p:nvPr/>
        </p:nvGrpSpPr>
        <p:grpSpPr>
          <a:xfrm>
            <a:off x="4190400" y="5028120"/>
            <a:ext cx="277560" cy="254160"/>
            <a:chOff x="4190400" y="5028120"/>
            <a:chExt cx="277560" cy="254160"/>
          </a:xfrm>
        </p:grpSpPr>
        <p:sp>
          <p:nvSpPr>
            <p:cNvPr id="1033" name="Freeform 272"/>
            <p:cNvSpPr/>
            <p:nvPr/>
          </p:nvSpPr>
          <p:spPr>
            <a:xfrm rot="19549800">
              <a:off x="4211280" y="5081400"/>
              <a:ext cx="2350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34" name="Oval 273"/>
            <p:cNvSpPr/>
            <p:nvPr/>
          </p:nvSpPr>
          <p:spPr>
            <a:xfrm rot="18978600">
              <a:off x="4298040" y="5081040"/>
              <a:ext cx="6156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35" name="Group 274"/>
            <p:cNvGrpSpPr/>
            <p:nvPr/>
          </p:nvGrpSpPr>
          <p:grpSpPr>
            <a:xfrm>
              <a:off x="4256280" y="5154840"/>
              <a:ext cx="81000" cy="81360"/>
              <a:chOff x="4256280" y="5154840"/>
              <a:chExt cx="81000" cy="81360"/>
            </a:xfrm>
          </p:grpSpPr>
          <p:sp>
            <p:nvSpPr>
              <p:cNvPr id="1036" name="Oval 278"/>
              <p:cNvSpPr/>
              <p:nvPr/>
            </p:nvSpPr>
            <p:spPr>
              <a:xfrm rot="8217000">
                <a:off x="4266360" y="5170680"/>
                <a:ext cx="6156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37" name="Oval 279"/>
              <p:cNvSpPr/>
              <p:nvPr/>
            </p:nvSpPr>
            <p:spPr>
              <a:xfrm rot="8217000">
                <a:off x="4253400" y="5173560"/>
                <a:ext cx="6156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38" name="Group 275"/>
            <p:cNvGrpSpPr/>
            <p:nvPr/>
          </p:nvGrpSpPr>
          <p:grpSpPr>
            <a:xfrm>
              <a:off x="4350240" y="5095440"/>
              <a:ext cx="65520" cy="58320"/>
              <a:chOff x="4350240" y="5095440"/>
              <a:chExt cx="65520" cy="58320"/>
            </a:xfrm>
          </p:grpSpPr>
          <p:sp>
            <p:nvSpPr>
              <p:cNvPr id="1039" name="Oval 276"/>
              <p:cNvSpPr/>
              <p:nvPr/>
            </p:nvSpPr>
            <p:spPr>
              <a:xfrm rot="292200">
                <a:off x="4353480" y="5097600"/>
                <a:ext cx="6012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0" name="Oval 277"/>
              <p:cNvSpPr/>
              <p:nvPr/>
            </p:nvSpPr>
            <p:spPr>
              <a:xfrm rot="292200">
                <a:off x="4350600" y="5132160"/>
                <a:ext cx="6012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41" name="Group 280"/>
          <p:cNvGrpSpPr/>
          <p:nvPr/>
        </p:nvGrpSpPr>
        <p:grpSpPr>
          <a:xfrm>
            <a:off x="3886920" y="5182200"/>
            <a:ext cx="270360" cy="219960"/>
            <a:chOff x="3886920" y="5182200"/>
            <a:chExt cx="270360" cy="219960"/>
          </a:xfrm>
        </p:grpSpPr>
        <p:sp>
          <p:nvSpPr>
            <p:cNvPr id="1042" name="Freeform 281"/>
            <p:cNvSpPr/>
            <p:nvPr/>
          </p:nvSpPr>
          <p:spPr>
            <a:xfrm rot="20368800">
              <a:off x="3905280" y="5218200"/>
              <a:ext cx="233280" cy="147600"/>
            </a:xfrm>
            <a:custGeom>
              <a:avLst/>
              <a:gdLst/>
              <a:ahLst/>
              <a:rect l="l" t="t" r="r" b="b"/>
              <a:pathLst>
                <a:path w="871390" h="632126">
                  <a:moveTo>
                    <a:pt x="256274" y="62643"/>
                  </a:moveTo>
                  <a:cubicBezTo>
                    <a:pt x="246782" y="72134"/>
                    <a:pt x="238968" y="83671"/>
                    <a:pt x="227799" y="91117"/>
                  </a:cubicBezTo>
                  <a:cubicBezTo>
                    <a:pt x="221286" y="95459"/>
                    <a:pt x="212727" y="95452"/>
                    <a:pt x="205019" y="96812"/>
                  </a:cubicBezTo>
                  <a:cubicBezTo>
                    <a:pt x="180430" y="101151"/>
                    <a:pt x="155662" y="104405"/>
                    <a:pt x="130984" y="108202"/>
                  </a:cubicBezTo>
                  <a:cubicBezTo>
                    <a:pt x="125289" y="110100"/>
                    <a:pt x="119417" y="111532"/>
                    <a:pt x="113899" y="113897"/>
                  </a:cubicBezTo>
                  <a:cubicBezTo>
                    <a:pt x="93667" y="122568"/>
                    <a:pt x="91194" y="125237"/>
                    <a:pt x="74035" y="136676"/>
                  </a:cubicBezTo>
                  <a:cubicBezTo>
                    <a:pt x="70238" y="142371"/>
                    <a:pt x="65706" y="147638"/>
                    <a:pt x="62645" y="153760"/>
                  </a:cubicBezTo>
                  <a:cubicBezTo>
                    <a:pt x="51564" y="175921"/>
                    <a:pt x="62201" y="168084"/>
                    <a:pt x="51255" y="193624"/>
                  </a:cubicBezTo>
                  <a:cubicBezTo>
                    <a:pt x="48559" y="199915"/>
                    <a:pt x="43662" y="205014"/>
                    <a:pt x="39865" y="210709"/>
                  </a:cubicBezTo>
                  <a:cubicBezTo>
                    <a:pt x="37967" y="235387"/>
                    <a:pt x="38030" y="260294"/>
                    <a:pt x="34170" y="284742"/>
                  </a:cubicBezTo>
                  <a:cubicBezTo>
                    <a:pt x="32297" y="296601"/>
                    <a:pt x="26577" y="307521"/>
                    <a:pt x="22780" y="318911"/>
                  </a:cubicBezTo>
                  <a:lnTo>
                    <a:pt x="17085" y="335995"/>
                  </a:lnTo>
                  <a:cubicBezTo>
                    <a:pt x="15187" y="341690"/>
                    <a:pt x="14720" y="348085"/>
                    <a:pt x="11390" y="353080"/>
                  </a:cubicBezTo>
                  <a:lnTo>
                    <a:pt x="0" y="370164"/>
                  </a:lnTo>
                  <a:cubicBezTo>
                    <a:pt x="3949" y="397808"/>
                    <a:pt x="1555" y="411066"/>
                    <a:pt x="17085" y="432807"/>
                  </a:cubicBezTo>
                  <a:cubicBezTo>
                    <a:pt x="21766" y="439361"/>
                    <a:pt x="28475" y="444197"/>
                    <a:pt x="34170" y="449892"/>
                  </a:cubicBezTo>
                  <a:cubicBezTo>
                    <a:pt x="39878" y="467014"/>
                    <a:pt x="38989" y="469342"/>
                    <a:pt x="51255" y="484061"/>
                  </a:cubicBezTo>
                  <a:cubicBezTo>
                    <a:pt x="56411" y="490248"/>
                    <a:pt x="63395" y="494788"/>
                    <a:pt x="68340" y="501145"/>
                  </a:cubicBezTo>
                  <a:cubicBezTo>
                    <a:pt x="76744" y="511950"/>
                    <a:pt x="91120" y="535314"/>
                    <a:pt x="91120" y="535314"/>
                  </a:cubicBezTo>
                  <a:cubicBezTo>
                    <a:pt x="108203" y="586567"/>
                    <a:pt x="89221" y="559992"/>
                    <a:pt x="119594" y="575178"/>
                  </a:cubicBezTo>
                  <a:cubicBezTo>
                    <a:pt x="125716" y="578239"/>
                    <a:pt x="130984" y="582771"/>
                    <a:pt x="136679" y="586568"/>
                  </a:cubicBezTo>
                  <a:cubicBezTo>
                    <a:pt x="140476" y="592263"/>
                    <a:pt x="142811" y="599271"/>
                    <a:pt x="148069" y="603652"/>
                  </a:cubicBezTo>
                  <a:cubicBezTo>
                    <a:pt x="165844" y="618464"/>
                    <a:pt x="170131" y="611836"/>
                    <a:pt x="187934" y="620737"/>
                  </a:cubicBezTo>
                  <a:cubicBezTo>
                    <a:pt x="194056" y="623798"/>
                    <a:pt x="199324" y="628330"/>
                    <a:pt x="205019" y="632126"/>
                  </a:cubicBezTo>
                  <a:cubicBezTo>
                    <a:pt x="231596" y="630228"/>
                    <a:pt x="258467" y="630811"/>
                    <a:pt x="284749" y="626431"/>
                  </a:cubicBezTo>
                  <a:cubicBezTo>
                    <a:pt x="314073" y="621544"/>
                    <a:pt x="302480" y="614396"/>
                    <a:pt x="318919" y="597957"/>
                  </a:cubicBezTo>
                  <a:cubicBezTo>
                    <a:pt x="323759" y="593117"/>
                    <a:pt x="330309" y="590364"/>
                    <a:pt x="336004" y="586568"/>
                  </a:cubicBezTo>
                  <a:cubicBezTo>
                    <a:pt x="354987" y="558093"/>
                    <a:pt x="341699" y="573280"/>
                    <a:pt x="381563" y="546704"/>
                  </a:cubicBezTo>
                  <a:cubicBezTo>
                    <a:pt x="387258" y="542907"/>
                    <a:pt x="392155" y="537478"/>
                    <a:pt x="398648" y="535314"/>
                  </a:cubicBezTo>
                  <a:cubicBezTo>
                    <a:pt x="467991" y="512200"/>
                    <a:pt x="409734" y="529826"/>
                    <a:pt x="580888" y="523924"/>
                  </a:cubicBezTo>
                  <a:cubicBezTo>
                    <a:pt x="586583" y="522026"/>
                    <a:pt x="592352" y="520338"/>
                    <a:pt x="597973" y="518230"/>
                  </a:cubicBezTo>
                  <a:cubicBezTo>
                    <a:pt x="607545" y="514641"/>
                    <a:pt x="616364" y="508521"/>
                    <a:pt x="626447" y="506840"/>
                  </a:cubicBezTo>
                  <a:cubicBezTo>
                    <a:pt x="662221" y="500878"/>
                    <a:pt x="698584" y="499247"/>
                    <a:pt x="734652" y="495450"/>
                  </a:cubicBezTo>
                  <a:cubicBezTo>
                    <a:pt x="771301" y="483234"/>
                    <a:pt x="731495" y="499332"/>
                    <a:pt x="768822" y="472671"/>
                  </a:cubicBezTo>
                  <a:cubicBezTo>
                    <a:pt x="807798" y="444832"/>
                    <a:pt x="776416" y="476784"/>
                    <a:pt x="808687" y="449892"/>
                  </a:cubicBezTo>
                  <a:cubicBezTo>
                    <a:pt x="852536" y="413352"/>
                    <a:pt x="800439" y="449694"/>
                    <a:pt x="842857" y="421418"/>
                  </a:cubicBezTo>
                  <a:lnTo>
                    <a:pt x="859942" y="370164"/>
                  </a:lnTo>
                  <a:lnTo>
                    <a:pt x="865637" y="353080"/>
                  </a:lnTo>
                  <a:cubicBezTo>
                    <a:pt x="869938" y="284268"/>
                    <a:pt x="876086" y="269918"/>
                    <a:pt x="865637" y="210709"/>
                  </a:cubicBezTo>
                  <a:cubicBezTo>
                    <a:pt x="862917" y="195293"/>
                    <a:pt x="859197" y="180000"/>
                    <a:pt x="854247" y="165150"/>
                  </a:cubicBezTo>
                  <a:cubicBezTo>
                    <a:pt x="852349" y="159455"/>
                    <a:pt x="853547" y="151396"/>
                    <a:pt x="848552" y="148066"/>
                  </a:cubicBezTo>
                  <a:cubicBezTo>
                    <a:pt x="840498" y="142697"/>
                    <a:pt x="829416" y="144918"/>
                    <a:pt x="820077" y="142371"/>
                  </a:cubicBezTo>
                  <a:cubicBezTo>
                    <a:pt x="732294" y="118430"/>
                    <a:pt x="822759" y="143562"/>
                    <a:pt x="768822" y="119591"/>
                  </a:cubicBezTo>
                  <a:cubicBezTo>
                    <a:pt x="757851" y="114715"/>
                    <a:pt x="746042" y="111998"/>
                    <a:pt x="734652" y="108202"/>
                  </a:cubicBezTo>
                  <a:cubicBezTo>
                    <a:pt x="728957" y="100609"/>
                    <a:pt x="722598" y="93471"/>
                    <a:pt x="717567" y="85422"/>
                  </a:cubicBezTo>
                  <a:cubicBezTo>
                    <a:pt x="704000" y="63715"/>
                    <a:pt x="708859" y="55141"/>
                    <a:pt x="683397" y="39864"/>
                  </a:cubicBezTo>
                  <a:cubicBezTo>
                    <a:pt x="673102" y="33687"/>
                    <a:pt x="659217" y="35133"/>
                    <a:pt x="649227" y="28474"/>
                  </a:cubicBezTo>
                  <a:cubicBezTo>
                    <a:pt x="643532" y="24678"/>
                    <a:pt x="638264" y="20146"/>
                    <a:pt x="632142" y="17085"/>
                  </a:cubicBezTo>
                  <a:cubicBezTo>
                    <a:pt x="626773" y="14401"/>
                    <a:pt x="620830" y="13039"/>
                    <a:pt x="615058" y="11390"/>
                  </a:cubicBezTo>
                  <a:cubicBezTo>
                    <a:pt x="591272" y="4594"/>
                    <a:pt x="584956" y="4475"/>
                    <a:pt x="558108" y="0"/>
                  </a:cubicBezTo>
                  <a:cubicBezTo>
                    <a:pt x="537226" y="3797"/>
                    <a:pt x="516658" y="10274"/>
                    <a:pt x="495463" y="11390"/>
                  </a:cubicBezTo>
                  <a:cubicBezTo>
                    <a:pt x="484630" y="11960"/>
                    <a:pt x="430155" y="2404"/>
                    <a:pt x="415733" y="0"/>
                  </a:cubicBezTo>
                  <a:cubicBezTo>
                    <a:pt x="398648" y="1898"/>
                    <a:pt x="381434" y="2869"/>
                    <a:pt x="364478" y="5695"/>
                  </a:cubicBezTo>
                  <a:cubicBezTo>
                    <a:pt x="358557" y="6682"/>
                    <a:pt x="352389" y="8060"/>
                    <a:pt x="347394" y="11390"/>
                  </a:cubicBezTo>
                  <a:cubicBezTo>
                    <a:pt x="340693" y="15857"/>
                    <a:pt x="336496" y="23318"/>
                    <a:pt x="330309" y="28474"/>
                  </a:cubicBezTo>
                  <a:cubicBezTo>
                    <a:pt x="325051" y="32856"/>
                    <a:pt x="318919" y="36067"/>
                    <a:pt x="313224" y="39864"/>
                  </a:cubicBezTo>
                  <a:cubicBezTo>
                    <a:pt x="311326" y="45559"/>
                    <a:pt x="312414" y="53459"/>
                    <a:pt x="307529" y="56948"/>
                  </a:cubicBezTo>
                  <a:cubicBezTo>
                    <a:pt x="297759" y="63926"/>
                    <a:pt x="284749" y="64541"/>
                    <a:pt x="273359" y="68338"/>
                  </a:cubicBezTo>
                  <a:cubicBezTo>
                    <a:pt x="267664" y="70236"/>
                    <a:pt x="260519" y="69788"/>
                    <a:pt x="256274" y="74033"/>
                  </a:cubicBezTo>
                  <a:lnTo>
                    <a:pt x="256274" y="62643"/>
                  </a:lnTo>
                  <a:close/>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1043" name="Oval 282"/>
            <p:cNvSpPr/>
            <p:nvPr/>
          </p:nvSpPr>
          <p:spPr>
            <a:xfrm rot="19797600">
              <a:off x="4004280" y="521892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44" name="Group 283"/>
            <p:cNvGrpSpPr/>
            <p:nvPr/>
          </p:nvGrpSpPr>
          <p:grpSpPr>
            <a:xfrm>
              <a:off x="3942360" y="5284800"/>
              <a:ext cx="78480" cy="76680"/>
              <a:chOff x="3942360" y="5284800"/>
              <a:chExt cx="78480" cy="76680"/>
            </a:xfrm>
          </p:grpSpPr>
          <p:sp>
            <p:nvSpPr>
              <p:cNvPr id="1045" name="Oval 287"/>
              <p:cNvSpPr/>
              <p:nvPr/>
            </p:nvSpPr>
            <p:spPr>
              <a:xfrm rot="9036000">
                <a:off x="3951360" y="5298480"/>
                <a:ext cx="60840" cy="51120"/>
              </a:xfrm>
              <a:prstGeom prst="ellipse">
                <a:avLst/>
              </a:prstGeom>
              <a:solidFill>
                <a:srgbClr val="ffeb00"/>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6" name="Oval 288"/>
              <p:cNvSpPr/>
              <p:nvPr/>
            </p:nvSpPr>
            <p:spPr>
              <a:xfrm rot="9036000">
                <a:off x="3942360" y="5298480"/>
                <a:ext cx="60840" cy="1656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47" name="Group 284"/>
            <p:cNvGrpSpPr/>
            <p:nvPr/>
          </p:nvGrpSpPr>
          <p:grpSpPr>
            <a:xfrm>
              <a:off x="4043880" y="5239800"/>
              <a:ext cx="74520" cy="69840"/>
              <a:chOff x="4043880" y="5239800"/>
              <a:chExt cx="74520" cy="69840"/>
            </a:xfrm>
          </p:grpSpPr>
          <p:sp>
            <p:nvSpPr>
              <p:cNvPr id="1048" name="Oval 285"/>
              <p:cNvSpPr/>
              <p:nvPr/>
            </p:nvSpPr>
            <p:spPr>
              <a:xfrm rot="1111800">
                <a:off x="4050720" y="5248080"/>
                <a:ext cx="60840" cy="53280"/>
              </a:xfrm>
              <a:prstGeom prst="ellipse">
                <a:avLst/>
              </a:prstGeom>
              <a:solidFill>
                <a:srgbClr val="ffeb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49" name="Oval 286"/>
              <p:cNvSpPr/>
              <p:nvPr/>
            </p:nvSpPr>
            <p:spPr>
              <a:xfrm rot="1111800">
                <a:off x="4044600" y="5282280"/>
                <a:ext cx="60840" cy="17280"/>
              </a:xfrm>
              <a:prstGeom prst="ellipse">
                <a:avLst/>
              </a:prstGeom>
              <a:solidFill>
                <a:srgbClr val="260073"/>
              </a:solidFill>
              <a:ln w="0">
                <a:noFill/>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1050" name="Group 14"/>
          <p:cNvGrpSpPr/>
          <p:nvPr/>
        </p:nvGrpSpPr>
        <p:grpSpPr>
          <a:xfrm>
            <a:off x="533520" y="5214960"/>
            <a:ext cx="8076960" cy="119160"/>
            <a:chOff x="533520" y="5214960"/>
            <a:chExt cx="8076960" cy="119160"/>
          </a:xfrm>
        </p:grpSpPr>
        <p:sp>
          <p:nvSpPr>
            <p:cNvPr id="1051" name="Freeform 14342"/>
            <p:cNvSpPr/>
            <p:nvPr/>
          </p:nvSpPr>
          <p:spPr>
            <a:xfrm>
              <a:off x="4795920" y="5214960"/>
              <a:ext cx="316800" cy="89640"/>
            </a:xfrm>
            <a:custGeom>
              <a:avLst/>
              <a:gdLst/>
              <a:ahLst/>
              <a:rect l="l" t="t" r="r" b="b"/>
              <a:pathLst>
                <a:path w="1178861" h="381554">
                  <a:moveTo>
                    <a:pt x="1150386" y="159456"/>
                  </a:moveTo>
                  <a:cubicBezTo>
                    <a:pt x="1148488" y="140473"/>
                    <a:pt x="1151211" y="120436"/>
                    <a:pt x="1144691" y="102507"/>
                  </a:cubicBezTo>
                  <a:cubicBezTo>
                    <a:pt x="1142639" y="96865"/>
                    <a:pt x="1132975" y="99497"/>
                    <a:pt x="1127606" y="96812"/>
                  </a:cubicBezTo>
                  <a:cubicBezTo>
                    <a:pt x="1121484" y="93751"/>
                    <a:pt x="1116216" y="89219"/>
                    <a:pt x="1110521" y="85423"/>
                  </a:cubicBezTo>
                  <a:cubicBezTo>
                    <a:pt x="1108623" y="79728"/>
                    <a:pt x="1109071" y="72583"/>
                    <a:pt x="1104826" y="68338"/>
                  </a:cubicBezTo>
                  <a:cubicBezTo>
                    <a:pt x="1100581" y="64093"/>
                    <a:pt x="1092736" y="65973"/>
                    <a:pt x="1087741" y="62643"/>
                  </a:cubicBezTo>
                  <a:cubicBezTo>
                    <a:pt x="1081040" y="58176"/>
                    <a:pt x="1076351" y="51254"/>
                    <a:pt x="1070656" y="45559"/>
                  </a:cubicBezTo>
                  <a:cubicBezTo>
                    <a:pt x="1053897" y="12042"/>
                    <a:pt x="1067320" y="25464"/>
                    <a:pt x="1025097" y="11390"/>
                  </a:cubicBezTo>
                  <a:lnTo>
                    <a:pt x="1008012" y="5695"/>
                  </a:lnTo>
                  <a:lnTo>
                    <a:pt x="990927" y="0"/>
                  </a:lnTo>
                  <a:cubicBezTo>
                    <a:pt x="970045" y="3797"/>
                    <a:pt x="948270" y="4252"/>
                    <a:pt x="928282" y="11390"/>
                  </a:cubicBezTo>
                  <a:cubicBezTo>
                    <a:pt x="920697" y="14099"/>
                    <a:pt x="918837" y="25927"/>
                    <a:pt x="911197" y="28474"/>
                  </a:cubicBezTo>
                  <a:cubicBezTo>
                    <a:pt x="905502" y="30372"/>
                    <a:pt x="899972" y="24082"/>
                    <a:pt x="894112" y="22780"/>
                  </a:cubicBezTo>
                  <a:cubicBezTo>
                    <a:pt x="882840" y="20275"/>
                    <a:pt x="871214" y="19590"/>
                    <a:pt x="859942" y="17085"/>
                  </a:cubicBezTo>
                  <a:cubicBezTo>
                    <a:pt x="854082" y="15783"/>
                    <a:pt x="848807" y="12183"/>
                    <a:pt x="842857" y="11390"/>
                  </a:cubicBezTo>
                  <a:cubicBezTo>
                    <a:pt x="813836" y="7521"/>
                    <a:pt x="704610" y="1326"/>
                    <a:pt x="683398" y="0"/>
                  </a:cubicBezTo>
                  <a:cubicBezTo>
                    <a:pt x="673906" y="1898"/>
                    <a:pt x="663768" y="1764"/>
                    <a:pt x="654923" y="5695"/>
                  </a:cubicBezTo>
                  <a:cubicBezTo>
                    <a:pt x="646249" y="9550"/>
                    <a:pt x="641063" y="19536"/>
                    <a:pt x="632143" y="22780"/>
                  </a:cubicBezTo>
                  <a:cubicBezTo>
                    <a:pt x="619528" y="27367"/>
                    <a:pt x="605545" y="26433"/>
                    <a:pt x="592278" y="28474"/>
                  </a:cubicBezTo>
                  <a:cubicBezTo>
                    <a:pt x="580865" y="30230"/>
                    <a:pt x="569498" y="32271"/>
                    <a:pt x="558108" y="34169"/>
                  </a:cubicBezTo>
                  <a:cubicBezTo>
                    <a:pt x="546718" y="41762"/>
                    <a:pt x="536925" y="52621"/>
                    <a:pt x="523938" y="56949"/>
                  </a:cubicBezTo>
                  <a:cubicBezTo>
                    <a:pt x="504770" y="63338"/>
                    <a:pt x="503780" y="62773"/>
                    <a:pt x="484074" y="74033"/>
                  </a:cubicBezTo>
                  <a:cubicBezTo>
                    <a:pt x="465064" y="84896"/>
                    <a:pt x="459337" y="95865"/>
                    <a:pt x="432819" y="96812"/>
                  </a:cubicBezTo>
                  <a:lnTo>
                    <a:pt x="273359" y="102507"/>
                  </a:lnTo>
                  <a:cubicBezTo>
                    <a:pt x="261969" y="110100"/>
                    <a:pt x="252176" y="120959"/>
                    <a:pt x="239190" y="125287"/>
                  </a:cubicBezTo>
                  <a:lnTo>
                    <a:pt x="205020" y="136676"/>
                  </a:lnTo>
                  <a:cubicBezTo>
                    <a:pt x="201223" y="144269"/>
                    <a:pt x="200152" y="154021"/>
                    <a:pt x="193630" y="159456"/>
                  </a:cubicBezTo>
                  <a:cubicBezTo>
                    <a:pt x="187617" y="164467"/>
                    <a:pt x="178376" y="163000"/>
                    <a:pt x="170850" y="165150"/>
                  </a:cubicBezTo>
                  <a:cubicBezTo>
                    <a:pt x="150220" y="171044"/>
                    <a:pt x="155398" y="169756"/>
                    <a:pt x="136680" y="182235"/>
                  </a:cubicBezTo>
                  <a:cubicBezTo>
                    <a:pt x="132883" y="187930"/>
                    <a:pt x="128686" y="193377"/>
                    <a:pt x="125290" y="199319"/>
                  </a:cubicBezTo>
                  <a:cubicBezTo>
                    <a:pt x="119333" y="209743"/>
                    <a:pt x="111762" y="229932"/>
                    <a:pt x="102510" y="239183"/>
                  </a:cubicBezTo>
                  <a:cubicBezTo>
                    <a:pt x="88972" y="252720"/>
                    <a:pt x="68173" y="256324"/>
                    <a:pt x="51255" y="261963"/>
                  </a:cubicBezTo>
                  <a:cubicBezTo>
                    <a:pt x="51250" y="261965"/>
                    <a:pt x="17089" y="273349"/>
                    <a:pt x="17085" y="273352"/>
                  </a:cubicBezTo>
                  <a:lnTo>
                    <a:pt x="0" y="284742"/>
                  </a:lnTo>
                  <a:cubicBezTo>
                    <a:pt x="1898" y="299928"/>
                    <a:pt x="1668" y="315536"/>
                    <a:pt x="5695" y="330301"/>
                  </a:cubicBezTo>
                  <a:cubicBezTo>
                    <a:pt x="7496" y="336904"/>
                    <a:pt x="11281" y="343758"/>
                    <a:pt x="17085" y="347385"/>
                  </a:cubicBezTo>
                  <a:cubicBezTo>
                    <a:pt x="27266" y="353748"/>
                    <a:pt x="41265" y="352116"/>
                    <a:pt x="51255" y="358775"/>
                  </a:cubicBezTo>
                  <a:cubicBezTo>
                    <a:pt x="75404" y="374873"/>
                    <a:pt x="62218" y="367103"/>
                    <a:pt x="91120" y="381554"/>
                  </a:cubicBezTo>
                  <a:cubicBezTo>
                    <a:pt x="142375" y="379656"/>
                    <a:pt x="193849" y="380963"/>
                    <a:pt x="244885" y="375859"/>
                  </a:cubicBezTo>
                  <a:cubicBezTo>
                    <a:pt x="251695" y="375178"/>
                    <a:pt x="255847" y="367530"/>
                    <a:pt x="261969" y="364469"/>
                  </a:cubicBezTo>
                  <a:cubicBezTo>
                    <a:pt x="271113" y="359897"/>
                    <a:pt x="280396" y="354964"/>
                    <a:pt x="290444" y="353080"/>
                  </a:cubicBezTo>
                  <a:cubicBezTo>
                    <a:pt x="311053" y="349216"/>
                    <a:pt x="332207" y="349283"/>
                    <a:pt x="353089" y="347385"/>
                  </a:cubicBezTo>
                  <a:cubicBezTo>
                    <a:pt x="360682" y="345487"/>
                    <a:pt x="368111" y="342724"/>
                    <a:pt x="375869" y="341690"/>
                  </a:cubicBezTo>
                  <a:cubicBezTo>
                    <a:pt x="459053" y="330599"/>
                    <a:pt x="414453" y="344014"/>
                    <a:pt x="455599" y="330301"/>
                  </a:cubicBezTo>
                  <a:cubicBezTo>
                    <a:pt x="466989" y="334097"/>
                    <a:pt x="481279" y="333200"/>
                    <a:pt x="489769" y="341690"/>
                  </a:cubicBezTo>
                  <a:cubicBezTo>
                    <a:pt x="502364" y="354285"/>
                    <a:pt x="508081" y="362236"/>
                    <a:pt x="523938" y="370164"/>
                  </a:cubicBezTo>
                  <a:cubicBezTo>
                    <a:pt x="529307" y="372849"/>
                    <a:pt x="535328" y="373961"/>
                    <a:pt x="541023" y="375859"/>
                  </a:cubicBezTo>
                  <a:cubicBezTo>
                    <a:pt x="594176" y="373961"/>
                    <a:pt x="647406" y="373588"/>
                    <a:pt x="700483" y="370164"/>
                  </a:cubicBezTo>
                  <a:cubicBezTo>
                    <a:pt x="706474" y="369778"/>
                    <a:pt x="711565" y="364469"/>
                    <a:pt x="717568" y="364469"/>
                  </a:cubicBezTo>
                  <a:cubicBezTo>
                    <a:pt x="761271" y="364469"/>
                    <a:pt x="804891" y="368266"/>
                    <a:pt x="848552" y="370164"/>
                  </a:cubicBezTo>
                  <a:cubicBezTo>
                    <a:pt x="858044" y="372062"/>
                    <a:pt x="867347" y="375859"/>
                    <a:pt x="877027" y="375859"/>
                  </a:cubicBezTo>
                  <a:cubicBezTo>
                    <a:pt x="918833" y="375859"/>
                    <a:pt x="960634" y="373370"/>
                    <a:pt x="1002317" y="370164"/>
                  </a:cubicBezTo>
                  <a:cubicBezTo>
                    <a:pt x="1010121" y="369564"/>
                    <a:pt x="1017349" y="365576"/>
                    <a:pt x="1025097" y="364469"/>
                  </a:cubicBezTo>
                  <a:cubicBezTo>
                    <a:pt x="1043983" y="361771"/>
                    <a:pt x="1063063" y="360673"/>
                    <a:pt x="1082046" y="358775"/>
                  </a:cubicBezTo>
                  <a:cubicBezTo>
                    <a:pt x="1087741" y="356877"/>
                    <a:pt x="1093359" y="354729"/>
                    <a:pt x="1099131" y="353080"/>
                  </a:cubicBezTo>
                  <a:cubicBezTo>
                    <a:pt x="1106657" y="350930"/>
                    <a:pt x="1115898" y="352396"/>
                    <a:pt x="1121911" y="347385"/>
                  </a:cubicBezTo>
                  <a:cubicBezTo>
                    <a:pt x="1128408" y="341971"/>
                    <a:pt x="1135975" y="316583"/>
                    <a:pt x="1138996" y="307521"/>
                  </a:cubicBezTo>
                  <a:cubicBezTo>
                    <a:pt x="1142793" y="280945"/>
                    <a:pt x="1140960" y="252930"/>
                    <a:pt x="1150386" y="227794"/>
                  </a:cubicBezTo>
                  <a:cubicBezTo>
                    <a:pt x="1153367" y="219845"/>
                    <a:pt x="1167163" y="222407"/>
                    <a:pt x="1173166" y="216404"/>
                  </a:cubicBezTo>
                  <a:cubicBezTo>
                    <a:pt x="1177411" y="212159"/>
                    <a:pt x="1176963" y="205014"/>
                    <a:pt x="1178861" y="199319"/>
                  </a:cubicBezTo>
                  <a:cubicBezTo>
                    <a:pt x="1176828" y="191187"/>
                    <a:pt x="1165557" y="143631"/>
                    <a:pt x="1161776" y="142371"/>
                  </a:cubicBezTo>
                  <a:lnTo>
                    <a:pt x="1144691" y="136676"/>
                  </a:lnTo>
                  <a:lnTo>
                    <a:pt x="1133301" y="102507"/>
                  </a:lnTo>
                  <a:cubicBezTo>
                    <a:pt x="1126757" y="82876"/>
                    <a:pt x="1131850" y="89667"/>
                    <a:pt x="1121911" y="79728"/>
                  </a:cubicBez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2840" bIns="42840" anchor="ctr">
              <a:noAutofit/>
            </a:bodyPr>
            <a:p>
              <a:endParaRPr b="0" lang="en-US" sz="1800" spc="-1" strike="noStrike">
                <a:solidFill>
                  <a:srgbClr val="00afff"/>
                </a:solidFill>
                <a:latin typeface="Arial"/>
              </a:endParaRPr>
            </a:p>
          </p:txBody>
        </p:sp>
        <p:sp>
          <p:nvSpPr>
            <p:cNvPr id="1052" name="Oval 128"/>
            <p:cNvSpPr/>
            <p:nvPr/>
          </p:nvSpPr>
          <p:spPr>
            <a:xfrm rot="21028800">
              <a:off x="4927680" y="5258880"/>
              <a:ext cx="61200" cy="3564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1053" name="Group 135"/>
            <p:cNvGrpSpPr/>
            <p:nvPr/>
          </p:nvGrpSpPr>
          <p:grpSpPr>
            <a:xfrm>
              <a:off x="5028120" y="5218200"/>
              <a:ext cx="73080" cy="66960"/>
              <a:chOff x="5028120" y="5218200"/>
              <a:chExt cx="73080" cy="66960"/>
            </a:xfrm>
          </p:grpSpPr>
          <p:sp>
            <p:nvSpPr>
              <p:cNvPr id="1054" name="Oval 136"/>
              <p:cNvSpPr/>
              <p:nvPr/>
            </p:nvSpPr>
            <p:spPr>
              <a:xfrm rot="4513800">
                <a:off x="5038200" y="5221080"/>
                <a:ext cx="53280" cy="60840"/>
              </a:xfrm>
              <a:prstGeom prst="ellipse">
                <a:avLst/>
              </a:prstGeom>
              <a:solidFill>
                <a:srgbClr val="ffeb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5" name="Oval 137"/>
              <p:cNvSpPr/>
              <p:nvPr/>
            </p:nvSpPr>
            <p:spPr>
              <a:xfrm rot="4513800">
                <a:off x="5017680" y="5246280"/>
                <a:ext cx="53280" cy="20160"/>
              </a:xfrm>
              <a:prstGeom prst="ellipse">
                <a:avLst/>
              </a:prstGeom>
              <a:solidFill>
                <a:srgbClr val="260073"/>
              </a:solid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1056" name="Group 142"/>
            <p:cNvGrpSpPr/>
            <p:nvPr/>
          </p:nvGrpSpPr>
          <p:grpSpPr>
            <a:xfrm>
              <a:off x="4823640" y="5235480"/>
              <a:ext cx="74520" cy="69480"/>
              <a:chOff x="4823640" y="5235480"/>
              <a:chExt cx="74520" cy="69480"/>
            </a:xfrm>
          </p:grpSpPr>
          <p:sp>
            <p:nvSpPr>
              <p:cNvPr id="1057" name="Oval 143"/>
              <p:cNvSpPr/>
              <p:nvPr/>
            </p:nvSpPr>
            <p:spPr>
              <a:xfrm rot="15135000">
                <a:off x="4834080" y="5239440"/>
                <a:ext cx="53280" cy="61200"/>
              </a:xfrm>
              <a:prstGeom prst="ellipse">
                <a:avLst/>
              </a:prstGeom>
              <a:solidFill>
                <a:srgbClr val="ffeb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58" name="Oval 144"/>
              <p:cNvSpPr/>
              <p:nvPr/>
            </p:nvSpPr>
            <p:spPr>
              <a:xfrm rot="15135000">
                <a:off x="4852800" y="5253480"/>
                <a:ext cx="53280" cy="20880"/>
              </a:xfrm>
              <a:prstGeom prst="ellipse">
                <a:avLst/>
              </a:prstGeom>
              <a:solidFill>
                <a:srgbClr val="260073"/>
              </a:solidFill>
              <a:ln w="0">
                <a:noFill/>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59" name="Straight Connector 179"/>
            <p:cNvSpPr/>
            <p:nvPr/>
          </p:nvSpPr>
          <p:spPr>
            <a:xfrm>
              <a:off x="533520" y="5334120"/>
              <a:ext cx="8076960" cy="0"/>
            </a:xfrm>
            <a:prstGeom prst="line">
              <a:avLst/>
            </a:prstGeom>
            <a:ln cap="rnd" w="57240">
              <a:solidFill>
                <a:srgbClr val="7029ff"/>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sp>
        <p:nvSpPr>
          <p:cNvPr id="1060" name="Rectangle 193"/>
          <p:cNvSpPr/>
          <p:nvPr/>
        </p:nvSpPr>
        <p:spPr>
          <a:xfrm>
            <a:off x="845820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1" name="Rectangle 14344"/>
          <p:cNvSpPr/>
          <p:nvPr/>
        </p:nvSpPr>
        <p:spPr>
          <a:xfrm>
            <a:off x="304920" y="2895480"/>
            <a:ext cx="380880" cy="297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062" name="TextBox 108"/>
          <p:cNvSpPr/>
          <p:nvPr/>
        </p:nvSpPr>
        <p:spPr>
          <a:xfrm>
            <a:off x="4424400" y="40384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plaque</a:t>
            </a:r>
            <a:endParaRPr b="0" lang="en-US" sz="1600" spc="-1" strike="noStrike">
              <a:solidFill>
                <a:srgbClr val="00afff"/>
              </a:solidFill>
              <a:latin typeface="Arial"/>
            </a:endParaRPr>
          </a:p>
        </p:txBody>
      </p:sp>
      <p:cxnSp>
        <p:nvCxnSpPr>
          <p:cNvPr id="1063" name="Straight Arrow Connector 290"/>
          <p:cNvCxnSpPr>
            <a:stCxn id="1062" idx="2"/>
          </p:cNvCxnSpPr>
          <p:nvPr/>
        </p:nvCxnSpPr>
        <p:spPr>
          <a:xfrm>
            <a:off x="4819320" y="4376880"/>
            <a:ext cx="57960" cy="576360"/>
          </a:xfrm>
          <a:prstGeom prst="straightConnector1">
            <a:avLst/>
          </a:prstGeom>
          <a:ln w="19080">
            <a:solidFill>
              <a:srgbClr val="00afff"/>
            </a:solidFill>
            <a:miter/>
            <a:tailEnd len="med" type="arrow" w="med"/>
          </a:ln>
        </p:spPr>
      </p:cxn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
                                  <p:stCondLst>
                                    <p:cond delay="0"/>
                                  </p:stCondLst>
                                  <p:childTnLst>
                                    <p:set>
                                      <p:cBhvr>
                                        <p:cTn id="71" dur="1" fill="hold">
                                          <p:stCondLst>
                                            <p:cond delay="0"/>
                                          </p:stCondLst>
                                        </p:cTn>
                                        <p:tgtEl>
                                          <p:spTgt spid="8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Picture 42" descr="Screen shot 2015-04-03 at 4.01.54 PM.png"/>
          <p:cNvPicPr/>
          <p:nvPr/>
        </p:nvPicPr>
        <p:blipFill>
          <a:blip r:embed="rId1"/>
          <a:stretch/>
        </p:blipFill>
        <p:spPr>
          <a:xfrm>
            <a:off x="380880" y="2819520"/>
            <a:ext cx="8382240" cy="3166920"/>
          </a:xfrm>
          <a:prstGeom prst="rect">
            <a:avLst/>
          </a:prstGeom>
          <a:ln w="0">
            <a:noFill/>
          </a:ln>
        </p:spPr>
      </p:pic>
      <p:sp>
        <p:nvSpPr>
          <p:cNvPr id="1065" name=""/>
          <p:cNvSpPr txBox="1"/>
          <p:nvPr/>
        </p:nvSpPr>
        <p:spPr>
          <a:xfrm>
            <a:off x="304560" y="456840"/>
            <a:ext cx="8381880" cy="1600200"/>
          </a:xfrm>
          <a:prstGeom prst="rect">
            <a:avLst/>
          </a:prstGeom>
          <a:noFill/>
          <a:ln w="0">
            <a:noFill/>
          </a:ln>
        </p:spPr>
        <p:txBody>
          <a:bodyPr lIns="182880" tIns="91440" anchor="t">
            <a:normAutofit fontScale="7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may not produce any symptoms until the plaque is large enough to severely limit blood flow through a coronary artery. A person may experience shortness of breath, fatigue, and/or chest pain/pressure called </a:t>
            </a:r>
            <a:r>
              <a:rPr b="0" lang="en-US" sz="2600" spc="-1" strike="noStrike" u="sng">
                <a:solidFill>
                  <a:srgbClr val="00afff"/>
                </a:solidFill>
                <a:uFillTx/>
                <a:latin typeface="Arial"/>
              </a:rPr>
              <a:t>angina</a:t>
            </a:r>
            <a:r>
              <a:rPr b="0" lang="en-US" sz="2600" spc="-1" strike="noStrike">
                <a:solidFill>
                  <a:srgbClr val="00afff"/>
                </a:solidFill>
                <a:latin typeface="Arial"/>
              </a:rPr>
              <a:t> when the plaque gets large enough. </a:t>
            </a:r>
            <a:endParaRPr b="0" lang="en-US" sz="2600" spc="-1" strike="noStrike">
              <a:solidFill>
                <a:srgbClr val="00a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
                                  <p:stCondLst>
                                    <p:cond delay="0"/>
                                  </p:stCondLst>
                                  <p:childTnLst>
                                    <p:set>
                                      <p:cBhvr>
                                        <p:cTn id="77" dur="1" fill="hold">
                                          <p:stCondLst>
                                            <p:cond delay="0"/>
                                          </p:stCondLst>
                                        </p:cTn>
                                        <p:tgtEl>
                                          <p:spTgt spid="10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6" name="Group 1"/>
          <p:cNvGrpSpPr/>
          <p:nvPr/>
        </p:nvGrpSpPr>
        <p:grpSpPr>
          <a:xfrm>
            <a:off x="3124080" y="1371600"/>
            <a:ext cx="5562720" cy="3886200"/>
            <a:chOff x="3124080" y="1371600"/>
            <a:chExt cx="5562720" cy="3886200"/>
          </a:xfrm>
        </p:grpSpPr>
        <p:pic>
          <p:nvPicPr>
            <p:cNvPr id="1067" name="Picture 6" descr=""/>
            <p:cNvPicPr/>
            <p:nvPr/>
          </p:nvPicPr>
          <p:blipFill>
            <a:blip r:embed="rId1"/>
            <a:srcRect l="2063" t="0" r="0" b="0"/>
            <a:stretch/>
          </p:blipFill>
          <p:spPr>
            <a:xfrm>
              <a:off x="4158360" y="1371600"/>
              <a:ext cx="4528440" cy="3886200"/>
            </a:xfrm>
            <a:prstGeom prst="rect">
              <a:avLst/>
            </a:prstGeom>
            <a:ln w="0">
              <a:noFill/>
            </a:ln>
          </p:spPr>
        </p:pic>
        <p:sp>
          <p:nvSpPr>
            <p:cNvPr id="1068"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69" name="Rectangle 4"/>
          <p:cNvSpPr/>
          <p:nvPr/>
        </p:nvSpPr>
        <p:spPr>
          <a:xfrm>
            <a:off x="457200" y="380880"/>
            <a:ext cx="380988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f left untreated, coronary atherosclerosis can lead to </a:t>
            </a:r>
            <a:r>
              <a:rPr b="0" lang="en-US" sz="2600" spc="-1" strike="noStrike" u="sng">
                <a:solidFill>
                  <a:srgbClr val="00afff"/>
                </a:solidFill>
                <a:uFillTx/>
                <a:latin typeface="Arial"/>
              </a:rPr>
              <a:t>ischemia</a:t>
            </a:r>
            <a:r>
              <a:rPr b="0" lang="en-US" sz="2600" spc="-1" strike="noStrike">
                <a:solidFill>
                  <a:srgbClr val="00afff"/>
                </a:solidFill>
                <a:latin typeface="Arial"/>
              </a:rPr>
              <a:t> – a reduction of function and efficiency of the heart and chronic angina. Or worse, it could lead to a complete blockage of an artery either through slow growth or by rupturing and causing a blood clot.</a:t>
            </a:r>
            <a:endParaRPr b="0" lang="en-US" sz="2600" spc="-1" strike="noStrike">
              <a:solidFill>
                <a:srgbClr val="00a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0" name="Group 1"/>
          <p:cNvGrpSpPr/>
          <p:nvPr/>
        </p:nvGrpSpPr>
        <p:grpSpPr>
          <a:xfrm>
            <a:off x="3124080" y="1371600"/>
            <a:ext cx="5562720" cy="3886200"/>
            <a:chOff x="3124080" y="1371600"/>
            <a:chExt cx="5562720" cy="3886200"/>
          </a:xfrm>
        </p:grpSpPr>
        <p:pic>
          <p:nvPicPr>
            <p:cNvPr id="1071" name="Picture 6" descr=""/>
            <p:cNvPicPr/>
            <p:nvPr/>
          </p:nvPicPr>
          <p:blipFill>
            <a:blip r:embed="rId1"/>
            <a:srcRect l="2063" t="0" r="0" b="0"/>
            <a:stretch/>
          </p:blipFill>
          <p:spPr>
            <a:xfrm>
              <a:off x="4158360" y="1371600"/>
              <a:ext cx="4528440" cy="3886200"/>
            </a:xfrm>
            <a:prstGeom prst="rect">
              <a:avLst/>
            </a:prstGeom>
            <a:ln w="0">
              <a:noFill/>
            </a:ln>
          </p:spPr>
        </p:pic>
        <p:sp>
          <p:nvSpPr>
            <p:cNvPr id="1072" name="Rectangle 7"/>
            <p:cNvSpPr/>
            <p:nvPr/>
          </p:nvSpPr>
          <p:spPr>
            <a:xfrm>
              <a:off x="3124080" y="2209680"/>
              <a:ext cx="1280880" cy="1361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1073" name="Rectangle 4"/>
          <p:cNvSpPr/>
          <p:nvPr/>
        </p:nvSpPr>
        <p:spPr>
          <a:xfrm>
            <a:off x="457200" y="380880"/>
            <a:ext cx="380988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 complete blockage will damage the heart muscles. When this leads to irregular heart function accompanied by chest, left arm, and/or neck pain or tingling, fatigue and shortness of breath, it is called </a:t>
            </a:r>
            <a:r>
              <a:rPr b="0" lang="en-US" sz="2600" spc="-1" strike="noStrike" u="sng">
                <a:solidFill>
                  <a:srgbClr val="00afff"/>
                </a:solidFill>
                <a:uFillTx/>
                <a:latin typeface="Arial"/>
              </a:rPr>
              <a:t>myocardial infarction </a:t>
            </a:r>
            <a:r>
              <a:rPr b="0" lang="en-US" sz="2600" spc="-1" strike="noStrike">
                <a:solidFill>
                  <a:srgbClr val="00afff"/>
                </a:solidFill>
                <a:latin typeface="Arial"/>
              </a:rPr>
              <a:t>(heart attack). It can also lead to </a:t>
            </a:r>
            <a:r>
              <a:rPr b="0" lang="en-US" sz="2600" spc="-1" strike="noStrike" u="sng">
                <a:solidFill>
                  <a:srgbClr val="00afff"/>
                </a:solidFill>
                <a:uFillTx/>
                <a:latin typeface="Arial"/>
              </a:rPr>
              <a:t>cardiac arrest</a:t>
            </a:r>
            <a:r>
              <a:rPr b="0" lang="en-US" sz="2600" spc="-1" strike="noStrike">
                <a:solidFill>
                  <a:srgbClr val="00afff"/>
                </a:solidFill>
                <a:latin typeface="Arial"/>
              </a:rPr>
              <a:t> – stopping the heart altogether.</a:t>
            </a:r>
            <a:endParaRPr b="0" lang="en-US" sz="2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a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80880" y="533160"/>
            <a:ext cx="83361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What can we do about it?</a:t>
            </a:r>
            <a:endParaRPr b="1" lang="en-US" sz="4000" spc="-1" strike="noStrike">
              <a:solidFill>
                <a:srgbClr val="ff7f00"/>
              </a:solidFill>
              <a:latin typeface="Arial"/>
            </a:endParaRPr>
          </a:p>
        </p:txBody>
      </p:sp>
      <p:sp>
        <p:nvSpPr>
          <p:cNvPr id="1075" name="PlaceHolder 2"/>
          <p:cNvSpPr>
            <a:spLocks noGrp="1"/>
          </p:cNvSpPr>
          <p:nvPr>
            <p:ph/>
          </p:nvPr>
        </p:nvSpPr>
        <p:spPr>
          <a:xfrm>
            <a:off x="304920" y="1218960"/>
            <a:ext cx="853416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Personal</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hoices do </a:t>
            </a:r>
            <a:r>
              <a:rPr b="1" lang="en-US" sz="2400" spc="-1" strike="noStrike">
                <a:solidFill>
                  <a:srgbClr val="00afff"/>
                </a:solidFill>
                <a:latin typeface="Arial"/>
              </a:rPr>
              <a:t>you</a:t>
            </a:r>
            <a:r>
              <a:rPr b="0" lang="en-US" sz="2400" spc="-1" strike="noStrike">
                <a:solidFill>
                  <a:srgbClr val="00afff"/>
                </a:solidFill>
                <a:latin typeface="Arial"/>
              </a:rPr>
              <a:t> have?</a:t>
            </a:r>
            <a:endParaRPr b="0" lang="en-US" sz="2400" spc="-1" strike="noStrike">
              <a:solidFill>
                <a:srgbClr val="00afff"/>
              </a:solidFill>
              <a:latin typeface="Arial"/>
            </a:endParaRPr>
          </a:p>
          <a:p>
            <a:pPr lvl="1" marL="890640" indent="-343080">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a:t>
            </a:r>
            <a:r>
              <a:rPr b="1" lang="en-US" sz="2400" spc="-1" strike="noStrike">
                <a:solidFill>
                  <a:srgbClr val="00afff"/>
                </a:solidFill>
                <a:latin typeface="Arial"/>
              </a:rPr>
              <a:t>you</a:t>
            </a:r>
            <a:r>
              <a:rPr b="0" lang="en-US" sz="2400" spc="-1" strike="noStrike">
                <a:solidFill>
                  <a:srgbClr val="00afff"/>
                </a:solidFill>
                <a:latin typeface="Arial"/>
              </a:rPr>
              <a:t> prevent heart disease?</a:t>
            </a:r>
            <a:endParaRPr b="0" lang="en-US" sz="2400" spc="-1" strike="noStrike">
              <a:solidFill>
                <a:srgbClr val="00afff"/>
              </a:solidFill>
              <a:latin typeface="Arial"/>
            </a:endParaRPr>
          </a:p>
          <a:p>
            <a:pPr lvl="1" marL="890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fff"/>
                </a:solidFill>
                <a:latin typeface="Arial"/>
              </a:rPr>
              <a:t>Community</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at can </a:t>
            </a:r>
            <a:r>
              <a:rPr b="1" lang="en-US" sz="2400" spc="-1" strike="noStrike">
                <a:solidFill>
                  <a:srgbClr val="00afff"/>
                </a:solidFill>
                <a:latin typeface="Arial"/>
              </a:rPr>
              <a:t>we</a:t>
            </a:r>
            <a:r>
              <a:rPr b="0" lang="en-US" sz="2400" spc="-1" strike="noStrike">
                <a:solidFill>
                  <a:srgbClr val="00afff"/>
                </a:solidFill>
                <a:latin typeface="Arial"/>
              </a:rPr>
              <a:t> do to prevent and treat heart disease?</a:t>
            </a: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ow can our neighborhoods change in ways that might reduce heart disease?</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you know about heart disease?</a:t>
            </a:r>
            <a:endParaRPr b="1" lang="en-US" sz="5400" spc="-1" strike="noStrike">
              <a:solidFill>
                <a:srgbClr val="ff7f00"/>
              </a:solidFill>
              <a:latin typeface="Arial"/>
            </a:endParaRPr>
          </a:p>
        </p:txBody>
      </p:sp>
      <p:sp>
        <p:nvSpPr>
          <p:cNvPr id="285"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4"/>
                                        </p:tgtEl>
                                        <p:attrNameLst>
                                          <p:attrName>style.visibility</p:attrName>
                                        </p:attrNameLst>
                                      </p:cBhvr>
                                      <p:to>
                                        <p:strVal val="visible"/>
                                      </p:to>
                                    </p:set>
                                    <p:animEffect filter="fade" transition="in">
                                      <p:cBhvr additive="repl">
                                        <p:cTn id="7" dur="1000"/>
                                        <p:tgtEl>
                                          <p:spTgt spid="284"/>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11" dur="500"/>
                                        <p:tgtEl>
                                          <p:spTgt spid="285">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14" dur="500"/>
                                        <p:tgtEl>
                                          <p:spTgt spid="285">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17"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456840"/>
            <a:ext cx="914400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How would you define heart disease?</a:t>
            </a:r>
            <a:endParaRPr b="1" lang="en-US" sz="6000" spc="-1" strike="noStrike">
              <a:solidFill>
                <a:srgbClr val="ff7f00"/>
              </a:solidFill>
              <a:latin typeface="Arial"/>
            </a:endParaRPr>
          </a:p>
        </p:txBody>
      </p:sp>
      <p:sp>
        <p:nvSpPr>
          <p:cNvPr id="287" name=""/>
          <p:cNvSpPr txBox="1"/>
          <p:nvPr/>
        </p:nvSpPr>
        <p:spPr>
          <a:xfrm>
            <a:off x="533520" y="3276360"/>
            <a:ext cx="80769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Heart disease</a:t>
            </a:r>
            <a:r>
              <a:rPr b="0" lang="en-US" sz="3200" spc="-1" strike="noStrike">
                <a:solidFill>
                  <a:srgbClr val="00afff"/>
                </a:solidFill>
                <a:latin typeface="Arial"/>
              </a:rPr>
              <a:t> describes a number of diseases that reduce functionality and/or efficiency of the heart. </a:t>
            </a:r>
            <a:endParaRPr b="0" lang="en-US" sz="3200" spc="-1" strike="noStrike">
              <a:solidFill>
                <a:srgbClr val="00afff"/>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6"/>
                                        </p:tgtEl>
                                        <p:attrNameLst>
                                          <p:attrName>style.visibility</p:attrName>
                                        </p:attrNameLst>
                                      </p:cBhvr>
                                      <p:to>
                                        <p:strVal val="visible"/>
                                      </p:to>
                                    </p:set>
                                    <p:animEffect filter="fade" transition="in">
                                      <p:cBhvr additive="repl">
                                        <p:cTn id="24" dur="1000"/>
                                        <p:tgtEl>
                                          <p:spTgt spid="28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29" dur="5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Heart disease - Atherosclerosis</a:t>
            </a:r>
            <a:endParaRPr b="1" lang="en-US" sz="4000" spc="-1" strike="noStrike">
              <a:solidFill>
                <a:srgbClr val="ff7f00"/>
              </a:solidFill>
              <a:latin typeface="Arial"/>
            </a:endParaRPr>
          </a:p>
        </p:txBody>
      </p:sp>
      <p:sp>
        <p:nvSpPr>
          <p:cNvPr id="289"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Goal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Define and describe atherosclerosis.</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Understand atherogenesis / plaque formation.</a:t>
            </a:r>
            <a:endParaRPr b="0" lang="en-US" sz="32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fff"/>
                </a:solidFill>
                <a:latin typeface="Arial"/>
              </a:rPr>
              <a:t>List symptoms of atherosclerosis.</a:t>
            </a:r>
            <a:endParaRPr b="0" lang="en-US" sz="3200" spc="-1" strike="noStrike">
              <a:solidFill>
                <a:srgbClr val="00a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0880" y="380880"/>
            <a:ext cx="8382240" cy="18288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Our blood vessels are responsible for moving  important molecules to our cells all over our bodies. Our cells need oxygen, glucose, nutrients, and much more. They get them from our blood.</a:t>
            </a:r>
            <a:endParaRPr b="0" lang="en-US" sz="3000" spc="-1" strike="noStrike">
              <a:solidFill>
                <a:srgbClr val="00afff"/>
              </a:solidFill>
              <a:latin typeface="Arial"/>
            </a:endParaRPr>
          </a:p>
        </p:txBody>
      </p:sp>
      <p:pic>
        <p:nvPicPr>
          <p:cNvPr id="291" name="Picture 1" descr=""/>
          <p:cNvPicPr/>
          <p:nvPr/>
        </p:nvPicPr>
        <p:blipFill>
          <a:blip r:embed="rId1"/>
          <a:stretch/>
        </p:blipFill>
        <p:spPr>
          <a:xfrm>
            <a:off x="2971800" y="2743200"/>
            <a:ext cx="3276720" cy="3276720"/>
          </a:xfrm>
          <a:prstGeom prst="rect">
            <a:avLst/>
          </a:prstGeom>
          <a:ln w="0">
            <a:noFill/>
          </a:ln>
        </p:spPr>
      </p:pic>
      <p:sp>
        <p:nvSpPr>
          <p:cNvPr id="292" name="Rectangle 2"/>
          <p:cNvSpPr/>
          <p:nvPr/>
        </p:nvSpPr>
        <p:spPr>
          <a:xfrm>
            <a:off x="2133720" y="6019920"/>
            <a:ext cx="5105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odyParts3D, © The Database Center for Life Science.</a:t>
            </a:r>
            <a:endParaRPr b="0" lang="en-US" sz="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808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afff"/>
                </a:solidFill>
                <a:uFillTx/>
                <a:latin typeface="Arial"/>
              </a:rPr>
              <a:t>Atherosclerosis</a:t>
            </a:r>
            <a:r>
              <a:rPr b="0" lang="en-US" sz="3600" spc="-1" strike="noStrike">
                <a:solidFill>
                  <a:srgbClr val="00afff"/>
                </a:solidFill>
                <a:latin typeface="Arial"/>
              </a:rPr>
              <a:t> (ath</a:t>
            </a:r>
            <a:r>
              <a:rPr b="1" lang="en-US" sz="3600" spc="-1" strike="noStrike" baseline="30000">
                <a:solidFill>
                  <a:srgbClr val="00afff"/>
                </a:solidFill>
                <a:latin typeface="Arial"/>
              </a:rPr>
              <a:t>.</a:t>
            </a:r>
            <a:r>
              <a:rPr b="0" lang="en-US" sz="3600" spc="-1" strike="noStrike">
                <a:solidFill>
                  <a:srgbClr val="00afff"/>
                </a:solidFill>
                <a:latin typeface="Arial"/>
              </a:rPr>
              <a:t>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kler</a:t>
            </a:r>
            <a:r>
              <a:rPr b="1" lang="en-US" sz="3600" spc="-1" strike="noStrike" baseline="30000">
                <a:solidFill>
                  <a:srgbClr val="00afff"/>
                </a:solidFill>
                <a:latin typeface="Arial"/>
              </a:rPr>
              <a:t>.</a:t>
            </a:r>
            <a:r>
              <a:rPr b="0" lang="en-US" sz="3600" spc="-1" strike="noStrike">
                <a:solidFill>
                  <a:srgbClr val="00afff"/>
                </a:solidFill>
                <a:latin typeface="Arial"/>
              </a:rPr>
              <a:t>oh</a:t>
            </a:r>
            <a:r>
              <a:rPr b="1" lang="en-US" sz="3600" spc="-1" strike="noStrike" baseline="30000">
                <a:solidFill>
                  <a:srgbClr val="00afff"/>
                </a:solidFill>
                <a:latin typeface="Arial"/>
              </a:rPr>
              <a:t>.</a:t>
            </a:r>
            <a:r>
              <a:rPr b="0" lang="en-US" sz="3600" spc="-1" strike="noStrike">
                <a:solidFill>
                  <a:srgbClr val="00afff"/>
                </a:solidFill>
                <a:latin typeface="Arial"/>
              </a:rPr>
              <a:t>sis) is a disease of the arteries. It can occur anywhere in the body. We will learn about coronary (heart) atherosclerosis.</a:t>
            </a:r>
            <a:endParaRPr b="0" lang="en-US" sz="3600" spc="-1" strike="noStrike">
              <a:solidFill>
                <a:srgbClr val="00afff"/>
              </a:solidFill>
              <a:latin typeface="Arial"/>
            </a:endParaRPr>
          </a:p>
        </p:txBody>
      </p:sp>
      <p:pic>
        <p:nvPicPr>
          <p:cNvPr id="294" name="Picture 6" descr=""/>
          <p:cNvPicPr/>
          <p:nvPr/>
        </p:nvPicPr>
        <p:blipFill>
          <a:blip r:embed="rId1"/>
          <a:srcRect l="2063" t="0" r="0" b="0"/>
          <a:stretch/>
        </p:blipFill>
        <p:spPr>
          <a:xfrm>
            <a:off x="2857680" y="2971800"/>
            <a:ext cx="3501720" cy="2827440"/>
          </a:xfrm>
          <a:prstGeom prst="rect">
            <a:avLst/>
          </a:prstGeom>
          <a:ln w="0">
            <a:noFill/>
          </a:ln>
        </p:spPr>
      </p:pic>
      <p:sp>
        <p:nvSpPr>
          <p:cNvPr id="295" name="Rectangle 7"/>
          <p:cNvSpPr/>
          <p:nvPr/>
        </p:nvSpPr>
        <p:spPr>
          <a:xfrm>
            <a:off x="2057400" y="3581280"/>
            <a:ext cx="990720" cy="99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0880" y="456840"/>
            <a:ext cx="8382240" cy="1600200"/>
          </a:xfrm>
          <a:prstGeom prst="rect">
            <a:avLst/>
          </a:prstGeom>
          <a:noFill/>
          <a:ln w="0">
            <a:noFill/>
          </a:ln>
        </p:spPr>
        <p:txBody>
          <a:bodyPr lIns="182880" tIns="91440" anchor="t">
            <a:normAutofit fontScale="91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Atherosclerosis begins with microscopic damage to the smooth, thin layer of the interior walls of arteries. This damage can be caused by many things – poor diet, tobacco use, high blood pressure, diabetes, and many other factors. </a:t>
            </a:r>
            <a:endParaRPr b="0" lang="en-US" sz="2600" spc="-1" strike="noStrike">
              <a:solidFill>
                <a:srgbClr val="00afff"/>
              </a:solidFill>
              <a:latin typeface="Arial"/>
            </a:endParaRPr>
          </a:p>
        </p:txBody>
      </p:sp>
      <p:pic>
        <p:nvPicPr>
          <p:cNvPr id="297" name="Picture 1" descr=""/>
          <p:cNvPicPr/>
          <p:nvPr/>
        </p:nvPicPr>
        <p:blipFill>
          <a:blip r:embed="rId1"/>
          <a:stretch/>
        </p:blipFill>
        <p:spPr>
          <a:xfrm>
            <a:off x="457200" y="3124080"/>
            <a:ext cx="3454560" cy="2590920"/>
          </a:xfrm>
          <a:prstGeom prst="rect">
            <a:avLst/>
          </a:prstGeom>
          <a:ln w="0">
            <a:noFill/>
          </a:ln>
        </p:spPr>
      </p:pic>
      <p:pic>
        <p:nvPicPr>
          <p:cNvPr id="298" name="Picture 5" descr=""/>
          <p:cNvPicPr/>
          <p:nvPr/>
        </p:nvPicPr>
        <p:blipFill>
          <a:blip r:embed="rId2"/>
          <a:stretch/>
        </p:blipFill>
        <p:spPr>
          <a:xfrm>
            <a:off x="4724280" y="3124080"/>
            <a:ext cx="3454560" cy="2590920"/>
          </a:xfrm>
          <a:prstGeom prst="rect">
            <a:avLst/>
          </a:prstGeom>
          <a:ln w="0">
            <a:noFill/>
          </a:ln>
        </p:spPr>
      </p:pic>
      <p:sp>
        <p:nvSpPr>
          <p:cNvPr id="299" name=""/>
          <p:cNvSpPr txBox="1"/>
          <p:nvPr/>
        </p:nvSpPr>
        <p:spPr>
          <a:xfrm>
            <a:off x="30456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ealthy artery cross section</a:t>
            </a:r>
            <a:endParaRPr b="0" lang="en-US" sz="1800" spc="-1" strike="noStrike">
              <a:solidFill>
                <a:srgbClr val="00afff"/>
              </a:solidFill>
              <a:latin typeface="Arial"/>
            </a:endParaRPr>
          </a:p>
        </p:txBody>
      </p:sp>
      <p:sp>
        <p:nvSpPr>
          <p:cNvPr id="300" name=""/>
          <p:cNvSpPr txBox="1"/>
          <p:nvPr/>
        </p:nvSpPr>
        <p:spPr>
          <a:xfrm>
            <a:off x="4571640" y="5638680"/>
            <a:ext cx="3606840" cy="457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amaged artery cross section</a:t>
            </a:r>
            <a:endParaRPr b="0" lang="en-US" sz="1800" spc="-1" strike="noStrike">
              <a:solidFill>
                <a:srgbClr val="00afff"/>
              </a:solidFill>
              <a:latin typeface="Arial"/>
            </a:endParaRPr>
          </a:p>
        </p:txBody>
      </p:sp>
      <p:sp>
        <p:nvSpPr>
          <p:cNvPr id="301" name="Flowchart: Decision 3"/>
          <p:cNvSpPr/>
          <p:nvPr/>
        </p:nvSpPr>
        <p:spPr>
          <a:xfrm flipV="1" rot="20805000">
            <a:off x="7350120" y="4744800"/>
            <a:ext cx="152280" cy="75960"/>
          </a:xfrm>
          <a:prstGeom prst="flowChartDecision">
            <a:avLst/>
          </a:prstGeom>
          <a:gradFill rotWithShape="0">
            <a:gsLst>
              <a:gs pos="0">
                <a:srgbClr val="fff200"/>
              </a:gs>
              <a:gs pos="100000">
                <a:srgbClr val="4d0808"/>
              </a:gs>
            </a:gsLst>
            <a:lin ang="4608000"/>
          </a:gra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2" name=""/>
          <p:cNvSpPr txBox="1"/>
          <p:nvPr/>
        </p:nvSpPr>
        <p:spPr>
          <a:xfrm>
            <a:off x="7848720" y="4218120"/>
            <a:ext cx="1218960" cy="403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Damage</a:t>
            </a:r>
            <a:endParaRPr b="0" lang="en-US" sz="1600" spc="-1" strike="noStrike">
              <a:solidFill>
                <a:srgbClr val="00afff"/>
              </a:solidFill>
              <a:latin typeface="Arial"/>
            </a:endParaRPr>
          </a:p>
        </p:txBody>
      </p:sp>
      <p:cxnSp>
        <p:nvCxnSpPr>
          <p:cNvPr id="303" name="Straight Arrow Connector 11"/>
          <p:cNvCxnSpPr/>
          <p:nvPr/>
        </p:nvCxnSpPr>
        <p:spPr>
          <a:xfrm flipH="1">
            <a:off x="7543440" y="4495320"/>
            <a:ext cx="457920" cy="244800"/>
          </a:xfrm>
          <a:prstGeom prst="straightConnector1">
            <a:avLst/>
          </a:prstGeom>
          <a:ln w="12600">
            <a:solidFill>
              <a:srgbClr val="00080c"/>
            </a:solidFill>
            <a:miter/>
            <a:tailEnd len="med" type="arrow" w="med"/>
          </a:ln>
        </p:spPr>
      </p:cxnSp>
      <p:sp>
        <p:nvSpPr>
          <p:cNvPr id="304" name="Rectangle 2"/>
          <p:cNvSpPr/>
          <p:nvPr/>
        </p:nvSpPr>
        <p:spPr>
          <a:xfrm>
            <a:off x="304920" y="6019920"/>
            <a:ext cx="8534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80c"/>
                </a:solidFill>
                <a:latin typeface="Arial"/>
              </a:rPr>
              <a:t>Image: Blausen.com staff. "Blausen gallery 2014". Wikiversity Journal of Medicine.</a:t>
            </a:r>
            <a:endParaRPr b="0" lang="en-US" sz="800" spc="-1" strike="noStrike">
              <a:solidFill>
                <a:srgbClr val="00afff"/>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
                                  <p:stCondLst>
                                    <p:cond delay="0"/>
                                  </p:stCondLst>
                                  <p:childTnLst>
                                    <p:set>
                                      <p:cBhvr>
                                        <p:cTn id="35" dur="1" fill="hold">
                                          <p:stCondLst>
                                            <p:cond delay="0"/>
                                          </p:stCondLst>
                                        </p:cTn>
                                        <p:tgtEl>
                                          <p:spTgt spid="296">
                                            <p:txEl>
                                              <p:pRg st="0" end="0"/>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99">
                                            <p:txEl>
                                              <p:pRg st="0" end="0"/>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300">
                                            <p:txEl>
                                              <p:pRg st="0" end="0"/>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Group 103"/>
          <p:cNvGrpSpPr/>
          <p:nvPr/>
        </p:nvGrpSpPr>
        <p:grpSpPr>
          <a:xfrm>
            <a:off x="5388120" y="3948480"/>
            <a:ext cx="3373200" cy="2080080"/>
            <a:chOff x="5388120" y="3948480"/>
            <a:chExt cx="3373200" cy="2080080"/>
          </a:xfrm>
        </p:grpSpPr>
        <p:sp>
          <p:nvSpPr>
            <p:cNvPr id="306" name="Flowchart: Decision 104"/>
            <p:cNvSpPr/>
            <p:nvPr/>
          </p:nvSpPr>
          <p:spPr>
            <a:xfrm rot="20499000">
              <a:off x="54864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07" name="Oval 105"/>
            <p:cNvGrpSpPr/>
            <p:nvPr/>
          </p:nvGrpSpPr>
          <p:grpSpPr>
            <a:xfrm>
              <a:off x="6815160" y="4797360"/>
              <a:ext cx="554760" cy="383760"/>
              <a:chOff x="6815160" y="4797360"/>
              <a:chExt cx="554760" cy="383760"/>
            </a:xfrm>
          </p:grpSpPr>
          <p:pic>
            <p:nvPicPr>
              <p:cNvPr id="308" name="Oval 105" descr=""/>
              <p:cNvPicPr/>
              <p:nvPr/>
            </p:nvPicPr>
            <p:blipFill>
              <a:blip r:embed="rId1"/>
              <a:stretch/>
            </p:blipFill>
            <p:spPr>
              <a:xfrm>
                <a:off x="6815160" y="4797360"/>
                <a:ext cx="554760" cy="383760"/>
              </a:xfrm>
              <a:prstGeom prst="rect">
                <a:avLst/>
              </a:prstGeom>
              <a:ln w="0">
                <a:noFill/>
              </a:ln>
            </p:spPr>
          </p:pic>
          <p:sp>
            <p:nvSpPr>
              <p:cNvPr id="309" name=""/>
              <p:cNvSpPr/>
              <p:nvPr/>
            </p:nvSpPr>
            <p:spPr>
              <a:xfrm rot="20173800">
                <a:off x="6886440" y="487296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10"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311" name=""/>
          <p:cNvSpPr txBox="1"/>
          <p:nvPr/>
        </p:nvSpPr>
        <p:spPr>
          <a:xfrm>
            <a:off x="380880" y="456840"/>
            <a:ext cx="838224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The microscopic damage creates an opening that allows solid materials from the blood to enter and get stuck between the layers of the artery wall. </a:t>
            </a:r>
            <a:endParaRPr b="0" lang="en-US" sz="2600" spc="-1" strike="noStrike">
              <a:solidFill>
                <a:srgbClr val="00afff"/>
              </a:solidFill>
              <a:latin typeface="Arial"/>
            </a:endParaRPr>
          </a:p>
        </p:txBody>
      </p:sp>
      <p:sp>
        <p:nvSpPr>
          <p:cNvPr id="312"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3"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4" name="Straight Connector 19"/>
          <p:cNvSpPr/>
          <p:nvPr/>
        </p:nvSpPr>
        <p:spPr>
          <a:xfrm>
            <a:off x="54100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5" name="Straight Connector 20"/>
          <p:cNvSpPr/>
          <p:nvPr/>
        </p:nvSpPr>
        <p:spPr>
          <a:xfrm>
            <a:off x="38098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6"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317" name="Straight Connector 7"/>
          <p:cNvSpPr/>
          <p:nvPr/>
        </p:nvSpPr>
        <p:spPr>
          <a:xfrm>
            <a:off x="1447920" y="4006800"/>
            <a:ext cx="6095880" cy="0"/>
          </a:xfrm>
          <a:prstGeom prst="line">
            <a:avLst/>
          </a:prstGeom>
          <a:ln w="4248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grpSp>
        <p:nvGrpSpPr>
          <p:cNvPr id="318" name="Oval 8"/>
          <p:cNvGrpSpPr/>
          <p:nvPr/>
        </p:nvGrpSpPr>
        <p:grpSpPr>
          <a:xfrm>
            <a:off x="7467480" y="3932280"/>
            <a:ext cx="457200" cy="152280"/>
            <a:chOff x="7467480" y="3932280"/>
            <a:chExt cx="457200" cy="152280"/>
          </a:xfrm>
        </p:grpSpPr>
        <p:pic>
          <p:nvPicPr>
            <p:cNvPr id="319" name="Oval 8" descr=""/>
            <p:cNvPicPr/>
            <p:nvPr/>
          </p:nvPicPr>
          <p:blipFill>
            <a:blip r:embed="rId2"/>
            <a:stretch/>
          </p:blipFill>
          <p:spPr>
            <a:xfrm>
              <a:off x="7467480" y="3932280"/>
              <a:ext cx="457200" cy="152280"/>
            </a:xfrm>
            <a:prstGeom prst="rect">
              <a:avLst/>
            </a:prstGeom>
            <a:ln w="0">
              <a:noFill/>
            </a:ln>
          </p:spPr>
        </p:pic>
        <p:sp>
          <p:nvSpPr>
            <p:cNvPr id="320"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1" name="Oval 24"/>
          <p:cNvGrpSpPr/>
          <p:nvPr/>
        </p:nvGrpSpPr>
        <p:grpSpPr>
          <a:xfrm>
            <a:off x="5870520" y="3932280"/>
            <a:ext cx="457200" cy="152280"/>
            <a:chOff x="5870520" y="3932280"/>
            <a:chExt cx="457200" cy="152280"/>
          </a:xfrm>
        </p:grpSpPr>
        <p:pic>
          <p:nvPicPr>
            <p:cNvPr id="322" name="Oval 24" descr=""/>
            <p:cNvPicPr/>
            <p:nvPr/>
          </p:nvPicPr>
          <p:blipFill>
            <a:blip r:embed="rId3"/>
            <a:stretch/>
          </p:blipFill>
          <p:spPr>
            <a:xfrm>
              <a:off x="5870520" y="3932280"/>
              <a:ext cx="457200" cy="152280"/>
            </a:xfrm>
            <a:prstGeom prst="rect">
              <a:avLst/>
            </a:prstGeom>
            <a:ln w="0">
              <a:noFill/>
            </a:ln>
          </p:spPr>
        </p:pic>
        <p:sp>
          <p:nvSpPr>
            <p:cNvPr id="323" name=""/>
            <p:cNvSpPr/>
            <p:nvPr/>
          </p:nvSpPr>
          <p:spPr>
            <a:xfrm>
              <a:off x="59342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4" name="Oval 25"/>
          <p:cNvGrpSpPr/>
          <p:nvPr/>
        </p:nvGrpSpPr>
        <p:grpSpPr>
          <a:xfrm>
            <a:off x="4267080" y="3932280"/>
            <a:ext cx="457200" cy="152280"/>
            <a:chOff x="4267080" y="3932280"/>
            <a:chExt cx="457200" cy="152280"/>
          </a:xfrm>
        </p:grpSpPr>
        <p:pic>
          <p:nvPicPr>
            <p:cNvPr id="325" name="Oval 25" descr=""/>
            <p:cNvPicPr/>
            <p:nvPr/>
          </p:nvPicPr>
          <p:blipFill>
            <a:blip r:embed="rId4"/>
            <a:stretch/>
          </p:blipFill>
          <p:spPr>
            <a:xfrm>
              <a:off x="4267080" y="3932280"/>
              <a:ext cx="457200" cy="152280"/>
            </a:xfrm>
            <a:prstGeom prst="rect">
              <a:avLst/>
            </a:prstGeom>
            <a:ln w="0">
              <a:noFill/>
            </a:ln>
          </p:spPr>
        </p:pic>
        <p:sp>
          <p:nvSpPr>
            <p:cNvPr id="326" name=""/>
            <p:cNvSpPr/>
            <p:nvPr/>
          </p:nvSpPr>
          <p:spPr>
            <a:xfrm>
              <a:off x="43340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27" name="Oval 26"/>
          <p:cNvGrpSpPr/>
          <p:nvPr/>
        </p:nvGrpSpPr>
        <p:grpSpPr>
          <a:xfrm>
            <a:off x="2670120" y="3932280"/>
            <a:ext cx="457200" cy="152280"/>
            <a:chOff x="2670120" y="3932280"/>
            <a:chExt cx="457200" cy="152280"/>
          </a:xfrm>
        </p:grpSpPr>
        <p:pic>
          <p:nvPicPr>
            <p:cNvPr id="328" name="Oval 26" descr=""/>
            <p:cNvPicPr/>
            <p:nvPr/>
          </p:nvPicPr>
          <p:blipFill>
            <a:blip r:embed="rId5"/>
            <a:stretch/>
          </p:blipFill>
          <p:spPr>
            <a:xfrm>
              <a:off x="2670120" y="3932280"/>
              <a:ext cx="457200" cy="152280"/>
            </a:xfrm>
            <a:prstGeom prst="rect">
              <a:avLst/>
            </a:prstGeom>
            <a:ln w="0">
              <a:noFill/>
            </a:ln>
          </p:spPr>
        </p:pic>
        <p:sp>
          <p:nvSpPr>
            <p:cNvPr id="329"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330" name="Oval 27"/>
          <p:cNvGrpSpPr/>
          <p:nvPr/>
        </p:nvGrpSpPr>
        <p:grpSpPr>
          <a:xfrm>
            <a:off x="1023840" y="3932280"/>
            <a:ext cx="457200" cy="152280"/>
            <a:chOff x="1023840" y="3932280"/>
            <a:chExt cx="457200" cy="152280"/>
          </a:xfrm>
        </p:grpSpPr>
        <p:pic>
          <p:nvPicPr>
            <p:cNvPr id="331" name="Oval 27" descr=""/>
            <p:cNvPicPr/>
            <p:nvPr/>
          </p:nvPicPr>
          <p:blipFill>
            <a:blip r:embed="rId6"/>
            <a:stretch/>
          </p:blipFill>
          <p:spPr>
            <a:xfrm>
              <a:off x="1023840" y="3932280"/>
              <a:ext cx="457200" cy="152280"/>
            </a:xfrm>
            <a:prstGeom prst="rect">
              <a:avLst/>
            </a:prstGeom>
            <a:ln w="0">
              <a:noFill/>
            </a:ln>
          </p:spPr>
        </p:pic>
        <p:sp>
          <p:nvSpPr>
            <p:cNvPr id="332"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333"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4"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5"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6"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7"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8"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39"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0"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1"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2"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3"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4"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5"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6"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7"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8"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49"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0"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1"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2"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3"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4"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5"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6"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7"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8"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59"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0"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1"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2"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3"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4"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5"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6"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7"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8"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69"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0"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1"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2"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373"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374" name="Group 89"/>
          <p:cNvGrpSpPr/>
          <p:nvPr/>
        </p:nvGrpSpPr>
        <p:grpSpPr>
          <a:xfrm>
            <a:off x="270000" y="3962880"/>
            <a:ext cx="3372120" cy="2080080"/>
            <a:chOff x="270000" y="3962880"/>
            <a:chExt cx="3372120" cy="2080080"/>
          </a:xfrm>
        </p:grpSpPr>
        <p:sp>
          <p:nvSpPr>
            <p:cNvPr id="375"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76" name="Oval 91"/>
            <p:cNvGrpSpPr/>
            <p:nvPr/>
          </p:nvGrpSpPr>
          <p:grpSpPr>
            <a:xfrm>
              <a:off x="1694880" y="4809600"/>
              <a:ext cx="554760" cy="384120"/>
              <a:chOff x="1694880" y="4809600"/>
              <a:chExt cx="554760" cy="384120"/>
            </a:xfrm>
          </p:grpSpPr>
          <p:pic>
            <p:nvPicPr>
              <p:cNvPr id="377" name="Oval 91" descr=""/>
              <p:cNvPicPr/>
              <p:nvPr/>
            </p:nvPicPr>
            <p:blipFill>
              <a:blip r:embed="rId7"/>
              <a:stretch/>
            </p:blipFill>
            <p:spPr>
              <a:xfrm>
                <a:off x="1694880" y="4809600"/>
                <a:ext cx="554760" cy="384120"/>
              </a:xfrm>
              <a:prstGeom prst="rect">
                <a:avLst/>
              </a:prstGeom>
              <a:ln w="0">
                <a:noFill/>
              </a:ln>
            </p:spPr>
          </p:pic>
          <p:sp>
            <p:nvSpPr>
              <p:cNvPr id="378"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79" name="Group 100"/>
          <p:cNvGrpSpPr/>
          <p:nvPr/>
        </p:nvGrpSpPr>
        <p:grpSpPr>
          <a:xfrm>
            <a:off x="3733920" y="3948480"/>
            <a:ext cx="3373200" cy="2080080"/>
            <a:chOff x="3733920" y="3948480"/>
            <a:chExt cx="3373200" cy="2080080"/>
          </a:xfrm>
        </p:grpSpPr>
        <p:sp>
          <p:nvSpPr>
            <p:cNvPr id="380" name="Flowchart: Decision 101"/>
            <p:cNvSpPr/>
            <p:nvPr/>
          </p:nvSpPr>
          <p:spPr>
            <a:xfrm rot="20499000">
              <a:off x="3832200" y="4419360"/>
              <a:ext cx="3176640" cy="113796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1" name="Oval 102"/>
            <p:cNvGrpSpPr/>
            <p:nvPr/>
          </p:nvGrpSpPr>
          <p:grpSpPr>
            <a:xfrm>
              <a:off x="5114520" y="4834080"/>
              <a:ext cx="554760" cy="383760"/>
              <a:chOff x="5114520" y="4834080"/>
              <a:chExt cx="554760" cy="383760"/>
            </a:xfrm>
          </p:grpSpPr>
          <p:pic>
            <p:nvPicPr>
              <p:cNvPr id="382" name="Oval 102" descr=""/>
              <p:cNvPicPr/>
              <p:nvPr/>
            </p:nvPicPr>
            <p:blipFill>
              <a:blip r:embed="rId8"/>
              <a:stretch/>
            </p:blipFill>
            <p:spPr>
              <a:xfrm>
                <a:off x="5114520" y="4834080"/>
                <a:ext cx="554760" cy="383760"/>
              </a:xfrm>
              <a:prstGeom prst="rect">
                <a:avLst/>
              </a:prstGeom>
              <a:ln w="0">
                <a:noFill/>
              </a:ln>
            </p:spPr>
          </p:pic>
          <p:sp>
            <p:nvSpPr>
              <p:cNvPr id="383" name=""/>
              <p:cNvSpPr/>
              <p:nvPr/>
            </p:nvSpPr>
            <p:spPr>
              <a:xfrm rot="20173800">
                <a:off x="5186160" y="4908600"/>
                <a:ext cx="409680" cy="22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384" name="Group 97"/>
          <p:cNvGrpSpPr/>
          <p:nvPr/>
        </p:nvGrpSpPr>
        <p:grpSpPr>
          <a:xfrm>
            <a:off x="2009880" y="3972240"/>
            <a:ext cx="3373560" cy="2080440"/>
            <a:chOff x="2009880" y="3972240"/>
            <a:chExt cx="3373560" cy="2080440"/>
          </a:xfrm>
        </p:grpSpPr>
        <p:sp>
          <p:nvSpPr>
            <p:cNvPr id="385"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386" name="Oval 99"/>
            <p:cNvGrpSpPr/>
            <p:nvPr/>
          </p:nvGrpSpPr>
          <p:grpSpPr>
            <a:xfrm>
              <a:off x="3438000" y="4821840"/>
              <a:ext cx="548640" cy="384120"/>
              <a:chOff x="3438000" y="4821840"/>
              <a:chExt cx="548640" cy="384120"/>
            </a:xfrm>
          </p:grpSpPr>
          <p:pic>
            <p:nvPicPr>
              <p:cNvPr id="387" name="Oval 99" descr=""/>
              <p:cNvPicPr/>
              <p:nvPr/>
            </p:nvPicPr>
            <p:blipFill>
              <a:blip r:embed="rId9"/>
              <a:stretch/>
            </p:blipFill>
            <p:spPr>
              <a:xfrm>
                <a:off x="3438000" y="4821840"/>
                <a:ext cx="548640" cy="384120"/>
              </a:xfrm>
              <a:prstGeom prst="rect">
                <a:avLst/>
              </a:prstGeom>
              <a:ln w="0">
                <a:noFill/>
              </a:ln>
            </p:spPr>
          </p:pic>
          <p:sp>
            <p:nvSpPr>
              <p:cNvPr id="388"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389" name="Rectangle 28"/>
          <p:cNvSpPr/>
          <p:nvPr/>
        </p:nvSpPr>
        <p:spPr>
          <a:xfrm>
            <a:off x="457200" y="3581280"/>
            <a:ext cx="1846440" cy="228600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0"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391"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392"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393" name="Straight Arrow Connector 14336"/>
          <p:cNvCxnSpPr>
            <a:stCxn id="390"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394" name="Straight Arrow Connector 112"/>
          <p:cNvCxnSpPr>
            <a:stCxn id="391"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395" name="Straight Arrow Connector 113"/>
          <p:cNvCxnSpPr>
            <a:stCxn id="392" idx="3"/>
          </p:cNvCxnSpPr>
          <p:nvPr/>
        </p:nvCxnSpPr>
        <p:spPr>
          <a:xfrm>
            <a:off x="2023560" y="5000400"/>
            <a:ext cx="266040" cy="1080"/>
          </a:xfrm>
          <a:prstGeom prst="straightConnector1">
            <a:avLst/>
          </a:prstGeom>
          <a:ln w="19080">
            <a:solidFill>
              <a:srgbClr val="00afff"/>
            </a:solidFill>
            <a:miter/>
            <a:tailEnd len="med" type="arrow" w="med"/>
          </a:ln>
        </p:spPr>
      </p:cxnSp>
      <p:sp>
        <p:nvSpPr>
          <p:cNvPr id="396"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397" name="Lightning Bolt 14348"/>
          <p:cNvSpPr/>
          <p:nvPr/>
        </p:nvSpPr>
        <p:spPr>
          <a:xfrm rot="18672000">
            <a:off x="5027400" y="35906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8" name="Rectangle 123"/>
          <p:cNvSpPr/>
          <p:nvPr/>
        </p:nvSpPr>
        <p:spPr>
          <a:xfrm rot="18046200">
            <a:off x="5175720" y="3906000"/>
            <a:ext cx="203040" cy="192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99" name="TextBox 124"/>
          <p:cNvSpPr/>
          <p:nvPr/>
        </p:nvSpPr>
        <p:spPr>
          <a:xfrm>
            <a:off x="5567400" y="30481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opening</a:t>
            </a:r>
            <a:endParaRPr b="0" lang="en-US" sz="1600" spc="-1" strike="noStrike">
              <a:solidFill>
                <a:srgbClr val="00afff"/>
              </a:solidFill>
              <a:latin typeface="Arial"/>
            </a:endParaRPr>
          </a:p>
        </p:txBody>
      </p:sp>
      <p:cxnSp>
        <p:nvCxnSpPr>
          <p:cNvPr id="400" name="Straight Arrow Connector 125"/>
          <p:cNvCxnSpPr>
            <a:stCxn id="399" idx="2"/>
            <a:endCxn id="397" idx="6"/>
          </p:cNvCxnSpPr>
          <p:nvPr/>
        </p:nvCxnSpPr>
        <p:spPr>
          <a:xfrm flipH="1">
            <a:off x="5368320" y="3386160"/>
            <a:ext cx="649800" cy="402480"/>
          </a:xfrm>
          <a:prstGeom prst="straightConnector1">
            <a:avLst/>
          </a:prstGeom>
          <a:ln w="19080">
            <a:solidFill>
              <a:srgbClr val="00afff"/>
            </a:solidFill>
            <a:miter/>
            <a:tailEnd len="med" type="arrow" w="med"/>
          </a:ln>
        </p:spPr>
      </p:cxnSp>
      <p:sp>
        <p:nvSpPr>
          <p:cNvPr id="401" name="TextBox 108"/>
          <p:cNvSpPr/>
          <p:nvPr/>
        </p:nvSpPr>
        <p:spPr>
          <a:xfrm>
            <a:off x="3137760" y="2362320"/>
            <a:ext cx="258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cross-section of artery wall</a:t>
            </a:r>
            <a:endParaRPr b="0" lang="en-US" sz="1600" spc="-1" strike="noStrike">
              <a:solidFill>
                <a:srgbClr val="00afff"/>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
                                  <p:stCondLst>
                                    <p:cond delay="0"/>
                                  </p:stCondLst>
                                  <p:childTnLst>
                                    <p:set>
                                      <p:cBhvr>
                                        <p:cTn id="47"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traight Connector 81"/>
          <p:cNvSpPr/>
          <p:nvPr/>
        </p:nvSpPr>
        <p:spPr>
          <a:xfrm>
            <a:off x="6654960" y="4017960"/>
            <a:ext cx="1663560" cy="3240"/>
          </a:xfrm>
          <a:prstGeom prst="line">
            <a:avLst/>
          </a:prstGeom>
          <a:ln w="42480">
            <a:solidFill>
              <a:srgbClr val="c93a37"/>
            </a:solidFill>
            <a:miter/>
          </a:ln>
        </p:spPr>
        <p:style>
          <a:lnRef idx="0"/>
          <a:fillRef idx="0"/>
          <a:effectRef idx="0"/>
          <a:fontRef idx="minor"/>
        </p:style>
        <p:txBody>
          <a:bodyPr lIns="90000" rIns="90000" tIns="-43560" bIns="-43560" anchor="t">
            <a:noAutofit/>
          </a:bodyPr>
          <a:p>
            <a:endParaRPr b="0" lang="en-US" sz="1800" spc="-1" strike="noStrike">
              <a:solidFill>
                <a:srgbClr val="00afff"/>
              </a:solidFill>
              <a:latin typeface="Arial"/>
            </a:endParaRPr>
          </a:p>
        </p:txBody>
      </p:sp>
      <p:sp>
        <p:nvSpPr>
          <p:cNvPr id="403" name="Straight Connector 14347"/>
          <p:cNvSpPr/>
          <p:nvPr/>
        </p:nvSpPr>
        <p:spPr>
          <a:xfrm flipH="1">
            <a:off x="857160" y="4444920"/>
            <a:ext cx="7639200" cy="28800"/>
          </a:xfrm>
          <a:prstGeom prst="line">
            <a:avLst/>
          </a:prstGeom>
          <a:ln w="12600">
            <a:solidFill>
              <a:srgbClr val="00577f"/>
            </a:solidFill>
            <a:miter/>
          </a:ln>
        </p:spPr>
        <p:style>
          <a:lnRef idx="0"/>
          <a:fillRef idx="0"/>
          <a:effectRef idx="0"/>
          <a:fontRef idx="minor"/>
        </p:style>
        <p:txBody>
          <a:bodyPr lIns="90000" rIns="90000" tIns="-18000" bIns="-18000" anchor="t">
            <a:noAutofit/>
          </a:bodyPr>
          <a:p>
            <a:endParaRPr b="0" lang="en-US" sz="1800" spc="-1" strike="noStrike">
              <a:solidFill>
                <a:srgbClr val="00afff"/>
              </a:solidFill>
              <a:latin typeface="Arial"/>
            </a:endParaRPr>
          </a:p>
        </p:txBody>
      </p:sp>
      <p:sp>
        <p:nvSpPr>
          <p:cNvPr id="404" name=""/>
          <p:cNvSpPr txBox="1"/>
          <p:nvPr/>
        </p:nvSpPr>
        <p:spPr>
          <a:xfrm>
            <a:off x="380880" y="380520"/>
            <a:ext cx="8382240" cy="1600200"/>
          </a:xfrm>
          <a:prstGeom prst="rect">
            <a:avLst/>
          </a:prstGeom>
          <a:noFill/>
          <a:ln w="0">
            <a:noFill/>
          </a:ln>
        </p:spPr>
        <p:txBody>
          <a:bodyPr lIns="182880" tIns="91440" anchor="t">
            <a:normAutofit fontScale="73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afff"/>
                </a:solidFill>
                <a:uFillTx/>
                <a:latin typeface="Arial"/>
              </a:rPr>
              <a:t>Low density lipoproteins (LDLs)</a:t>
            </a:r>
            <a:r>
              <a:rPr b="0" lang="en-US" sz="2600" spc="-1" strike="noStrike">
                <a:solidFill>
                  <a:srgbClr val="00afff"/>
                </a:solidFill>
                <a:latin typeface="Arial"/>
              </a:rPr>
              <a:t> – protein molecules attached to fat &amp; cholesterol – enter and pick up a “</a:t>
            </a:r>
            <a:r>
              <a:rPr b="0" lang="en-US" sz="2600" spc="-1" strike="noStrike" u="sng">
                <a:solidFill>
                  <a:srgbClr val="00afff"/>
                </a:solidFill>
                <a:uFillTx/>
                <a:latin typeface="Arial"/>
              </a:rPr>
              <a:t>free radical</a:t>
            </a:r>
            <a:r>
              <a:rPr b="0" lang="en-US" sz="2600" spc="-1" strike="noStrike">
                <a:solidFill>
                  <a:srgbClr val="00afff"/>
                </a:solidFill>
                <a:latin typeface="Arial"/>
              </a:rPr>
              <a:t>” oxygen molecule. This triggers the body</a:t>
            </a:r>
            <a:r>
              <a:rPr b="0" lang="ja-JP" sz="2600" spc="-1" strike="noStrike">
                <a:solidFill>
                  <a:srgbClr val="00afff"/>
                </a:solidFill>
                <a:latin typeface="Arial"/>
              </a:rPr>
              <a:t>’</a:t>
            </a:r>
            <a:r>
              <a:rPr b="0" lang="en-US" sz="2600" spc="-1" strike="noStrike">
                <a:solidFill>
                  <a:srgbClr val="00afff"/>
                </a:solidFill>
                <a:latin typeface="Arial"/>
              </a:rPr>
              <a:t>s inflammatory (swelling) and immune response. </a:t>
            </a:r>
            <a:r>
              <a:rPr b="0" lang="en-US" sz="2600" spc="-1" strike="noStrike" u="sng">
                <a:solidFill>
                  <a:srgbClr val="00afff"/>
                </a:solidFill>
                <a:uFillTx/>
                <a:latin typeface="Arial"/>
              </a:rPr>
              <a:t>Macrophages</a:t>
            </a:r>
            <a:r>
              <a:rPr b="0" lang="en-US" sz="2600" spc="-1" strike="noStrike">
                <a:solidFill>
                  <a:srgbClr val="00afff"/>
                </a:solidFill>
                <a:latin typeface="Arial"/>
              </a:rPr>
              <a:t> (white blood cells) are sent out to engulf/destroy the invaders.</a:t>
            </a:r>
            <a:endParaRPr b="0" lang="en-US" sz="2600" spc="-1" strike="noStrike">
              <a:solidFill>
                <a:srgbClr val="00afff"/>
              </a:solidFill>
              <a:latin typeface="Arial"/>
            </a:endParaRPr>
          </a:p>
        </p:txBody>
      </p:sp>
      <p:sp>
        <p:nvSpPr>
          <p:cNvPr id="405" name="Straight Connector 2"/>
          <p:cNvSpPr/>
          <p:nvPr/>
        </p:nvSpPr>
        <p:spPr>
          <a:xfrm>
            <a:off x="56664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6" name="Straight Connector 18"/>
          <p:cNvSpPr/>
          <p:nvPr/>
        </p:nvSpPr>
        <p:spPr>
          <a:xfrm>
            <a:off x="70102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7" name="Straight Connector 19"/>
          <p:cNvSpPr/>
          <p:nvPr/>
        </p:nvSpPr>
        <p:spPr>
          <a:xfrm>
            <a:off x="5562720" y="3639960"/>
            <a:ext cx="1218960" cy="36684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8" name="Straight Connector 20"/>
          <p:cNvSpPr/>
          <p:nvPr/>
        </p:nvSpPr>
        <p:spPr>
          <a:xfrm flipV="1">
            <a:off x="3809880" y="3733920"/>
            <a:ext cx="1168560" cy="27288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09" name="Straight Connector 21"/>
          <p:cNvSpPr/>
          <p:nvPr/>
        </p:nvSpPr>
        <p:spPr>
          <a:xfrm>
            <a:off x="2209680" y="4006800"/>
            <a:ext cx="1371600" cy="0"/>
          </a:xfrm>
          <a:prstGeom prst="line">
            <a:avLst/>
          </a:prstGeom>
          <a:ln cap="rnd" w="219240">
            <a:solidFill>
              <a:srgbClr val="c93a37"/>
            </a:solidFill>
            <a:miter/>
          </a:ln>
        </p:spPr>
        <p:style>
          <a:lnRef idx="0"/>
          <a:fillRef idx="0"/>
          <a:effectRef idx="0"/>
          <a:fontRef idx="minor"/>
        </p:style>
        <p:txBody>
          <a:bodyPr lIns="90000" rIns="90000" tIns="-46800" bIns="-46800" anchor="t">
            <a:noAutofit/>
          </a:bodyPr>
          <a:p>
            <a:endParaRPr b="0" lang="en-US" sz="1800" spc="-1" strike="noStrike">
              <a:solidFill>
                <a:srgbClr val="00afff"/>
              </a:solidFill>
              <a:latin typeface="Arial"/>
            </a:endParaRPr>
          </a:p>
        </p:txBody>
      </p:sp>
      <p:sp>
        <p:nvSpPr>
          <p:cNvPr id="410" name="Straight Connector 7"/>
          <p:cNvSpPr/>
          <p:nvPr/>
        </p:nvSpPr>
        <p:spPr>
          <a:xfrm>
            <a:off x="1447920" y="4006800"/>
            <a:ext cx="2514600" cy="4680"/>
          </a:xfrm>
          <a:prstGeom prst="line">
            <a:avLst/>
          </a:prstGeom>
          <a:ln w="42480">
            <a:solidFill>
              <a:srgbClr val="c93a37"/>
            </a:solidFill>
            <a:miter/>
          </a:ln>
        </p:spPr>
        <p:style>
          <a:lnRef idx="0"/>
          <a:fillRef idx="0"/>
          <a:effectRef idx="0"/>
          <a:fontRef idx="minor"/>
        </p:style>
        <p:txBody>
          <a:bodyPr lIns="90000" rIns="90000" tIns="-42120" bIns="-42120" anchor="t">
            <a:noAutofit/>
          </a:bodyPr>
          <a:p>
            <a:endParaRPr b="0" lang="en-US" sz="1800" spc="-1" strike="noStrike">
              <a:solidFill>
                <a:srgbClr val="00afff"/>
              </a:solidFill>
              <a:latin typeface="Arial"/>
            </a:endParaRPr>
          </a:p>
        </p:txBody>
      </p:sp>
      <p:grpSp>
        <p:nvGrpSpPr>
          <p:cNvPr id="411" name="Oval 8"/>
          <p:cNvGrpSpPr/>
          <p:nvPr/>
        </p:nvGrpSpPr>
        <p:grpSpPr>
          <a:xfrm>
            <a:off x="7467480" y="3932280"/>
            <a:ext cx="457200" cy="152280"/>
            <a:chOff x="7467480" y="3932280"/>
            <a:chExt cx="457200" cy="152280"/>
          </a:xfrm>
        </p:grpSpPr>
        <p:pic>
          <p:nvPicPr>
            <p:cNvPr id="412" name="Oval 8" descr=""/>
            <p:cNvPicPr/>
            <p:nvPr/>
          </p:nvPicPr>
          <p:blipFill>
            <a:blip r:embed="rId1"/>
            <a:stretch/>
          </p:blipFill>
          <p:spPr>
            <a:xfrm>
              <a:off x="7467480" y="3932280"/>
              <a:ext cx="457200" cy="152280"/>
            </a:xfrm>
            <a:prstGeom prst="rect">
              <a:avLst/>
            </a:prstGeom>
            <a:ln w="0">
              <a:noFill/>
            </a:ln>
          </p:spPr>
        </p:pic>
        <p:sp>
          <p:nvSpPr>
            <p:cNvPr id="413" name=""/>
            <p:cNvSpPr/>
            <p:nvPr/>
          </p:nvSpPr>
          <p:spPr>
            <a:xfrm>
              <a:off x="75344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4" name="Oval 24"/>
          <p:cNvGrpSpPr/>
          <p:nvPr/>
        </p:nvGrpSpPr>
        <p:grpSpPr>
          <a:xfrm>
            <a:off x="5967360" y="3724200"/>
            <a:ext cx="439920" cy="219240"/>
            <a:chOff x="5967360" y="3724200"/>
            <a:chExt cx="439920" cy="219240"/>
          </a:xfrm>
        </p:grpSpPr>
        <p:pic>
          <p:nvPicPr>
            <p:cNvPr id="415" name="Oval 24" descr=""/>
            <p:cNvPicPr/>
            <p:nvPr/>
          </p:nvPicPr>
          <p:blipFill>
            <a:blip r:embed="rId2"/>
            <a:stretch/>
          </p:blipFill>
          <p:spPr>
            <a:xfrm>
              <a:off x="5967360" y="3724200"/>
              <a:ext cx="439920" cy="219240"/>
            </a:xfrm>
            <a:prstGeom prst="rect">
              <a:avLst/>
            </a:prstGeom>
            <a:ln w="0">
              <a:noFill/>
            </a:ln>
          </p:spPr>
        </p:pic>
        <p:sp>
          <p:nvSpPr>
            <p:cNvPr id="416" name=""/>
            <p:cNvSpPr/>
            <p:nvPr/>
          </p:nvSpPr>
          <p:spPr>
            <a:xfrm rot="1215600">
              <a:off x="6022800" y="3781080"/>
              <a:ext cx="324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17" name="Oval 25"/>
          <p:cNvGrpSpPr/>
          <p:nvPr/>
        </p:nvGrpSpPr>
        <p:grpSpPr>
          <a:xfrm>
            <a:off x="4237200" y="3754440"/>
            <a:ext cx="450720" cy="195120"/>
            <a:chOff x="4237200" y="3754440"/>
            <a:chExt cx="450720" cy="195120"/>
          </a:xfrm>
        </p:grpSpPr>
        <p:pic>
          <p:nvPicPr>
            <p:cNvPr id="418" name="Oval 25" descr=""/>
            <p:cNvPicPr/>
            <p:nvPr/>
          </p:nvPicPr>
          <p:blipFill>
            <a:blip r:embed="rId3"/>
            <a:stretch/>
          </p:blipFill>
          <p:spPr>
            <a:xfrm>
              <a:off x="4237200" y="3754440"/>
              <a:ext cx="450720" cy="195120"/>
            </a:xfrm>
            <a:prstGeom prst="rect">
              <a:avLst/>
            </a:prstGeom>
            <a:ln w="0">
              <a:noFill/>
            </a:ln>
          </p:spPr>
        </p:pic>
        <p:sp>
          <p:nvSpPr>
            <p:cNvPr id="419" name=""/>
            <p:cNvSpPr/>
            <p:nvPr/>
          </p:nvSpPr>
          <p:spPr>
            <a:xfrm rot="20695800">
              <a:off x="4300200" y="3800160"/>
              <a:ext cx="324000" cy="10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0" name="Oval 26"/>
          <p:cNvGrpSpPr/>
          <p:nvPr/>
        </p:nvGrpSpPr>
        <p:grpSpPr>
          <a:xfrm>
            <a:off x="2670120" y="3932280"/>
            <a:ext cx="457200" cy="152280"/>
            <a:chOff x="2670120" y="3932280"/>
            <a:chExt cx="457200" cy="152280"/>
          </a:xfrm>
        </p:grpSpPr>
        <p:pic>
          <p:nvPicPr>
            <p:cNvPr id="421" name="Oval 26" descr=""/>
            <p:cNvPicPr/>
            <p:nvPr/>
          </p:nvPicPr>
          <p:blipFill>
            <a:blip r:embed="rId4"/>
            <a:stretch/>
          </p:blipFill>
          <p:spPr>
            <a:xfrm>
              <a:off x="2670120" y="3932280"/>
              <a:ext cx="457200" cy="152280"/>
            </a:xfrm>
            <a:prstGeom prst="rect">
              <a:avLst/>
            </a:prstGeom>
            <a:ln w="0">
              <a:noFill/>
            </a:ln>
          </p:spPr>
        </p:pic>
        <p:sp>
          <p:nvSpPr>
            <p:cNvPr id="422" name=""/>
            <p:cNvSpPr/>
            <p:nvPr/>
          </p:nvSpPr>
          <p:spPr>
            <a:xfrm>
              <a:off x="2733840" y="3952800"/>
              <a:ext cx="32364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423" name="Oval 27"/>
          <p:cNvGrpSpPr/>
          <p:nvPr/>
        </p:nvGrpSpPr>
        <p:grpSpPr>
          <a:xfrm>
            <a:off x="1023840" y="3932280"/>
            <a:ext cx="457200" cy="152280"/>
            <a:chOff x="1023840" y="3932280"/>
            <a:chExt cx="457200" cy="152280"/>
          </a:xfrm>
        </p:grpSpPr>
        <p:pic>
          <p:nvPicPr>
            <p:cNvPr id="424" name="Oval 27" descr=""/>
            <p:cNvPicPr/>
            <p:nvPr/>
          </p:nvPicPr>
          <p:blipFill>
            <a:blip r:embed="rId5"/>
            <a:stretch/>
          </p:blipFill>
          <p:spPr>
            <a:xfrm>
              <a:off x="1023840" y="3932280"/>
              <a:ext cx="457200" cy="152280"/>
            </a:xfrm>
            <a:prstGeom prst="rect">
              <a:avLst/>
            </a:prstGeom>
            <a:ln w="0">
              <a:noFill/>
            </a:ln>
          </p:spPr>
        </p:pic>
        <p:sp>
          <p:nvSpPr>
            <p:cNvPr id="425" name=""/>
            <p:cNvSpPr/>
            <p:nvPr/>
          </p:nvSpPr>
          <p:spPr>
            <a:xfrm>
              <a:off x="1090440" y="3952800"/>
              <a:ext cx="324000" cy="1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426" name="Arc 12"/>
          <p:cNvSpPr/>
          <p:nvPr/>
        </p:nvSpPr>
        <p:spPr>
          <a:xfrm rot="20593800">
            <a:off x="-6253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7" name="Arc 29"/>
          <p:cNvSpPr/>
          <p:nvPr/>
        </p:nvSpPr>
        <p:spPr>
          <a:xfrm rot="20593800">
            <a:off x="111744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8" name="Arc 30"/>
          <p:cNvSpPr/>
          <p:nvPr/>
        </p:nvSpPr>
        <p:spPr>
          <a:xfrm rot="20593800">
            <a:off x="16570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29" name="Arc 31"/>
          <p:cNvSpPr/>
          <p:nvPr/>
        </p:nvSpPr>
        <p:spPr>
          <a:xfrm rot="20593800">
            <a:off x="198072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0" name="Arc 32"/>
          <p:cNvSpPr/>
          <p:nvPr/>
        </p:nvSpPr>
        <p:spPr>
          <a:xfrm rot="20593800">
            <a:off x="1904760" y="44654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1" name="Arc 33"/>
          <p:cNvSpPr/>
          <p:nvPr/>
        </p:nvSpPr>
        <p:spPr>
          <a:xfrm rot="20593800">
            <a:off x="247788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2" name="Arc 34"/>
          <p:cNvSpPr/>
          <p:nvPr/>
        </p:nvSpPr>
        <p:spPr>
          <a:xfrm rot="20593800">
            <a:off x="29206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3" name="Arc 35"/>
          <p:cNvSpPr/>
          <p:nvPr/>
        </p:nvSpPr>
        <p:spPr>
          <a:xfrm rot="20593800">
            <a:off x="372060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4" name="Arc 36"/>
          <p:cNvSpPr/>
          <p:nvPr/>
        </p:nvSpPr>
        <p:spPr>
          <a:xfrm rot="20593800">
            <a:off x="419076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5" name="Arc 37"/>
          <p:cNvSpPr/>
          <p:nvPr/>
        </p:nvSpPr>
        <p:spPr>
          <a:xfrm rot="20593800">
            <a:off x="452088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6" name="Arc 38"/>
          <p:cNvSpPr/>
          <p:nvPr/>
        </p:nvSpPr>
        <p:spPr>
          <a:xfrm rot="20593800">
            <a:off x="5003280" y="43560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7" name="Arc 39"/>
          <p:cNvSpPr/>
          <p:nvPr/>
        </p:nvSpPr>
        <p:spPr>
          <a:xfrm rot="20593800">
            <a:off x="5270040" y="4422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8" name="Arc 40"/>
          <p:cNvSpPr/>
          <p:nvPr/>
        </p:nvSpPr>
        <p:spPr>
          <a:xfrm>
            <a:off x="5946840" y="41767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39" name="Arc 41"/>
          <p:cNvSpPr/>
          <p:nvPr/>
        </p:nvSpPr>
        <p:spPr>
          <a:xfrm rot="20593800">
            <a:off x="6044760" y="4351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0" name="Arc 42"/>
          <p:cNvSpPr/>
          <p:nvPr/>
        </p:nvSpPr>
        <p:spPr>
          <a:xfrm rot="20593800">
            <a:off x="-583920" y="436572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1" name="Arc 43"/>
          <p:cNvSpPr/>
          <p:nvPr/>
        </p:nvSpPr>
        <p:spPr>
          <a:xfrm rot="20593800">
            <a:off x="-152280" y="435564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2" name="Arc 44"/>
          <p:cNvSpPr/>
          <p:nvPr/>
        </p:nvSpPr>
        <p:spPr>
          <a:xfrm rot="20593800">
            <a:off x="3987720" y="44118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3" name="Arc 45"/>
          <p:cNvSpPr/>
          <p:nvPr/>
        </p:nvSpPr>
        <p:spPr>
          <a:xfrm rot="20593800">
            <a:off x="321444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4" name="Arc 46"/>
          <p:cNvSpPr/>
          <p:nvPr/>
        </p:nvSpPr>
        <p:spPr>
          <a:xfrm rot="9830400">
            <a:off x="572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5" name="Arc 47"/>
          <p:cNvSpPr/>
          <p:nvPr/>
        </p:nvSpPr>
        <p:spPr>
          <a:xfrm rot="20593800">
            <a:off x="304560" y="4365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6" name="Arc 48"/>
          <p:cNvSpPr/>
          <p:nvPr/>
        </p:nvSpPr>
        <p:spPr>
          <a:xfrm rot="20593800">
            <a:off x="771120" y="4346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7" name="Arc 49"/>
          <p:cNvSpPr/>
          <p:nvPr/>
        </p:nvSpPr>
        <p:spPr>
          <a:xfrm rot="9830400">
            <a:off x="5117400" y="373032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8" name="Arc 50"/>
          <p:cNvSpPr/>
          <p:nvPr/>
        </p:nvSpPr>
        <p:spPr>
          <a:xfrm rot="9830400">
            <a:off x="5703120" y="373968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49" name="Arc 51"/>
          <p:cNvSpPr/>
          <p:nvPr/>
        </p:nvSpPr>
        <p:spPr>
          <a:xfrm rot="9830400">
            <a:off x="579996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0" name="Arc 52"/>
          <p:cNvSpPr/>
          <p:nvPr/>
        </p:nvSpPr>
        <p:spPr>
          <a:xfrm rot="9830400">
            <a:off x="6476400" y="3663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1" name="Arc 53"/>
          <p:cNvSpPr/>
          <p:nvPr/>
        </p:nvSpPr>
        <p:spPr>
          <a:xfrm rot="9830400">
            <a:off x="7044840" y="366336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2" name="Arc 54"/>
          <p:cNvSpPr/>
          <p:nvPr/>
        </p:nvSpPr>
        <p:spPr>
          <a:xfrm rot="9830400">
            <a:off x="772560" y="367128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3" name="Arc 55"/>
          <p:cNvSpPr/>
          <p:nvPr/>
        </p:nvSpPr>
        <p:spPr>
          <a:xfrm rot="9830400">
            <a:off x="4639680" y="36601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4" name="Arc 56"/>
          <p:cNvSpPr/>
          <p:nvPr/>
        </p:nvSpPr>
        <p:spPr>
          <a:xfrm rot="10286400">
            <a:off x="542160" y="369072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5" name="Arc 57"/>
          <p:cNvSpPr/>
          <p:nvPr/>
        </p:nvSpPr>
        <p:spPr>
          <a:xfrm rot="9830400">
            <a:off x="980640" y="372060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6" name="Arc 58"/>
          <p:cNvSpPr/>
          <p:nvPr/>
        </p:nvSpPr>
        <p:spPr>
          <a:xfrm rot="9830400">
            <a:off x="1345680" y="3706200"/>
            <a:ext cx="243864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7" name="Arc 59"/>
          <p:cNvSpPr/>
          <p:nvPr/>
        </p:nvSpPr>
        <p:spPr>
          <a:xfrm rot="9830400">
            <a:off x="1701360" y="373032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8" name="Arc 60"/>
          <p:cNvSpPr/>
          <p:nvPr/>
        </p:nvSpPr>
        <p:spPr>
          <a:xfrm rot="9830400">
            <a:off x="2234520" y="374904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59" name="Arc 61"/>
          <p:cNvSpPr/>
          <p:nvPr/>
        </p:nvSpPr>
        <p:spPr>
          <a:xfrm rot="9830400">
            <a:off x="242676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0" name="Arc 62"/>
          <p:cNvSpPr/>
          <p:nvPr/>
        </p:nvSpPr>
        <p:spPr>
          <a:xfrm rot="9830400">
            <a:off x="266472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1" name="Arc 63"/>
          <p:cNvSpPr/>
          <p:nvPr/>
        </p:nvSpPr>
        <p:spPr>
          <a:xfrm rot="9830400">
            <a:off x="33933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2" name="Arc 64"/>
          <p:cNvSpPr/>
          <p:nvPr/>
        </p:nvSpPr>
        <p:spPr>
          <a:xfrm rot="9830400">
            <a:off x="3911040" y="369036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3" name="Arc 65"/>
          <p:cNvSpPr/>
          <p:nvPr/>
        </p:nvSpPr>
        <p:spPr>
          <a:xfrm rot="9830400">
            <a:off x="4025160" y="372060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4" name="Arc 66"/>
          <p:cNvSpPr/>
          <p:nvPr/>
        </p:nvSpPr>
        <p:spPr>
          <a:xfrm rot="9830400">
            <a:off x="4433400" y="3739680"/>
            <a:ext cx="243864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5" name="Arc 67"/>
          <p:cNvSpPr/>
          <p:nvPr/>
        </p:nvSpPr>
        <p:spPr>
          <a:xfrm rot="9830400">
            <a:off x="4965120" y="3758760"/>
            <a:ext cx="2438280" cy="53352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466" name="Arc 68"/>
          <p:cNvSpPr/>
          <p:nvPr/>
        </p:nvSpPr>
        <p:spPr>
          <a:xfrm flipH="1" rot="11769600">
            <a:off x="6042240" y="3706200"/>
            <a:ext cx="2438280" cy="533160"/>
          </a:xfrm>
          <a:custGeom>
            <a:avLst/>
            <a:gdLst/>
            <a:ahLst/>
            <a:rect l="l" t="t" r="r" b="b"/>
            <a:pathLst>
              <a:path stroke="0" w="2438400" h="533400">
                <a:moveTo>
                  <a:pt x="1219200" y="0"/>
                </a:moveTo>
                <a:cubicBezTo>
                  <a:pt x="1892546" y="0"/>
                  <a:pt x="2438400" y="119406"/>
                  <a:pt x="2438400" y="266700"/>
                </a:cubicBezTo>
                <a:lnTo>
                  <a:pt x="1219200" y="266700"/>
                </a:lnTo>
                <a:lnTo>
                  <a:pt x="1219200" y="0"/>
                </a:lnTo>
                <a:close/>
              </a:path>
              <a:path fill="none" w="2438400" h="533400">
                <a:moveTo>
                  <a:pt x="1219200" y="0"/>
                </a:moveTo>
                <a:cubicBezTo>
                  <a:pt x="1892546" y="0"/>
                  <a:pt x="2438400" y="119406"/>
                  <a:pt x="2438400" y="266700"/>
                </a:cubicBezTo>
              </a:path>
            </a:pathLst>
          </a:custGeom>
          <a:noFill/>
          <a:ln w="42480">
            <a:solidFill>
              <a:srgbClr val="62629e"/>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grpSp>
        <p:nvGrpSpPr>
          <p:cNvPr id="467" name="Group 89"/>
          <p:cNvGrpSpPr/>
          <p:nvPr/>
        </p:nvGrpSpPr>
        <p:grpSpPr>
          <a:xfrm>
            <a:off x="270000" y="3962880"/>
            <a:ext cx="3372120" cy="2080080"/>
            <a:chOff x="270000" y="3962880"/>
            <a:chExt cx="3372120" cy="2080080"/>
          </a:xfrm>
        </p:grpSpPr>
        <p:sp>
          <p:nvSpPr>
            <p:cNvPr id="468" name="Flowchart: Decision 90"/>
            <p:cNvSpPr/>
            <p:nvPr/>
          </p:nvSpPr>
          <p:spPr>
            <a:xfrm rot="20499000">
              <a:off x="368280" y="4433760"/>
              <a:ext cx="317520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69" name="Oval 91"/>
            <p:cNvGrpSpPr/>
            <p:nvPr/>
          </p:nvGrpSpPr>
          <p:grpSpPr>
            <a:xfrm>
              <a:off x="1694880" y="4809600"/>
              <a:ext cx="554760" cy="384120"/>
              <a:chOff x="1694880" y="4809600"/>
              <a:chExt cx="554760" cy="384120"/>
            </a:xfrm>
          </p:grpSpPr>
          <p:pic>
            <p:nvPicPr>
              <p:cNvPr id="470" name="Oval 91" descr=""/>
              <p:cNvPicPr/>
              <p:nvPr/>
            </p:nvPicPr>
            <p:blipFill>
              <a:blip r:embed="rId6"/>
              <a:stretch/>
            </p:blipFill>
            <p:spPr>
              <a:xfrm>
                <a:off x="1694880" y="4809600"/>
                <a:ext cx="554760" cy="384120"/>
              </a:xfrm>
              <a:prstGeom prst="rect">
                <a:avLst/>
              </a:prstGeom>
              <a:ln w="0">
                <a:noFill/>
              </a:ln>
            </p:spPr>
          </p:pic>
          <p:sp>
            <p:nvSpPr>
              <p:cNvPr id="471" name=""/>
              <p:cNvSpPr/>
              <p:nvPr/>
            </p:nvSpPr>
            <p:spPr>
              <a:xfrm rot="20173800">
                <a:off x="1767960" y="488736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2" name="Group 97"/>
          <p:cNvGrpSpPr/>
          <p:nvPr/>
        </p:nvGrpSpPr>
        <p:grpSpPr>
          <a:xfrm>
            <a:off x="2009880" y="3972240"/>
            <a:ext cx="3373560" cy="2080440"/>
            <a:chOff x="2009880" y="3972240"/>
            <a:chExt cx="3373560" cy="2080440"/>
          </a:xfrm>
        </p:grpSpPr>
        <p:sp>
          <p:nvSpPr>
            <p:cNvPr id="473" name="Flowchart: Decision 98"/>
            <p:cNvSpPr/>
            <p:nvPr/>
          </p:nvSpPr>
          <p:spPr>
            <a:xfrm rot="20499000">
              <a:off x="2108160" y="44431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4" name="Oval 99"/>
            <p:cNvGrpSpPr/>
            <p:nvPr/>
          </p:nvGrpSpPr>
          <p:grpSpPr>
            <a:xfrm>
              <a:off x="3438000" y="4821840"/>
              <a:ext cx="548640" cy="384120"/>
              <a:chOff x="3438000" y="4821840"/>
              <a:chExt cx="548640" cy="384120"/>
            </a:xfrm>
          </p:grpSpPr>
          <p:pic>
            <p:nvPicPr>
              <p:cNvPr id="475" name="Oval 99" descr=""/>
              <p:cNvPicPr/>
              <p:nvPr/>
            </p:nvPicPr>
            <p:blipFill>
              <a:blip r:embed="rId7"/>
              <a:stretch/>
            </p:blipFill>
            <p:spPr>
              <a:xfrm>
                <a:off x="3438000" y="4821840"/>
                <a:ext cx="548640" cy="384120"/>
              </a:xfrm>
              <a:prstGeom prst="rect">
                <a:avLst/>
              </a:prstGeom>
              <a:ln w="0">
                <a:noFill/>
              </a:ln>
            </p:spPr>
          </p:pic>
          <p:sp>
            <p:nvSpPr>
              <p:cNvPr id="476" name=""/>
              <p:cNvSpPr/>
              <p:nvPr/>
            </p:nvSpPr>
            <p:spPr>
              <a:xfrm rot="20173800">
                <a:off x="3508200" y="489708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77" name="Group 100"/>
          <p:cNvGrpSpPr/>
          <p:nvPr/>
        </p:nvGrpSpPr>
        <p:grpSpPr>
          <a:xfrm>
            <a:off x="3687840" y="3997440"/>
            <a:ext cx="3373560" cy="2080440"/>
            <a:chOff x="3687840" y="3997440"/>
            <a:chExt cx="3373560" cy="2080440"/>
          </a:xfrm>
        </p:grpSpPr>
        <p:sp>
          <p:nvSpPr>
            <p:cNvPr id="478" name="Flowchart: Decision 101"/>
            <p:cNvSpPr/>
            <p:nvPr/>
          </p:nvSpPr>
          <p:spPr>
            <a:xfrm rot="20499000">
              <a:off x="378612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79" name="Oval 102"/>
            <p:cNvGrpSpPr/>
            <p:nvPr/>
          </p:nvGrpSpPr>
          <p:grpSpPr>
            <a:xfrm>
              <a:off x="5114520" y="4846320"/>
              <a:ext cx="554760" cy="384120"/>
              <a:chOff x="5114520" y="4846320"/>
              <a:chExt cx="554760" cy="384120"/>
            </a:xfrm>
          </p:grpSpPr>
          <p:pic>
            <p:nvPicPr>
              <p:cNvPr id="480" name="Oval 102" descr=""/>
              <p:cNvPicPr/>
              <p:nvPr/>
            </p:nvPicPr>
            <p:blipFill>
              <a:blip r:embed="rId8"/>
              <a:stretch/>
            </p:blipFill>
            <p:spPr>
              <a:xfrm>
                <a:off x="5114520" y="4846320"/>
                <a:ext cx="554760" cy="384120"/>
              </a:xfrm>
              <a:prstGeom prst="rect">
                <a:avLst/>
              </a:prstGeom>
              <a:ln w="0">
                <a:noFill/>
              </a:ln>
            </p:spPr>
          </p:pic>
          <p:sp>
            <p:nvSpPr>
              <p:cNvPr id="481" name=""/>
              <p:cNvSpPr/>
              <p:nvPr/>
            </p:nvSpPr>
            <p:spPr>
              <a:xfrm rot="20173800">
                <a:off x="518616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grpSp>
        <p:nvGrpSpPr>
          <p:cNvPr id="482" name="Group 103"/>
          <p:cNvGrpSpPr/>
          <p:nvPr/>
        </p:nvGrpSpPr>
        <p:grpSpPr>
          <a:xfrm>
            <a:off x="5469120" y="3997440"/>
            <a:ext cx="3373560" cy="2080440"/>
            <a:chOff x="5469120" y="3997440"/>
            <a:chExt cx="3373560" cy="2080440"/>
          </a:xfrm>
        </p:grpSpPr>
        <p:sp>
          <p:nvSpPr>
            <p:cNvPr id="483" name="Flowchart: Decision 104"/>
            <p:cNvSpPr/>
            <p:nvPr/>
          </p:nvSpPr>
          <p:spPr>
            <a:xfrm rot="20499000">
              <a:off x="5567400" y="4468320"/>
              <a:ext cx="3176640" cy="1138320"/>
            </a:xfrm>
            <a:prstGeom prst="flowChartDecision">
              <a:avLst/>
            </a:prstGeom>
            <a:solidFill>
              <a:srgbClr val="ffccf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84" name="Oval 105"/>
            <p:cNvGrpSpPr/>
            <p:nvPr/>
          </p:nvGrpSpPr>
          <p:grpSpPr>
            <a:xfrm>
              <a:off x="6894720" y="4846320"/>
              <a:ext cx="554760" cy="384120"/>
              <a:chOff x="6894720" y="4846320"/>
              <a:chExt cx="554760" cy="384120"/>
            </a:xfrm>
          </p:grpSpPr>
          <p:pic>
            <p:nvPicPr>
              <p:cNvPr id="485" name="Oval 105" descr=""/>
              <p:cNvPicPr/>
              <p:nvPr/>
            </p:nvPicPr>
            <p:blipFill>
              <a:blip r:embed="rId9"/>
              <a:stretch/>
            </p:blipFill>
            <p:spPr>
              <a:xfrm>
                <a:off x="6894720" y="4846320"/>
                <a:ext cx="554760" cy="384120"/>
              </a:xfrm>
              <a:prstGeom prst="rect">
                <a:avLst/>
              </a:prstGeom>
              <a:ln w="0">
                <a:noFill/>
              </a:ln>
            </p:spPr>
          </p:pic>
          <p:sp>
            <p:nvSpPr>
              <p:cNvPr id="486" name=""/>
              <p:cNvSpPr/>
              <p:nvPr/>
            </p:nvSpPr>
            <p:spPr>
              <a:xfrm rot="20173800">
                <a:off x="6967440" y="4922640"/>
                <a:ext cx="40968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sp>
        <p:nvSpPr>
          <p:cNvPr id="487" name="Rectangle 28"/>
          <p:cNvSpPr/>
          <p:nvPr/>
        </p:nvSpPr>
        <p:spPr>
          <a:xfrm>
            <a:off x="457200" y="3865680"/>
            <a:ext cx="1846440" cy="1697040"/>
          </a:xfrm>
          <a:prstGeom prst="rect">
            <a:avLst/>
          </a:prstGeom>
          <a:solidFill>
            <a:srgbClr val="ffffff"/>
          </a:solidFill>
          <a:ln w="9360">
            <a:solidFill>
              <a:srgbClr val="00080c"/>
            </a:solidFill>
            <a:miter/>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8" name="TextBox 23"/>
          <p:cNvSpPr/>
          <p:nvPr/>
        </p:nvSpPr>
        <p:spPr>
          <a:xfrm>
            <a:off x="484920" y="3848040"/>
            <a:ext cx="138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interior artery wall</a:t>
            </a:r>
            <a:endParaRPr b="0" lang="en-US" sz="1200" spc="-1" strike="noStrike">
              <a:solidFill>
                <a:srgbClr val="00afff"/>
              </a:solidFill>
              <a:latin typeface="Arial"/>
            </a:endParaRPr>
          </a:p>
        </p:txBody>
      </p:sp>
      <p:sp>
        <p:nvSpPr>
          <p:cNvPr id="489" name="TextBox 108"/>
          <p:cNvSpPr/>
          <p:nvPr/>
        </p:nvSpPr>
        <p:spPr>
          <a:xfrm>
            <a:off x="478440" y="41832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connective tissue</a:t>
            </a:r>
            <a:endParaRPr b="0" lang="en-US" sz="1200" spc="-1" strike="noStrike">
              <a:solidFill>
                <a:srgbClr val="00afff"/>
              </a:solidFill>
              <a:latin typeface="Arial"/>
            </a:endParaRPr>
          </a:p>
        </p:txBody>
      </p:sp>
      <p:sp>
        <p:nvSpPr>
          <p:cNvPr id="490" name="TextBox 109"/>
          <p:cNvSpPr/>
          <p:nvPr/>
        </p:nvSpPr>
        <p:spPr>
          <a:xfrm>
            <a:off x="462960" y="4862520"/>
            <a:ext cx="155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smooth muscle cells</a:t>
            </a:r>
            <a:endParaRPr b="0" lang="en-US" sz="1200" spc="-1" strike="noStrike">
              <a:solidFill>
                <a:srgbClr val="00afff"/>
              </a:solidFill>
              <a:latin typeface="Arial"/>
            </a:endParaRPr>
          </a:p>
        </p:txBody>
      </p:sp>
      <p:cxnSp>
        <p:nvCxnSpPr>
          <p:cNvPr id="491" name="Straight Arrow Connector 14336"/>
          <p:cNvCxnSpPr>
            <a:stCxn id="488" idx="3"/>
          </p:cNvCxnSpPr>
          <p:nvPr/>
        </p:nvCxnSpPr>
        <p:spPr>
          <a:xfrm>
            <a:off x="1879560" y="3987360"/>
            <a:ext cx="424800" cy="1080"/>
          </a:xfrm>
          <a:prstGeom prst="straightConnector1">
            <a:avLst/>
          </a:prstGeom>
          <a:ln w="19080">
            <a:solidFill>
              <a:srgbClr val="00afff"/>
            </a:solidFill>
            <a:miter/>
            <a:tailEnd len="med" type="arrow" w="med"/>
          </a:ln>
        </p:spPr>
      </p:cxnSp>
      <p:cxnSp>
        <p:nvCxnSpPr>
          <p:cNvPr id="492" name="Straight Arrow Connector 112"/>
          <p:cNvCxnSpPr>
            <a:stCxn id="489" idx="3"/>
          </p:cNvCxnSpPr>
          <p:nvPr/>
        </p:nvCxnSpPr>
        <p:spPr>
          <a:xfrm>
            <a:off x="1836360" y="4320720"/>
            <a:ext cx="475560" cy="1080"/>
          </a:xfrm>
          <a:prstGeom prst="straightConnector1">
            <a:avLst/>
          </a:prstGeom>
          <a:ln w="19080">
            <a:solidFill>
              <a:srgbClr val="00afff"/>
            </a:solidFill>
            <a:miter/>
            <a:tailEnd len="med" type="arrow" w="med"/>
          </a:ln>
        </p:spPr>
      </p:cxnSp>
      <p:cxnSp>
        <p:nvCxnSpPr>
          <p:cNvPr id="493" name="Straight Arrow Connector 113"/>
          <p:cNvCxnSpPr>
            <a:stCxn id="490" idx="3"/>
          </p:cNvCxnSpPr>
          <p:nvPr/>
        </p:nvCxnSpPr>
        <p:spPr>
          <a:xfrm>
            <a:off x="2023560" y="5000400"/>
            <a:ext cx="266040" cy="1080"/>
          </a:xfrm>
          <a:prstGeom prst="straightConnector1">
            <a:avLst/>
          </a:prstGeom>
          <a:ln w="19080">
            <a:solidFill>
              <a:srgbClr val="00afff"/>
            </a:solidFill>
            <a:miter/>
            <a:tailEnd len="med" type="arrow" w="med"/>
          </a:ln>
        </p:spPr>
      </p:cxnSp>
      <p:sp>
        <p:nvSpPr>
          <p:cNvPr id="494" name="TextBox 121"/>
          <p:cNvSpPr/>
          <p:nvPr/>
        </p:nvSpPr>
        <p:spPr>
          <a:xfrm>
            <a:off x="2620800" y="5740560"/>
            <a:ext cx="3616560" cy="276480"/>
          </a:xfrm>
          <a:prstGeom prst="rect">
            <a:avLst/>
          </a:prstGeom>
          <a:noFill/>
          <a:ln w="9360">
            <a:solidFill>
              <a:srgbClr val="00080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afff"/>
                </a:solidFill>
                <a:latin typeface="Arial"/>
              </a:rPr>
              <a:t>more smooth muscle cells and layers of the artery</a:t>
            </a:r>
            <a:endParaRPr b="0" lang="en-US" sz="1200" spc="-1" strike="noStrike">
              <a:solidFill>
                <a:srgbClr val="00afff"/>
              </a:solidFill>
              <a:latin typeface="Arial"/>
            </a:endParaRPr>
          </a:p>
        </p:txBody>
      </p:sp>
      <p:sp>
        <p:nvSpPr>
          <p:cNvPr id="495" name="Lightning Bolt 14348"/>
          <p:cNvSpPr/>
          <p:nvPr/>
        </p:nvSpPr>
        <p:spPr>
          <a:xfrm rot="18672000">
            <a:off x="4733640" y="3282840"/>
            <a:ext cx="814320" cy="71604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6" name="Lightning Bolt 83"/>
          <p:cNvSpPr/>
          <p:nvPr/>
        </p:nvSpPr>
        <p:spPr>
          <a:xfrm rot="17906400">
            <a:off x="5155920" y="3269880"/>
            <a:ext cx="812880" cy="714600"/>
          </a:xfrm>
          <a:prstGeom prst="lightningBol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497" name="Group 3"/>
          <p:cNvGrpSpPr/>
          <p:nvPr/>
        </p:nvGrpSpPr>
        <p:grpSpPr>
          <a:xfrm>
            <a:off x="6095520" y="3962520"/>
            <a:ext cx="276120" cy="276120"/>
            <a:chOff x="6095520" y="3962520"/>
            <a:chExt cx="276120" cy="276120"/>
          </a:xfrm>
        </p:grpSpPr>
        <p:sp>
          <p:nvSpPr>
            <p:cNvPr id="498" name="Oval 1"/>
            <p:cNvSpPr/>
            <p:nvPr/>
          </p:nvSpPr>
          <p:spPr>
            <a:xfrm rot="6220800">
              <a:off x="6120000" y="398700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99" name="Oval 79"/>
            <p:cNvSpPr/>
            <p:nvPr/>
          </p:nvSpPr>
          <p:spPr>
            <a:xfrm rot="6220800">
              <a:off x="6045480" y="40442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0" name="Group 85"/>
          <p:cNvGrpSpPr/>
          <p:nvPr/>
        </p:nvGrpSpPr>
        <p:grpSpPr>
          <a:xfrm>
            <a:off x="5790960" y="3809160"/>
            <a:ext cx="318240" cy="318600"/>
            <a:chOff x="5790960" y="3809160"/>
            <a:chExt cx="318240" cy="318600"/>
          </a:xfrm>
        </p:grpSpPr>
        <p:sp>
          <p:nvSpPr>
            <p:cNvPr id="501" name="Oval 86"/>
            <p:cNvSpPr/>
            <p:nvPr/>
          </p:nvSpPr>
          <p:spPr>
            <a:xfrm rot="14096400">
              <a:off x="5835960" y="3854520"/>
              <a:ext cx="22788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2" name="Oval 87"/>
            <p:cNvSpPr/>
            <p:nvPr/>
          </p:nvSpPr>
          <p:spPr>
            <a:xfrm rot="14096400">
              <a:off x="5898240" y="388584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3" name="Group 88"/>
          <p:cNvGrpSpPr/>
          <p:nvPr/>
        </p:nvGrpSpPr>
        <p:grpSpPr>
          <a:xfrm>
            <a:off x="4495680" y="3962160"/>
            <a:ext cx="270360" cy="270720"/>
            <a:chOff x="4495680" y="3962160"/>
            <a:chExt cx="270360" cy="270720"/>
          </a:xfrm>
        </p:grpSpPr>
        <p:sp>
          <p:nvSpPr>
            <p:cNvPr id="504" name="Oval 89"/>
            <p:cNvSpPr/>
            <p:nvPr/>
          </p:nvSpPr>
          <p:spPr>
            <a:xfrm rot="714000">
              <a:off x="4516560" y="398304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5" name="Oval 92"/>
            <p:cNvSpPr/>
            <p:nvPr/>
          </p:nvSpPr>
          <p:spPr>
            <a:xfrm rot="714000">
              <a:off x="4501080" y="413208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6" name="Group 93"/>
          <p:cNvGrpSpPr/>
          <p:nvPr/>
        </p:nvGrpSpPr>
        <p:grpSpPr>
          <a:xfrm>
            <a:off x="5562000" y="3962160"/>
            <a:ext cx="261000" cy="260640"/>
            <a:chOff x="5562000" y="3962160"/>
            <a:chExt cx="261000" cy="260640"/>
          </a:xfrm>
        </p:grpSpPr>
        <p:sp>
          <p:nvSpPr>
            <p:cNvPr id="507" name="Oval 94"/>
            <p:cNvSpPr/>
            <p:nvPr/>
          </p:nvSpPr>
          <p:spPr>
            <a:xfrm rot="10267200">
              <a:off x="5578560" y="3978360"/>
              <a:ext cx="227880" cy="22788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8" name="Oval 95"/>
            <p:cNvSpPr/>
            <p:nvPr/>
          </p:nvSpPr>
          <p:spPr>
            <a:xfrm rot="10267200">
              <a:off x="5566320" y="3979080"/>
              <a:ext cx="22788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09" name="Group 96"/>
          <p:cNvGrpSpPr/>
          <p:nvPr/>
        </p:nvGrpSpPr>
        <p:grpSpPr>
          <a:xfrm>
            <a:off x="4725360" y="3810240"/>
            <a:ext cx="322920" cy="322920"/>
            <a:chOff x="4725360" y="3810240"/>
            <a:chExt cx="322920" cy="322920"/>
          </a:xfrm>
        </p:grpSpPr>
        <p:sp>
          <p:nvSpPr>
            <p:cNvPr id="510" name="Oval 97"/>
            <p:cNvSpPr/>
            <p:nvPr/>
          </p:nvSpPr>
          <p:spPr>
            <a:xfrm rot="19024800">
              <a:off x="4772520" y="3857400"/>
              <a:ext cx="228240" cy="22860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00"/>
            <p:cNvSpPr/>
            <p:nvPr/>
          </p:nvSpPr>
          <p:spPr>
            <a:xfrm rot="19024800">
              <a:off x="4823280" y="3988800"/>
              <a:ext cx="22824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grpSp>
        <p:nvGrpSpPr>
          <p:cNvPr id="512" name="Group 103"/>
          <p:cNvGrpSpPr/>
          <p:nvPr/>
        </p:nvGrpSpPr>
        <p:grpSpPr>
          <a:xfrm>
            <a:off x="5181120" y="3735000"/>
            <a:ext cx="304560" cy="303480"/>
            <a:chOff x="5181120" y="3735000"/>
            <a:chExt cx="304560" cy="303480"/>
          </a:xfrm>
        </p:grpSpPr>
        <p:sp>
          <p:nvSpPr>
            <p:cNvPr id="513" name="Oval 106"/>
            <p:cNvSpPr/>
            <p:nvPr/>
          </p:nvSpPr>
          <p:spPr>
            <a:xfrm rot="3874200">
              <a:off x="5220000" y="3772440"/>
              <a:ext cx="227520" cy="228240"/>
            </a:xfrm>
            <a:prstGeom prst="ellipse">
              <a:avLst/>
            </a:prstGeom>
            <a:solidFill>
              <a:srgbClr val="ffeb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4" name="Oval 107"/>
            <p:cNvSpPr/>
            <p:nvPr/>
          </p:nvSpPr>
          <p:spPr>
            <a:xfrm rot="3874200">
              <a:off x="5150520" y="3880800"/>
              <a:ext cx="227520" cy="75960"/>
            </a:xfrm>
            <a:prstGeom prst="ellipse">
              <a:avLst/>
            </a:prstGeom>
            <a:solidFill>
              <a:srgbClr val="260073"/>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515" name="Freeform 4"/>
          <p:cNvSpPr/>
          <p:nvPr/>
        </p:nvSpPr>
        <p:spPr>
          <a:xfrm>
            <a:off x="5041800" y="3232080"/>
            <a:ext cx="816120" cy="928800"/>
          </a:xfrm>
          <a:custGeom>
            <a:avLst/>
            <a:gdLst/>
            <a:ahLst/>
            <a:rect l="l" t="t" r="r" b="b"/>
            <a:pathLst>
              <a:path w="814793" h="928875">
                <a:moveTo>
                  <a:pt x="204780" y="853673"/>
                </a:moveTo>
                <a:lnTo>
                  <a:pt x="204780" y="853673"/>
                </a:lnTo>
                <a:cubicBezTo>
                  <a:pt x="160778" y="754664"/>
                  <a:pt x="159300" y="771372"/>
                  <a:pt x="154647" y="636423"/>
                </a:cubicBezTo>
                <a:cubicBezTo>
                  <a:pt x="153491" y="602904"/>
                  <a:pt x="151723" y="567738"/>
                  <a:pt x="163003" y="536153"/>
                </a:cubicBezTo>
                <a:cubicBezTo>
                  <a:pt x="165793" y="528341"/>
                  <a:pt x="211839" y="514304"/>
                  <a:pt x="221491" y="511086"/>
                </a:cubicBezTo>
                <a:cubicBezTo>
                  <a:pt x="227696" y="511603"/>
                  <a:pt x="325012" y="503436"/>
                  <a:pt x="346823" y="536153"/>
                </a:cubicBezTo>
                <a:cubicBezTo>
                  <a:pt x="353193" y="545708"/>
                  <a:pt x="351878" y="558576"/>
                  <a:pt x="355178" y="569576"/>
                </a:cubicBezTo>
                <a:cubicBezTo>
                  <a:pt x="360240" y="586449"/>
                  <a:pt x="366319" y="602999"/>
                  <a:pt x="371889" y="619711"/>
                </a:cubicBezTo>
                <a:lnTo>
                  <a:pt x="396956" y="694913"/>
                </a:lnTo>
                <a:lnTo>
                  <a:pt x="405311" y="719980"/>
                </a:lnTo>
                <a:cubicBezTo>
                  <a:pt x="408096" y="728336"/>
                  <a:pt x="408780" y="737719"/>
                  <a:pt x="413666" y="745048"/>
                </a:cubicBezTo>
                <a:cubicBezTo>
                  <a:pt x="435263" y="777443"/>
                  <a:pt x="427201" y="760588"/>
                  <a:pt x="438733" y="795182"/>
                </a:cubicBezTo>
                <a:cubicBezTo>
                  <a:pt x="441518" y="811894"/>
                  <a:pt x="434073" y="834471"/>
                  <a:pt x="447088" y="845317"/>
                </a:cubicBezTo>
                <a:cubicBezTo>
                  <a:pt x="457998" y="854409"/>
                  <a:pt x="477049" y="844839"/>
                  <a:pt x="488866" y="836961"/>
                </a:cubicBezTo>
                <a:cubicBezTo>
                  <a:pt x="496194" y="832075"/>
                  <a:pt x="495085" y="820439"/>
                  <a:pt x="497221" y="811894"/>
                </a:cubicBezTo>
                <a:cubicBezTo>
                  <a:pt x="500665" y="798116"/>
                  <a:pt x="502791" y="784041"/>
                  <a:pt x="505576" y="770115"/>
                </a:cubicBezTo>
                <a:cubicBezTo>
                  <a:pt x="502791" y="728336"/>
                  <a:pt x="503142" y="686229"/>
                  <a:pt x="497221" y="644778"/>
                </a:cubicBezTo>
                <a:cubicBezTo>
                  <a:pt x="494730" y="627340"/>
                  <a:pt x="484782" y="611733"/>
                  <a:pt x="480510" y="594644"/>
                </a:cubicBezTo>
                <a:cubicBezTo>
                  <a:pt x="466709" y="539436"/>
                  <a:pt x="473579" y="572616"/>
                  <a:pt x="463799" y="494374"/>
                </a:cubicBezTo>
                <a:cubicBezTo>
                  <a:pt x="467747" y="478581"/>
                  <a:pt x="471769" y="446570"/>
                  <a:pt x="488866" y="435884"/>
                </a:cubicBezTo>
                <a:cubicBezTo>
                  <a:pt x="503803" y="426548"/>
                  <a:pt x="524342" y="428943"/>
                  <a:pt x="538998" y="419172"/>
                </a:cubicBezTo>
                <a:cubicBezTo>
                  <a:pt x="547354" y="413602"/>
                  <a:pt x="555083" y="406952"/>
                  <a:pt x="564065" y="402461"/>
                </a:cubicBezTo>
                <a:cubicBezTo>
                  <a:pt x="605806" y="381590"/>
                  <a:pt x="710538" y="386517"/>
                  <a:pt x="722818" y="385749"/>
                </a:cubicBezTo>
                <a:cubicBezTo>
                  <a:pt x="739333" y="380244"/>
                  <a:pt x="761170" y="375409"/>
                  <a:pt x="772951" y="360682"/>
                </a:cubicBezTo>
                <a:cubicBezTo>
                  <a:pt x="778453" y="353804"/>
                  <a:pt x="777367" y="343493"/>
                  <a:pt x="781306" y="335615"/>
                </a:cubicBezTo>
                <a:cubicBezTo>
                  <a:pt x="785797" y="326633"/>
                  <a:pt x="792447" y="318903"/>
                  <a:pt x="798017" y="310547"/>
                </a:cubicBezTo>
                <a:cubicBezTo>
                  <a:pt x="804853" y="283203"/>
                  <a:pt x="826628" y="240661"/>
                  <a:pt x="806373" y="210278"/>
                </a:cubicBezTo>
                <a:cubicBezTo>
                  <a:pt x="800803" y="201922"/>
                  <a:pt x="789662" y="199137"/>
                  <a:pt x="781306" y="193567"/>
                </a:cubicBezTo>
                <a:cubicBezTo>
                  <a:pt x="733422" y="121732"/>
                  <a:pt x="797180" y="206265"/>
                  <a:pt x="739529" y="160143"/>
                </a:cubicBezTo>
                <a:cubicBezTo>
                  <a:pt x="713114" y="139011"/>
                  <a:pt x="730775" y="126322"/>
                  <a:pt x="706107" y="101653"/>
                </a:cubicBezTo>
                <a:cubicBezTo>
                  <a:pt x="699879" y="95425"/>
                  <a:pt x="689396" y="96082"/>
                  <a:pt x="681041" y="93297"/>
                </a:cubicBezTo>
                <a:cubicBezTo>
                  <a:pt x="675471" y="84941"/>
                  <a:pt x="673312" y="72721"/>
                  <a:pt x="664330" y="68230"/>
                </a:cubicBezTo>
                <a:cubicBezTo>
                  <a:pt x="643788" y="57958"/>
                  <a:pt x="619275" y="58781"/>
                  <a:pt x="597486" y="51518"/>
                </a:cubicBezTo>
                <a:cubicBezTo>
                  <a:pt x="553737" y="36935"/>
                  <a:pt x="581139" y="44409"/>
                  <a:pt x="513932" y="34807"/>
                </a:cubicBezTo>
                <a:cubicBezTo>
                  <a:pt x="505577" y="32022"/>
                  <a:pt x="495743" y="31953"/>
                  <a:pt x="488866" y="26451"/>
                </a:cubicBezTo>
                <a:cubicBezTo>
                  <a:pt x="481024" y="20178"/>
                  <a:pt x="482172" y="2099"/>
                  <a:pt x="472155" y="1384"/>
                </a:cubicBezTo>
                <a:cubicBezTo>
                  <a:pt x="399872" y="-3779"/>
                  <a:pt x="327327" y="6955"/>
                  <a:pt x="254913" y="9740"/>
                </a:cubicBezTo>
                <a:cubicBezTo>
                  <a:pt x="185357" y="27128"/>
                  <a:pt x="254125" y="5955"/>
                  <a:pt x="196425" y="34807"/>
                </a:cubicBezTo>
                <a:cubicBezTo>
                  <a:pt x="188547" y="38746"/>
                  <a:pt x="179057" y="38885"/>
                  <a:pt x="171358" y="43163"/>
                </a:cubicBezTo>
                <a:cubicBezTo>
                  <a:pt x="142448" y="59225"/>
                  <a:pt x="117156" y="76456"/>
                  <a:pt x="96159" y="101653"/>
                </a:cubicBezTo>
                <a:cubicBezTo>
                  <a:pt x="89730" y="109368"/>
                  <a:pt x="87964" y="121397"/>
                  <a:pt x="79448" y="126720"/>
                </a:cubicBezTo>
                <a:cubicBezTo>
                  <a:pt x="64511" y="136056"/>
                  <a:pt x="29316" y="143432"/>
                  <a:pt x="29316" y="143432"/>
                </a:cubicBezTo>
                <a:cubicBezTo>
                  <a:pt x="-17104" y="282697"/>
                  <a:pt x="670" y="210298"/>
                  <a:pt x="20960" y="494374"/>
                </a:cubicBezTo>
                <a:cubicBezTo>
                  <a:pt x="22215" y="511945"/>
                  <a:pt x="32101" y="527797"/>
                  <a:pt x="37671" y="544509"/>
                </a:cubicBezTo>
                <a:lnTo>
                  <a:pt x="46027" y="569576"/>
                </a:lnTo>
                <a:cubicBezTo>
                  <a:pt x="59463" y="703948"/>
                  <a:pt x="44208" y="613348"/>
                  <a:pt x="62737" y="678201"/>
                </a:cubicBezTo>
                <a:cubicBezTo>
                  <a:pt x="66304" y="690686"/>
                  <a:pt x="72773" y="723342"/>
                  <a:pt x="79448" y="736692"/>
                </a:cubicBezTo>
                <a:cubicBezTo>
                  <a:pt x="83939" y="745674"/>
                  <a:pt x="90589" y="753403"/>
                  <a:pt x="96159" y="761759"/>
                </a:cubicBezTo>
                <a:cubicBezTo>
                  <a:pt x="98293" y="785233"/>
                  <a:pt x="96797" y="846592"/>
                  <a:pt x="112870" y="878740"/>
                </a:cubicBezTo>
                <a:cubicBezTo>
                  <a:pt x="117361" y="887722"/>
                  <a:pt x="121739" y="897534"/>
                  <a:pt x="129581" y="903807"/>
                </a:cubicBezTo>
                <a:cubicBezTo>
                  <a:pt x="136458" y="909309"/>
                  <a:pt x="146770" y="908224"/>
                  <a:pt x="154647" y="912163"/>
                </a:cubicBezTo>
                <a:cubicBezTo>
                  <a:pt x="163629" y="916654"/>
                  <a:pt x="171358" y="923304"/>
                  <a:pt x="179714" y="928875"/>
                </a:cubicBezTo>
                <a:cubicBezTo>
                  <a:pt x="204780" y="926090"/>
                  <a:pt x="229986" y="924354"/>
                  <a:pt x="254913" y="920519"/>
                </a:cubicBezTo>
                <a:cubicBezTo>
                  <a:pt x="266263" y="918773"/>
                  <a:pt x="278780" y="918533"/>
                  <a:pt x="288335" y="912163"/>
                </a:cubicBezTo>
                <a:cubicBezTo>
                  <a:pt x="296691" y="906592"/>
                  <a:pt x="299476" y="895452"/>
                  <a:pt x="305046" y="887096"/>
                </a:cubicBezTo>
                <a:cubicBezTo>
                  <a:pt x="299476" y="867599"/>
                  <a:pt x="299082" y="845800"/>
                  <a:pt x="288335" y="828605"/>
                </a:cubicBezTo>
                <a:cubicBezTo>
                  <a:pt x="283667" y="821136"/>
                  <a:pt x="269496" y="826477"/>
                  <a:pt x="263268" y="820249"/>
                </a:cubicBezTo>
                <a:cubicBezTo>
                  <a:pt x="257040" y="814021"/>
                  <a:pt x="261141" y="801410"/>
                  <a:pt x="254913" y="795182"/>
                </a:cubicBezTo>
                <a:cubicBezTo>
                  <a:pt x="243034" y="783303"/>
                  <a:pt x="208605" y="786826"/>
                  <a:pt x="196425" y="786826"/>
                </a:cubicBezTo>
                <a:lnTo>
                  <a:pt x="163003" y="703269"/>
                </a:lnTo>
              </a:path>
            </a:pathLst>
          </a:custGeom>
          <a:solidFill>
            <a:srgbClr val="8dafc8"/>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sp>
        <p:nvSpPr>
          <p:cNvPr id="516" name="Oval 5"/>
          <p:cNvSpPr/>
          <p:nvPr/>
        </p:nvSpPr>
        <p:spPr>
          <a:xfrm rot="21028800">
            <a:off x="5420880" y="3446280"/>
            <a:ext cx="228600" cy="152280"/>
          </a:xfrm>
          <a:prstGeom prst="ellipse">
            <a:avLst/>
          </a:prstGeom>
          <a:solidFill>
            <a:srgbClr val="375a73"/>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7" name="TextBox 23"/>
          <p:cNvSpPr/>
          <p:nvPr/>
        </p:nvSpPr>
        <p:spPr>
          <a:xfrm>
            <a:off x="6401520" y="32767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LDL</a:t>
            </a:r>
            <a:endParaRPr b="0" lang="en-US" sz="1600" spc="-1" strike="noStrike">
              <a:solidFill>
                <a:srgbClr val="00afff"/>
              </a:solidFill>
              <a:latin typeface="Arial"/>
            </a:endParaRPr>
          </a:p>
        </p:txBody>
      </p:sp>
      <p:sp>
        <p:nvSpPr>
          <p:cNvPr id="518" name="TextBox 23"/>
          <p:cNvSpPr/>
          <p:nvPr/>
        </p:nvSpPr>
        <p:spPr>
          <a:xfrm>
            <a:off x="2521080" y="3048120"/>
            <a:ext cx="1715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white blood cell </a:t>
            </a:r>
            <a:endParaRPr b="0" lang="en-US" sz="1600" spc="-1" strike="noStrike">
              <a:solidFill>
                <a:srgbClr val="00a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fff"/>
                </a:solidFill>
                <a:latin typeface="Arial"/>
              </a:rPr>
              <a:t>engulfing an LDL</a:t>
            </a:r>
            <a:endParaRPr b="0" lang="en-US" sz="1600" spc="-1" strike="noStrike">
              <a:solidFill>
                <a:srgbClr val="00afff"/>
              </a:solidFill>
              <a:latin typeface="Arial"/>
            </a:endParaRPr>
          </a:p>
        </p:txBody>
      </p:sp>
      <p:cxnSp>
        <p:nvCxnSpPr>
          <p:cNvPr id="519" name="Straight Arrow Connector 110"/>
          <p:cNvCxnSpPr>
            <a:stCxn id="517" idx="1"/>
          </p:cNvCxnSpPr>
          <p:nvPr/>
        </p:nvCxnSpPr>
        <p:spPr>
          <a:xfrm flipH="1">
            <a:off x="5943240" y="3446280"/>
            <a:ext cx="457920" cy="363960"/>
          </a:xfrm>
          <a:prstGeom prst="straightConnector1">
            <a:avLst/>
          </a:prstGeom>
          <a:ln w="19080">
            <a:solidFill>
              <a:srgbClr val="00afff"/>
            </a:solidFill>
            <a:miter/>
            <a:tailEnd len="med" type="arrow" w="med"/>
          </a:ln>
        </p:spPr>
      </p:cxnSp>
      <p:cxnSp>
        <p:nvCxnSpPr>
          <p:cNvPr id="520" name="Straight Arrow Connector 111"/>
          <p:cNvCxnSpPr>
            <a:stCxn id="518" idx="3"/>
            <a:endCxn id="495" idx="6"/>
          </p:cNvCxnSpPr>
          <p:nvPr/>
        </p:nvCxnSpPr>
        <p:spPr>
          <a:xfrm>
            <a:off x="4242960" y="3340080"/>
            <a:ext cx="832680" cy="140400"/>
          </a:xfrm>
          <a:prstGeom prst="straightConnector1">
            <a:avLst/>
          </a:prstGeom>
          <a:ln w="19080">
            <a:solidFill>
              <a:srgbClr val="00afff"/>
            </a:solidFill>
            <a:miter/>
            <a:tailEnd len="med" type="arrow" w="med"/>
          </a:ln>
        </p:spPr>
      </p:cxn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1">
                                  <p:stCondLst>
                                    <p:cond delay="0"/>
                                  </p:stCondLst>
                                  <p:childTnLst>
                                    <p:set>
                                      <p:cBhvr>
                                        <p:cTn id="53"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4-06T15:40:35Z</dcterms:modified>
  <cp:revision>107</cp:revision>
  <dc:subject/>
  <dc:title>Company benefits</dc:title>
</cp:coreProperties>
</file>